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288588" cy="7239000"/>
  <p:notesSz cx="9752013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384-9EA7-4562-9386-AEB27BDA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359240"/>
            <a:ext cx="874404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1FC-B750-439A-AE83-F4310A96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35924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35924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D1E-6FEA-4402-8B3D-91132D3B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209052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209052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35924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35924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35924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205-4F28-45A6-B399-966F1D0D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4DB-35C2-446E-961A-AA5537BD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D99-3B4D-4F7D-A178-5DC2D346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20905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359-D2B5-4AF1-B012-D9060325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CBD-3BE2-4C2E-AC10-FC848B97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42600"/>
            <a:ext cx="87440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38B-7D23-4B76-95FA-26B63558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20905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35924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A56-6934-4CB2-9993-82698BC0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35924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D87-8D11-4E52-A3AB-8061A535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359240"/>
            <a:ext cx="874404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FB1-09F6-4A47-A00C-FFCC2CEE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000000"/>
              </a:buClr>
              <a:buFont typeface="Angsana New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1" marL="776160" indent="-298440">
              <a:spcBef>
                <a:spcPts val="825"/>
              </a:spcBef>
              <a:buClr>
                <a:srgbClr val="000000"/>
              </a:buClr>
              <a:buFont typeface="Angsana New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2" marL="1195560" indent="-239760">
              <a:spcBef>
                <a:spcPts val="825"/>
              </a:spcBef>
              <a:buClr>
                <a:srgbClr val="000000"/>
              </a:buClr>
              <a:buFont typeface="Angsana New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3" marL="1673280" indent="-239760">
              <a:spcBef>
                <a:spcPts val="825"/>
              </a:spcBef>
              <a:buClr>
                <a:srgbClr val="000000"/>
              </a:buClr>
              <a:buFont typeface="Angsana New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4" marL="2151000" indent="-239760">
              <a:spcBef>
                <a:spcPts val="825"/>
              </a:spcBef>
              <a:buClr>
                <a:srgbClr val="000000"/>
              </a:buClr>
              <a:buFont typeface="Angsana New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5" marL="2151000" indent="-239760">
              <a:spcBef>
                <a:spcPts val="825"/>
              </a:spcBef>
              <a:buClr>
                <a:srgbClr val="000000"/>
              </a:buClr>
              <a:buFont typeface="Angsana New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6" marL="2151000" indent="-239760">
              <a:spcBef>
                <a:spcPts val="825"/>
              </a:spcBef>
              <a:buClr>
                <a:srgbClr val="000000"/>
              </a:buClr>
              <a:buFont typeface="Angsana New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2700" spc="-1" strike="noStrike">
                <a:solidFill>
                  <a:srgbClr val="000000"/>
                </a:solidFill>
                <a:latin typeface="Angsana New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gsana New"/>
                <a:ea typeface="Angsana New"/>
              </a:rPr>
              <a:t>&lt;date/time&gt;</a:t>
            </a:r>
            <a:endParaRPr b="0" lang="en-US" sz="2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27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27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BFC6A3C-C3CE-4693-8678-0CFD1A610377}" type="slidenum">
              <a:rPr b="0" lang="en-US" sz="27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46560" y="3719520"/>
            <a:ext cx="1258920" cy="1258920"/>
          </a:xfrm>
          <a:prstGeom prst="ellipse">
            <a:avLst/>
          </a:prstGeom>
          <a:solidFill>
            <a:srgbClr val="ddddd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"/>
          <p:cNvSpPr/>
          <p:nvPr/>
        </p:nvSpPr>
        <p:spPr>
          <a:xfrm>
            <a:off x="3838680" y="217440"/>
            <a:ext cx="64483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สาระการเรียนรู้พระพุทธศาสน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Cordia New"/>
                <a:cs typeface="Cordia New"/>
              </a:rPr>
              <a:t>ช่วงชั้นที่ ๒  ชั้นประถมศึกษาปีที่ ๔ </a:t>
            </a:r>
            <a:r>
              <a:rPr b="1" lang="en-US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1" lang="hi-IN" sz="2800" spc="-1" strike="noStrike">
                <a:solidFill>
                  <a:srgbClr val="000000"/>
                </a:solidFill>
                <a:latin typeface="Cordia New"/>
                <a:cs typeface="Cordia New"/>
              </a:rPr>
              <a:t>๖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" name=""/>
          <p:cNvSpPr/>
          <p:nvPr/>
        </p:nvSpPr>
        <p:spPr>
          <a:xfrm>
            <a:off x="4061880" y="4152960"/>
            <a:ext cx="16063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รัตนตรัย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"/>
          <p:cNvSpPr/>
          <p:nvPr/>
        </p:nvSpPr>
        <p:spPr>
          <a:xfrm>
            <a:off x="4543560" y="2573280"/>
            <a:ext cx="857160" cy="784440"/>
          </a:xfrm>
          <a:prstGeom prst="ellipse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/>
          <p:nvPr/>
        </p:nvSpPr>
        <p:spPr>
          <a:xfrm>
            <a:off x="2705040" y="1866960"/>
            <a:ext cx="1114560" cy="56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สำคัญขอ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"/>
          <p:cNvSpPr/>
          <p:nvPr/>
        </p:nvSpPr>
        <p:spPr>
          <a:xfrm>
            <a:off x="5753160" y="2095560"/>
            <a:ext cx="10666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สำคัญทา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"/>
          <p:cNvSpPr/>
          <p:nvPr/>
        </p:nvSpPr>
        <p:spPr>
          <a:xfrm>
            <a:off x="5067360" y="1866960"/>
            <a:ext cx="606240" cy="40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ด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" name=""/>
          <p:cNvSpPr/>
          <p:nvPr/>
        </p:nvSpPr>
        <p:spPr>
          <a:xfrm>
            <a:off x="3848040" y="1638360"/>
            <a:ext cx="771480" cy="40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วั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"/>
          <p:cNvSpPr/>
          <p:nvPr/>
        </p:nvSpPr>
        <p:spPr>
          <a:xfrm>
            <a:off x="6030720" y="1166760"/>
            <a:ext cx="784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วิสาข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" name=""/>
          <p:cNvSpPr/>
          <p:nvPr/>
        </p:nvSpPr>
        <p:spPr>
          <a:xfrm>
            <a:off x="5989680" y="1363680"/>
            <a:ext cx="83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อัฏฐมี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"/>
          <p:cNvSpPr/>
          <p:nvPr/>
        </p:nvSpPr>
        <p:spPr>
          <a:xfrm>
            <a:off x="5857200" y="1565280"/>
            <a:ext cx="981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อาสาฬห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" name=""/>
          <p:cNvSpPr/>
          <p:nvPr/>
        </p:nvSpPr>
        <p:spPr>
          <a:xfrm>
            <a:off x="2982240" y="1339920"/>
            <a:ext cx="691920" cy="153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ินิพพ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" name=""/>
          <p:cNvSpPr/>
          <p:nvPr/>
        </p:nvSpPr>
        <p:spPr>
          <a:xfrm>
            <a:off x="3454560" y="882720"/>
            <a:ext cx="376200" cy="153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ตรัสรู้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" name=""/>
          <p:cNvSpPr/>
          <p:nvPr/>
        </p:nvSpPr>
        <p:spPr>
          <a:xfrm>
            <a:off x="3086280" y="114480"/>
            <a:ext cx="685800" cy="29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รุปพุทธประว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" name=""/>
          <p:cNvSpPr/>
          <p:nvPr/>
        </p:nvSpPr>
        <p:spPr>
          <a:xfrm>
            <a:off x="1685880" y="654120"/>
            <a:ext cx="9766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ลงอายุสังขา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" name=""/>
          <p:cNvSpPr/>
          <p:nvPr/>
        </p:nvSpPr>
        <p:spPr>
          <a:xfrm>
            <a:off x="1876320" y="851040"/>
            <a:ext cx="7419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ัจฉิมสาว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" name=""/>
          <p:cNvSpPr/>
          <p:nvPr/>
        </p:nvSpPr>
        <p:spPr>
          <a:xfrm>
            <a:off x="1489680" y="1035000"/>
            <a:ext cx="12038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ถวายพระเพลิง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" name=""/>
          <p:cNvSpPr/>
          <p:nvPr/>
        </p:nvSpPr>
        <p:spPr>
          <a:xfrm>
            <a:off x="1230120" y="1244520"/>
            <a:ext cx="15102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แจกพระบรมสารีริกธาตุ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" name=""/>
          <p:cNvSpPr/>
          <p:nvPr/>
        </p:nvSpPr>
        <p:spPr>
          <a:xfrm>
            <a:off x="1562400" y="1446120"/>
            <a:ext cx="11077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งเวชนียสถาน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"/>
          <p:cNvSpPr/>
          <p:nvPr/>
        </p:nvSpPr>
        <p:spPr>
          <a:xfrm>
            <a:off x="803160" y="190440"/>
            <a:ext cx="6307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โปรดชฎิ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165960" y="357120"/>
            <a:ext cx="13730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โปรดพระเจ้าพิมพิสา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"/>
          <p:cNvSpPr/>
          <p:nvPr/>
        </p:nvSpPr>
        <p:spPr>
          <a:xfrm>
            <a:off x="586080" y="523800"/>
            <a:ext cx="8838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อัครสาว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" name=""/>
          <p:cNvSpPr/>
          <p:nvPr/>
        </p:nvSpPr>
        <p:spPr>
          <a:xfrm>
            <a:off x="146520" y="696960"/>
            <a:ext cx="13914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แสดงโอวาทปาฏิโมกข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" name=""/>
          <p:cNvSpPr/>
          <p:nvPr/>
        </p:nvSpPr>
        <p:spPr>
          <a:xfrm>
            <a:off x="317160" y="878040"/>
            <a:ext cx="12189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สด็จกรุงกบิลพัสดุ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5" name=""/>
          <p:cNvCxnSpPr>
            <a:stCxn id="66" idx="1"/>
            <a:endCxn id="60" idx="3"/>
          </p:cNvCxnSpPr>
          <p:nvPr/>
        </p:nvCxnSpPr>
        <p:spPr>
          <a:xfrm rot="10800000">
            <a:off x="1433520" y="266760"/>
            <a:ext cx="77040" cy="82800"/>
          </a:xfrm>
          <a:prstGeom prst="bentConnector3">
            <a:avLst>
              <a:gd name="adj1" fmla="val 5070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66" idx="1"/>
            <a:endCxn id="61" idx="3"/>
          </p:cNvCxnSpPr>
          <p:nvPr/>
        </p:nvCxnSpPr>
        <p:spPr>
          <a:xfrm flipH="1" flipV="1" rot="10800000">
            <a:off x="1510200" y="349560"/>
            <a:ext cx="28800" cy="84600"/>
          </a:xfrm>
          <a:prstGeom prst="bentConnector5">
            <a:avLst>
              <a:gd name="adj1" fmla="val -803797"/>
              <a:gd name="adj2" fmla="val -366239"/>
              <a:gd name="adj3" fmla="val 38683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6" idx="1"/>
            <a:endCxn id="62" idx="3"/>
          </p:cNvCxnSpPr>
          <p:nvPr/>
        </p:nvCxnSpPr>
        <p:spPr>
          <a:xfrm flipV="1" rot="10800000">
            <a:off x="1469520" y="349200"/>
            <a:ext cx="41040" cy="251280"/>
          </a:xfrm>
          <a:prstGeom prst="bentConnector3">
            <a:avLst>
              <a:gd name="adj1" fmla="val 522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66" idx="1"/>
            <a:endCxn id="63" idx="3"/>
          </p:cNvCxnSpPr>
          <p:nvPr/>
        </p:nvCxnSpPr>
        <p:spPr>
          <a:xfrm flipH="1" flipV="1" rot="10800000">
            <a:off x="1510560" y="349560"/>
            <a:ext cx="27720" cy="424440"/>
          </a:xfrm>
          <a:prstGeom prst="bentConnector5">
            <a:avLst>
              <a:gd name="adj1" fmla="val -835526"/>
              <a:gd name="adj2" fmla="val -72750"/>
              <a:gd name="adj3" fmla="val 40210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6" idx="1"/>
            <a:endCxn id="64" idx="3"/>
          </p:cNvCxnSpPr>
          <p:nvPr/>
        </p:nvCxnSpPr>
        <p:spPr>
          <a:xfrm flipH="1" flipV="1" rot="10800000">
            <a:off x="1510200" y="349200"/>
            <a:ext cx="25920" cy="605520"/>
          </a:xfrm>
          <a:prstGeom prst="bentConnector5">
            <a:avLst>
              <a:gd name="adj1" fmla="val -894366"/>
              <a:gd name="adj2" fmla="val -50981"/>
              <a:gd name="adj3" fmla="val 430422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67320" y="1639800"/>
            <a:ext cx="23864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ศูนย์รวมจิตใจของพุทธศาสนิกช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" name=""/>
          <p:cNvSpPr/>
          <p:nvPr/>
        </p:nvSpPr>
        <p:spPr>
          <a:xfrm>
            <a:off x="-196920" y="1866960"/>
            <a:ext cx="26974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มรดกทางวัฒนธรรมล้ำค่าของชาติไท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" name=""/>
          <p:cNvSpPr/>
          <p:nvPr/>
        </p:nvSpPr>
        <p:spPr>
          <a:xfrm>
            <a:off x="468000" y="2082960"/>
            <a:ext cx="18896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หลักในการพัฒนาชาติไท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" name=""/>
          <p:cNvSpPr/>
          <p:nvPr/>
        </p:nvSpPr>
        <p:spPr>
          <a:xfrm>
            <a:off x="1510560" y="272880"/>
            <a:ext cx="8730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ประกาศธ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" name=""/>
          <p:cNvSpPr/>
          <p:nvPr/>
        </p:nvSpPr>
        <p:spPr>
          <a:xfrm>
            <a:off x="557280" y="1058760"/>
            <a:ext cx="9172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กิจสำคัญ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5" name=""/>
          <p:cNvCxnSpPr>
            <a:stCxn id="66" idx="1"/>
            <a:endCxn id="74" idx="3"/>
          </p:cNvCxnSpPr>
          <p:nvPr/>
        </p:nvCxnSpPr>
        <p:spPr>
          <a:xfrm flipV="1" rot="10800000">
            <a:off x="1474560" y="349200"/>
            <a:ext cx="36360" cy="786240"/>
          </a:xfrm>
          <a:prstGeom prst="bentConnector5">
            <a:avLst>
              <a:gd name="adj1" fmla="val 635000"/>
              <a:gd name="adj2" fmla="val 49610"/>
              <a:gd name="adj3" fmla="val -531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6" name=""/>
          <p:cNvSpPr/>
          <p:nvPr/>
        </p:nvSpPr>
        <p:spPr>
          <a:xfrm>
            <a:off x="918720" y="2317680"/>
            <a:ext cx="13485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ศาสนาประจำชา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" name=""/>
          <p:cNvSpPr/>
          <p:nvPr/>
        </p:nvSpPr>
        <p:spPr>
          <a:xfrm>
            <a:off x="5959800" y="1776240"/>
            <a:ext cx="880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ธรรมสวน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" name=""/>
          <p:cNvSpPr/>
          <p:nvPr/>
        </p:nvSpPr>
        <p:spPr>
          <a:xfrm>
            <a:off x="6714000" y="1338120"/>
            <a:ext cx="15710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หมาย ความสำคัญ 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โยชน์ วิธีปฏิบัติต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การเข้าร่วมกิจก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"/>
          <p:cNvSpPr/>
          <p:nvPr/>
        </p:nvSpPr>
        <p:spPr>
          <a:xfrm>
            <a:off x="6739200" y="966960"/>
            <a:ext cx="1260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รุปวันสำคัญ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างพระพุทธศาสน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" name=""/>
          <p:cNvSpPr/>
          <p:nvPr/>
        </p:nvSpPr>
        <p:spPr>
          <a:xfrm>
            <a:off x="5972040" y="3860640"/>
            <a:ext cx="857520" cy="784440"/>
          </a:xfrm>
          <a:prstGeom prst="ellipse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งฆ์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4818240"/>
            <a:ext cx="771840" cy="40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สาว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" name=""/>
          <p:cNvSpPr/>
          <p:nvPr/>
        </p:nvSpPr>
        <p:spPr>
          <a:xfrm>
            <a:off x="6429240" y="5448240"/>
            <a:ext cx="771840" cy="40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พิธ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" name=""/>
          <p:cNvSpPr/>
          <p:nvPr/>
        </p:nvSpPr>
        <p:spPr>
          <a:xfrm>
            <a:off x="7286760" y="4183200"/>
            <a:ext cx="771480" cy="40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" name=""/>
          <p:cNvSpPr/>
          <p:nvPr/>
        </p:nvSpPr>
        <p:spPr>
          <a:xfrm>
            <a:off x="6972480" y="3238560"/>
            <a:ext cx="771480" cy="40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" name=""/>
          <p:cNvSpPr/>
          <p:nvPr/>
        </p:nvSpPr>
        <p:spPr>
          <a:xfrm>
            <a:off x="6134040" y="2913120"/>
            <a:ext cx="771480" cy="40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หน้าที่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971960" y="3377880"/>
            <a:ext cx="0" cy="322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" name=""/>
          <p:cNvSpPr/>
          <p:nvPr/>
        </p:nvSpPr>
        <p:spPr>
          <a:xfrm>
            <a:off x="5657760" y="4262400"/>
            <a:ext cx="343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" rIns="7200" tIns="-7200" bIns="-7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" name=""/>
          <p:cNvSpPr/>
          <p:nvPr/>
        </p:nvSpPr>
        <p:spPr>
          <a:xfrm>
            <a:off x="8196480" y="3105000"/>
            <a:ext cx="2324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ศรีนครินทราบรมราชชนนี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" name=""/>
          <p:cNvSpPr/>
          <p:nvPr/>
        </p:nvSpPr>
        <p:spPr>
          <a:xfrm>
            <a:off x="8219880" y="2781360"/>
            <a:ext cx="21502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มหิตลาธิเบศร 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ดุลยเดชวิกรม  พระบรมราชชน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8306640" y="3514680"/>
            <a:ext cx="1670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าจารย์เสถียร   โพธินันท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1" name=""/>
          <p:cNvSpPr/>
          <p:nvPr/>
        </p:nvSpPr>
        <p:spPr>
          <a:xfrm>
            <a:off x="8321400" y="3309840"/>
            <a:ext cx="160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สังฆราช 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(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 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" name=""/>
          <p:cNvSpPr/>
          <p:nvPr/>
        </p:nvSpPr>
        <p:spPr>
          <a:xfrm>
            <a:off x="8314200" y="3719520"/>
            <a:ext cx="1609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่อขุนรามคำแหงมหาราช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" name=""/>
          <p:cNvSpPr/>
          <p:nvPr/>
        </p:nvSpPr>
        <p:spPr>
          <a:xfrm>
            <a:off x="8306640" y="3924360"/>
            <a:ext cx="16063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มหาสมณเจ้า 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มพระปรมานุชิตชิโนรส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" name=""/>
          <p:cNvSpPr/>
          <p:nvPr/>
        </p:nvSpPr>
        <p:spPr>
          <a:xfrm>
            <a:off x="8353800" y="4686480"/>
            <a:ext cx="22125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ยืน การเดิน และการนั่งที่เหมาะสม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" name=""/>
          <p:cNvSpPr/>
          <p:nvPr/>
        </p:nvSpPr>
        <p:spPr>
          <a:xfrm>
            <a:off x="8360640" y="4915080"/>
            <a:ext cx="20937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ขณะประกอบพิธีกรรม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"/>
          <p:cNvSpPr/>
          <p:nvPr/>
        </p:nvSpPr>
        <p:spPr>
          <a:xfrm>
            <a:off x="6922800" y="5143680"/>
            <a:ext cx="18424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หว้  การกราบพระรัตนตรัย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บิดา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มารดา  ครู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อาจารย์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ผู้ที่เคารพ และกราบศพ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"/>
          <p:cNvSpPr/>
          <p:nvPr/>
        </p:nvSpPr>
        <p:spPr>
          <a:xfrm>
            <a:off x="6612480" y="4686480"/>
            <a:ext cx="22021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มีส่วนร่วมในการจัดเตรียมสถานที่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กอบพิธีกรรมทางศาสน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"/>
          <p:cNvSpPr/>
          <p:nvPr/>
        </p:nvSpPr>
        <p:spPr>
          <a:xfrm>
            <a:off x="8426520" y="5208480"/>
            <a:ext cx="15926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ขณะฟังธรรม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8434440" y="5448240"/>
            <a:ext cx="159228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ตามแนวทาง</a:t>
            </a:r>
            <a:br>
              <a:rPr sz="1200"/>
            </a:b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ของพุทธศาสนิกช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" name=""/>
          <p:cNvSpPr/>
          <p:nvPr/>
        </p:nvSpPr>
        <p:spPr>
          <a:xfrm>
            <a:off x="6231960" y="6121440"/>
            <a:ext cx="2813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ระเบียบพิธีและการปฏิบัติตนในวันธรรมสวน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1" name=""/>
          <p:cNvSpPr/>
          <p:nvPr/>
        </p:nvSpPr>
        <p:spPr>
          <a:xfrm>
            <a:off x="6148440" y="5905440"/>
            <a:ext cx="3303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าราธนาศีล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,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าราธนาธรรม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,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าราธนาพระปริต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" name=""/>
          <p:cNvSpPr/>
          <p:nvPr/>
        </p:nvSpPr>
        <p:spPr>
          <a:xfrm>
            <a:off x="6321960" y="6337440"/>
            <a:ext cx="2031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ิธีกรรมในการทำบุญงานมงค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" name=""/>
          <p:cNvSpPr/>
          <p:nvPr/>
        </p:nvSpPr>
        <p:spPr>
          <a:xfrm>
            <a:off x="6264360" y="6769080"/>
            <a:ext cx="2511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ิธีถวายสังฆทาน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,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อดผ้าป่า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,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อดกฐิ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" name=""/>
          <p:cNvSpPr/>
          <p:nvPr/>
        </p:nvSpPr>
        <p:spPr>
          <a:xfrm>
            <a:off x="6293880" y="6986520"/>
            <a:ext cx="2327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ระเบียบพิธีในการทำบุญงานอวมงค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" name=""/>
          <p:cNvSpPr/>
          <p:nvPr/>
        </p:nvSpPr>
        <p:spPr>
          <a:xfrm>
            <a:off x="6481080" y="6553080"/>
            <a:ext cx="978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ครื่องสังฆท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5371560" y="5295960"/>
            <a:ext cx="1109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อุรุเวลกัสสป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5456160" y="5710320"/>
            <a:ext cx="56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ราธ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5386320" y="5510160"/>
            <a:ext cx="1048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โสณโกฬิวิส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1790640" y="2857680"/>
            <a:ext cx="76212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คุณ  ๓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" name=""/>
          <p:cNvSpPr/>
          <p:nvPr/>
        </p:nvSpPr>
        <p:spPr>
          <a:xfrm>
            <a:off x="6080040" y="982800"/>
            <a:ext cx="71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มาฆ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1" name=""/>
          <p:cNvCxnSpPr>
            <a:stCxn id="48" idx="1"/>
            <a:endCxn id="54" idx="3"/>
          </p:cNvCxnSpPr>
          <p:nvPr/>
        </p:nvCxnSpPr>
        <p:spPr>
          <a:xfrm flipV="1" rot="16200000">
            <a:off x="3148200" y="884160"/>
            <a:ext cx="1437120" cy="189000"/>
          </a:xfrm>
          <a:prstGeom prst="bentConnector4">
            <a:avLst>
              <a:gd name="adj1" fmla="val 46955"/>
              <a:gd name="adj2" fmla="val -2270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48" idx="1"/>
            <a:endCxn id="53" idx="3"/>
          </p:cNvCxnSpPr>
          <p:nvPr/>
        </p:nvCxnSpPr>
        <p:spPr>
          <a:xfrm flipV="1" rot="16200000">
            <a:off x="3526920" y="1262880"/>
            <a:ext cx="738000" cy="130320"/>
          </a:xfrm>
          <a:prstGeom prst="bentConnector4">
            <a:avLst>
              <a:gd name="adj1" fmla="val 48511"/>
              <a:gd name="adj2" fmla="val -781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48" idx="1"/>
            <a:endCxn id="52" idx="3"/>
          </p:cNvCxnSpPr>
          <p:nvPr/>
        </p:nvCxnSpPr>
        <p:spPr>
          <a:xfrm flipV="1" rot="16200000">
            <a:off x="3677400" y="1413360"/>
            <a:ext cx="280800" cy="286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66" idx="3"/>
            <a:endCxn id="53" idx="1"/>
          </p:cNvCxnSpPr>
          <p:nvPr/>
        </p:nvCxnSpPr>
        <p:spPr>
          <a:xfrm>
            <a:off x="2383560" y="349560"/>
            <a:ext cx="1071360" cy="610200"/>
          </a:xfrm>
          <a:prstGeom prst="bentConnector3">
            <a:avLst>
              <a:gd name="adj1" fmla="val 497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2629800" y="1201680"/>
            <a:ext cx="777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rdia New"/>
                <a:ea typeface="Cordia New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476440" y="723960"/>
            <a:ext cx="152280" cy="838080"/>
            <a:chOff x="2476440" y="723960"/>
            <a:chExt cx="152280" cy="838080"/>
          </a:xfrm>
        </p:grpSpPr>
        <p:sp>
          <p:nvSpPr>
            <p:cNvPr id="117" name=""/>
            <p:cNvSpPr/>
            <p:nvPr/>
          </p:nvSpPr>
          <p:spPr>
            <a:xfrm>
              <a:off x="2628720" y="7239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76440" y="723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76440" y="942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440" y="1133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76440" y="1333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76440" y="1562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123" name=""/>
          <p:cNvCxnSpPr>
            <a:stCxn id="120" idx="0"/>
            <a:endCxn id="52" idx="1"/>
          </p:cNvCxnSpPr>
          <p:nvPr/>
        </p:nvCxnSpPr>
        <p:spPr>
          <a:xfrm flipH="1" rot="16200000">
            <a:off x="2663640" y="1098000"/>
            <a:ext cx="283320" cy="354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937760" y="1068480"/>
            <a:ext cx="1046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ณณาโรห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5" name=""/>
          <p:cNvSpPr/>
          <p:nvPr/>
        </p:nvSpPr>
        <p:spPr>
          <a:xfrm>
            <a:off x="4140000" y="1074600"/>
            <a:ext cx="902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จูฬเสฏฐิ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"/>
          <p:cNvSpPr/>
          <p:nvPr/>
        </p:nvSpPr>
        <p:spPr>
          <a:xfrm>
            <a:off x="4041000" y="1271520"/>
            <a:ext cx="1016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ีฆีติโกสล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" name=""/>
          <p:cNvSpPr/>
          <p:nvPr/>
        </p:nvSpPr>
        <p:spPr>
          <a:xfrm>
            <a:off x="4952160" y="1255680"/>
            <a:ext cx="95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พพทาฐิ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8" name=""/>
          <p:cNvSpPr/>
          <p:nvPr/>
        </p:nvSpPr>
        <p:spPr>
          <a:xfrm>
            <a:off x="4944240" y="880920"/>
            <a:ext cx="102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หาอุกกุส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9" name=""/>
          <p:cNvSpPr/>
          <p:nvPr/>
        </p:nvSpPr>
        <p:spPr>
          <a:xfrm>
            <a:off x="4174560" y="876240"/>
            <a:ext cx="865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ุฏิทูสก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0" name=""/>
          <p:cNvSpPr/>
          <p:nvPr/>
        </p:nvSpPr>
        <p:spPr>
          <a:xfrm>
            <a:off x="3000240" y="3894120"/>
            <a:ext cx="857520" cy="784080"/>
          </a:xfrm>
          <a:prstGeom prst="ellipse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ธรรม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" name=""/>
          <p:cNvSpPr/>
          <p:nvPr/>
        </p:nvSpPr>
        <p:spPr>
          <a:xfrm>
            <a:off x="3857760" y="4262400"/>
            <a:ext cx="34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" rIns="7200" tIns="-7200" bIns="-7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2" name=""/>
          <p:cNvSpPr/>
          <p:nvPr/>
        </p:nvSpPr>
        <p:spPr>
          <a:xfrm>
            <a:off x="2552760" y="2476440"/>
            <a:ext cx="762120" cy="40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โอวาท ๓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>
            <a:off x="4152960" y="5041800"/>
            <a:ext cx="1092240" cy="48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ศัพท์ทา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" name=""/>
          <p:cNvSpPr/>
          <p:nvPr/>
        </p:nvSpPr>
        <p:spPr>
          <a:xfrm>
            <a:off x="2906640" y="5270400"/>
            <a:ext cx="1094040" cy="48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ศาส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ุภาษิต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3898800" y="5664240"/>
            <a:ext cx="711360" cy="40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ไตรปิฏ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2095560" y="3314880"/>
            <a:ext cx="681120" cy="393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จริยา ๓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"/>
          <p:cNvSpPr/>
          <p:nvPr/>
        </p:nvSpPr>
        <p:spPr>
          <a:xfrm>
            <a:off x="3848040" y="3314880"/>
            <a:ext cx="711360" cy="40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ไตรสิกข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8" name=""/>
          <p:cNvSpPr/>
          <p:nvPr/>
        </p:nvSpPr>
        <p:spPr>
          <a:xfrm>
            <a:off x="2095560" y="4513320"/>
            <a:ext cx="711000" cy="40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ศรัทธ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>
            <a:off x="1790640" y="4076640"/>
            <a:ext cx="711360" cy="40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หลักกรร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"/>
          <p:cNvSpPr/>
          <p:nvPr/>
        </p:nvSpPr>
        <p:spPr>
          <a:xfrm>
            <a:off x="2527200" y="4894200"/>
            <a:ext cx="711360" cy="40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อริยสัจ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1" name=""/>
          <p:cNvSpPr/>
          <p:nvPr/>
        </p:nvSpPr>
        <p:spPr>
          <a:xfrm>
            <a:off x="3513960" y="2760840"/>
            <a:ext cx="21312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3377160" y="2965320"/>
            <a:ext cx="36720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าธ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3282840" y="3193920"/>
            <a:ext cx="47988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ัญญ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66400" y="5829480"/>
            <a:ext cx="1756440" cy="1290240"/>
            <a:chOff x="2066400" y="5829480"/>
            <a:chExt cx="1756440" cy="1290240"/>
          </a:xfrm>
        </p:grpSpPr>
        <p:sp>
          <p:nvSpPr>
            <p:cNvPr id="145" name=""/>
            <p:cNvSpPr/>
            <p:nvPr/>
          </p:nvSpPr>
          <p:spPr>
            <a:xfrm>
              <a:off x="2066400" y="6019560"/>
              <a:ext cx="1490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โลโกปตฺถมฺภิกา  เมตฺต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79880" y="6253200"/>
              <a:ext cx="1542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วิริเยน  ทุกฺขมจฺเจติ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1920" y="6464160"/>
              <a:ext cx="14216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ปญฺา  โลกสฺมิ  ปชฺโชโต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1320" y="6684840"/>
              <a:ext cx="14558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จฺเจน  กิตฺตึ  ปปฺโปติ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23280" y="6906960"/>
              <a:ext cx="1130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ยถาวาที  ตถาการี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84760" y="5829480"/>
              <a:ext cx="137160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ุขา  สงฺฆสฺส  สามคฺคี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2171880" y="5854680"/>
              <a:ext cx="152280" cy="1206000"/>
              <a:chOff x="2171880" y="5854680"/>
              <a:chExt cx="152280" cy="1206000"/>
            </a:xfrm>
          </p:grpSpPr>
          <p:sp>
            <p:nvSpPr>
              <p:cNvPr id="152" name=""/>
              <p:cNvSpPr/>
              <p:nvPr/>
            </p:nvSpPr>
            <p:spPr>
              <a:xfrm>
                <a:off x="2171880" y="5854680"/>
                <a:ext cx="0" cy="12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71880" y="5989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-7200" bIns="-7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71880" y="6162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-7200" bIns="-7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71880" y="6403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-7200" bIns="-7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171880" y="6644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-7200" bIns="-7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71880" y="6833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-7200" bIns="-7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171880" y="7047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-7200" bIns="-7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5310000" y="6019920"/>
            <a:ext cx="51336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ุเบกข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0" name=""/>
          <p:cNvSpPr/>
          <p:nvPr/>
        </p:nvSpPr>
        <p:spPr>
          <a:xfrm>
            <a:off x="5231160" y="6188040"/>
            <a:ext cx="102852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ัญญาณุเบกข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"/>
          <p:cNvSpPr/>
          <p:nvPr/>
        </p:nvSpPr>
        <p:spPr>
          <a:xfrm>
            <a:off x="5167440" y="6378480"/>
            <a:ext cx="147456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นโดษ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(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ในสิ่งเสพเสวย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2" name=""/>
          <p:cNvSpPr/>
          <p:nvPr/>
        </p:nvSpPr>
        <p:spPr>
          <a:xfrm>
            <a:off x="5161320" y="6575400"/>
            <a:ext cx="151272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ไม่สันโดษ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(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ในกุศลธรรม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3" name=""/>
          <p:cNvSpPr/>
          <p:nvPr/>
        </p:nvSpPr>
        <p:spPr>
          <a:xfrm>
            <a:off x="5320080" y="6746760"/>
            <a:ext cx="43272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ณห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"/>
          <p:cNvSpPr/>
          <p:nvPr/>
        </p:nvSpPr>
        <p:spPr>
          <a:xfrm>
            <a:off x="5336280" y="6929280"/>
            <a:ext cx="37188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ฉันท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5" name=""/>
          <p:cNvSpPr/>
          <p:nvPr/>
        </p:nvSpPr>
        <p:spPr>
          <a:xfrm>
            <a:off x="351360" y="2552760"/>
            <a:ext cx="621720" cy="2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ไม่ทำชั่ว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6" name=""/>
          <p:cNvSpPr/>
          <p:nvPr/>
        </p:nvSpPr>
        <p:spPr>
          <a:xfrm>
            <a:off x="737280" y="4381560"/>
            <a:ext cx="1199160" cy="2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จิตให้บริสุทธิ์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7" name=""/>
          <p:cNvSpPr/>
          <p:nvPr/>
        </p:nvSpPr>
        <p:spPr>
          <a:xfrm>
            <a:off x="23400" y="3800520"/>
            <a:ext cx="767880" cy="2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ความดี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8" name=""/>
          <p:cNvSpPr/>
          <p:nvPr/>
        </p:nvSpPr>
        <p:spPr>
          <a:xfrm>
            <a:off x="3695760" y="6634080"/>
            <a:ext cx="1457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รื่องน่ารู้จากพระไตรปิฎ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9" name=""/>
          <p:cNvSpPr/>
          <p:nvPr/>
        </p:nvSpPr>
        <p:spPr>
          <a:xfrm>
            <a:off x="3695760" y="6883560"/>
            <a:ext cx="162864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ลักษณะเฉพาะและความสำคัญ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ของพระไตรปิฎ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0" name=""/>
          <p:cNvSpPr/>
          <p:nvPr/>
        </p:nvSpPr>
        <p:spPr>
          <a:xfrm>
            <a:off x="3601440" y="6292800"/>
            <a:ext cx="7254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หมา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>
            <a:off x="3498840" y="6472080"/>
            <a:ext cx="13273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แบ่งพระไตรปิฎ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2" name=""/>
          <p:cNvSpPr/>
          <p:nvPr/>
        </p:nvSpPr>
        <p:spPr>
          <a:xfrm>
            <a:off x="-80280" y="4533840"/>
            <a:ext cx="751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ธ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3" name=""/>
          <p:cNvSpPr/>
          <p:nvPr/>
        </p:nvSpPr>
        <p:spPr>
          <a:xfrm>
            <a:off x="106920" y="4759200"/>
            <a:ext cx="516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ุจริต ๓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4" name=""/>
          <p:cNvSpPr/>
          <p:nvPr/>
        </p:nvSpPr>
        <p:spPr>
          <a:xfrm>
            <a:off x="579240" y="4991040"/>
            <a:ext cx="862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หมวิหาร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5" name=""/>
          <p:cNvSpPr/>
          <p:nvPr/>
        </p:nvSpPr>
        <p:spPr>
          <a:xfrm>
            <a:off x="547560" y="5452920"/>
            <a:ext cx="1027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บุญกิริยาวัตถุ ๓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6" name=""/>
          <p:cNvSpPr/>
          <p:nvPr/>
        </p:nvSpPr>
        <p:spPr>
          <a:xfrm>
            <a:off x="653760" y="4762440"/>
            <a:ext cx="411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ละ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>
            <a:off x="75240" y="4991040"/>
            <a:ext cx="528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คารวะ ๖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6120" y="5667480"/>
            <a:ext cx="626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งคล ๓๘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9" name=""/>
          <p:cNvSpPr/>
          <p:nvPr/>
        </p:nvSpPr>
        <p:spPr>
          <a:xfrm>
            <a:off x="608400" y="5219640"/>
            <a:ext cx="698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ิทธิบาท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0" name=""/>
          <p:cNvSpPr/>
          <p:nvPr/>
        </p:nvSpPr>
        <p:spPr>
          <a:xfrm>
            <a:off x="-1440" y="5440320"/>
            <a:ext cx="641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ุศลมูล ๓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1" name=""/>
          <p:cNvSpPr/>
          <p:nvPr/>
        </p:nvSpPr>
        <p:spPr>
          <a:xfrm>
            <a:off x="544680" y="5665680"/>
            <a:ext cx="949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ตัญญูกตเวที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2" name=""/>
          <p:cNvSpPr/>
          <p:nvPr/>
        </p:nvSpPr>
        <p:spPr>
          <a:xfrm>
            <a:off x="165240" y="5213520"/>
            <a:ext cx="446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คติ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3" name=""/>
          <p:cNvSpPr/>
          <p:nvPr/>
        </p:nvSpPr>
        <p:spPr>
          <a:xfrm>
            <a:off x="148320" y="2933640"/>
            <a:ext cx="597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4" name=""/>
          <p:cNvSpPr/>
          <p:nvPr/>
        </p:nvSpPr>
        <p:spPr>
          <a:xfrm>
            <a:off x="728640" y="2933640"/>
            <a:ext cx="522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ุจริต ๓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5" name=""/>
          <p:cNvSpPr/>
          <p:nvPr/>
        </p:nvSpPr>
        <p:spPr>
          <a:xfrm>
            <a:off x="48960" y="3171960"/>
            <a:ext cx="694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บายมุข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6" name=""/>
          <p:cNvSpPr/>
          <p:nvPr/>
        </p:nvSpPr>
        <p:spPr>
          <a:xfrm>
            <a:off x="18720" y="3390840"/>
            <a:ext cx="735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กุศลมูล ๓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>
            <a:off x="713160" y="3171960"/>
            <a:ext cx="691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บายมุข ๖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8" name=""/>
          <p:cNvSpPr/>
          <p:nvPr/>
        </p:nvSpPr>
        <p:spPr>
          <a:xfrm>
            <a:off x="723960" y="2809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9" name=""/>
          <p:cNvSpPr/>
          <p:nvPr/>
        </p:nvSpPr>
        <p:spPr>
          <a:xfrm>
            <a:off x="1486080" y="3619440"/>
            <a:ext cx="76176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กิจ ๕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90" name=""/>
          <p:cNvCxnSpPr>
            <a:stCxn id="130" idx="0"/>
            <a:endCxn id="132" idx="5"/>
          </p:cNvCxnSpPr>
          <p:nvPr/>
        </p:nvCxnSpPr>
        <p:spPr>
          <a:xfrm flipH="1" flipV="1">
            <a:off x="3203280" y="2819520"/>
            <a:ext cx="226080" cy="107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30" idx="7"/>
            <a:endCxn id="137" idx="3"/>
          </p:cNvCxnSpPr>
          <p:nvPr/>
        </p:nvCxnSpPr>
        <p:spPr>
          <a:xfrm flipV="1">
            <a:off x="3732480" y="3657600"/>
            <a:ext cx="219960" cy="35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30" idx="1"/>
            <a:endCxn id="136" idx="5"/>
          </p:cNvCxnSpPr>
          <p:nvPr/>
        </p:nvCxnSpPr>
        <p:spPr>
          <a:xfrm flipH="1" flipV="1">
            <a:off x="2676960" y="3650760"/>
            <a:ext cx="448920" cy="358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30" idx="2"/>
            <a:endCxn id="139" idx="6"/>
          </p:cNvCxnSpPr>
          <p:nvPr/>
        </p:nvCxnSpPr>
        <p:spPr>
          <a:xfrm flipH="1" flipV="1">
            <a:off x="2502000" y="4278240"/>
            <a:ext cx="498600" cy="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30" idx="3"/>
            <a:endCxn id="138" idx="6"/>
          </p:cNvCxnSpPr>
          <p:nvPr/>
        </p:nvCxnSpPr>
        <p:spPr>
          <a:xfrm flipH="1">
            <a:off x="2806560" y="4563360"/>
            <a:ext cx="319320" cy="15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30" idx="4"/>
            <a:endCxn id="140" idx="7"/>
          </p:cNvCxnSpPr>
          <p:nvPr/>
        </p:nvCxnSpPr>
        <p:spPr>
          <a:xfrm flipH="1">
            <a:off x="3134520" y="4678200"/>
            <a:ext cx="294840" cy="27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30" idx="4"/>
            <a:endCxn id="134" idx="0"/>
          </p:cNvCxnSpPr>
          <p:nvPr/>
        </p:nvCxnSpPr>
        <p:spPr>
          <a:xfrm>
            <a:off x="3429000" y="4678200"/>
            <a:ext cx="25200" cy="59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30" idx="5"/>
            <a:endCxn id="135" idx="0"/>
          </p:cNvCxnSpPr>
          <p:nvPr/>
        </p:nvCxnSpPr>
        <p:spPr>
          <a:xfrm>
            <a:off x="3732480" y="4563360"/>
            <a:ext cx="522360" cy="110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30" idx="5"/>
            <a:endCxn id="133" idx="1"/>
          </p:cNvCxnSpPr>
          <p:nvPr/>
        </p:nvCxnSpPr>
        <p:spPr>
          <a:xfrm>
            <a:off x="3732480" y="4563360"/>
            <a:ext cx="580680" cy="54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32" idx="2"/>
            <a:endCxn id="165" idx="3"/>
          </p:cNvCxnSpPr>
          <p:nvPr/>
        </p:nvCxnSpPr>
        <p:spPr>
          <a:xfrm rot="10800000">
            <a:off x="973080" y="2673720"/>
            <a:ext cx="158004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32" idx="2"/>
            <a:endCxn id="166" idx="0"/>
          </p:cNvCxnSpPr>
          <p:nvPr/>
        </p:nvCxnSpPr>
        <p:spPr>
          <a:xfrm flipV="1" rot="10800000">
            <a:off x="1336680" y="2677320"/>
            <a:ext cx="1216440" cy="1704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66" idx="2"/>
          </p:cNvCxnSpPr>
          <p:nvPr/>
        </p:nvCxnSpPr>
        <p:spPr>
          <a:xfrm flipH="1" rot="16200000">
            <a:off x="1399320" y="4561560"/>
            <a:ext cx="519840" cy="645120"/>
          </a:xfrm>
          <a:prstGeom prst="bentConnector3">
            <a:avLst>
              <a:gd name="adj1" fmla="val 7227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2171880" y="5842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-7200" bIns="-7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933640" y="5600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04" name=""/>
          <p:cNvCxnSpPr>
            <a:stCxn id="141" idx="3"/>
            <a:endCxn id="137" idx="2"/>
          </p:cNvCxnSpPr>
          <p:nvPr/>
        </p:nvCxnSpPr>
        <p:spPr>
          <a:xfrm>
            <a:off x="3727080" y="2857320"/>
            <a:ext cx="121320" cy="658800"/>
          </a:xfrm>
          <a:prstGeom prst="bentConnector5">
            <a:avLst>
              <a:gd name="adj1" fmla="val 187797"/>
              <a:gd name="adj2" fmla="val -49097"/>
              <a:gd name="adj3" fmla="val -3636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37" idx="2"/>
            <a:endCxn id="142" idx="3"/>
          </p:cNvCxnSpPr>
          <p:nvPr/>
        </p:nvCxnSpPr>
        <p:spPr>
          <a:xfrm rot="10800000">
            <a:off x="3744360" y="3061440"/>
            <a:ext cx="104040" cy="454320"/>
          </a:xfrm>
          <a:prstGeom prst="bentConnector5">
            <a:avLst>
              <a:gd name="adj1" fmla="val 672916"/>
              <a:gd name="adj2" fmla="val 171213"/>
              <a:gd name="adj3" fmla="val -1187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37" idx="2"/>
            <a:endCxn id="143" idx="3"/>
          </p:cNvCxnSpPr>
          <p:nvPr/>
        </p:nvCxnSpPr>
        <p:spPr>
          <a:xfrm rot="10800000">
            <a:off x="3762360" y="3290400"/>
            <a:ext cx="85680" cy="225720"/>
          </a:xfrm>
          <a:prstGeom prst="bentConnector3">
            <a:avLst>
              <a:gd name="adj1" fmla="val 5274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35" idx="3"/>
            <a:endCxn id="208" idx="0"/>
          </p:cNvCxnSpPr>
          <p:nvPr/>
        </p:nvCxnSpPr>
        <p:spPr>
          <a:xfrm rot="5400000">
            <a:off x="3747600" y="5879160"/>
            <a:ext cx="127080" cy="383760"/>
          </a:xfrm>
          <a:prstGeom prst="bentConnector4">
            <a:avLst>
              <a:gd name="adj1" fmla="val 339204"/>
              <a:gd name="adj2" fmla="val 1604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33" idx="4"/>
            <a:endCxn id="210" idx="0"/>
          </p:cNvCxnSpPr>
          <p:nvPr/>
        </p:nvCxnSpPr>
        <p:spPr>
          <a:xfrm flipH="1" rot="16200000">
            <a:off x="4807080" y="5416560"/>
            <a:ext cx="381240" cy="597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44" idx="1"/>
            <a:endCxn id="48" idx="4"/>
          </p:cNvCxnSpPr>
          <p:nvPr/>
        </p:nvCxnSpPr>
        <p:spPr>
          <a:xfrm flipH="1" flipV="1">
            <a:off x="4233960" y="2039760"/>
            <a:ext cx="435240" cy="64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130" idx="0"/>
            <a:endCxn id="109" idx="6"/>
          </p:cNvCxnSpPr>
          <p:nvPr/>
        </p:nvCxnSpPr>
        <p:spPr>
          <a:xfrm flipH="1" flipV="1">
            <a:off x="2552760" y="3048120"/>
            <a:ext cx="876600" cy="84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44" idx="2"/>
            <a:endCxn id="45" idx="5"/>
          </p:cNvCxnSpPr>
          <p:nvPr/>
        </p:nvCxnSpPr>
        <p:spPr>
          <a:xfrm flipH="1" flipV="1">
            <a:off x="3656520" y="2347920"/>
            <a:ext cx="887400" cy="61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130" idx="1"/>
            <a:endCxn id="189" idx="6"/>
          </p:cNvCxnSpPr>
          <p:nvPr/>
        </p:nvCxnSpPr>
        <p:spPr>
          <a:xfrm flipH="1" flipV="1">
            <a:off x="2247840" y="3810240"/>
            <a:ext cx="87804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44" idx="7"/>
            <a:endCxn id="47" idx="4"/>
          </p:cNvCxnSpPr>
          <p:nvPr/>
        </p:nvCxnSpPr>
        <p:spPr>
          <a:xfrm flipV="1">
            <a:off x="5275440" y="2268360"/>
            <a:ext cx="95400" cy="42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44" idx="6"/>
            <a:endCxn id="46" idx="3"/>
          </p:cNvCxnSpPr>
          <p:nvPr/>
        </p:nvCxnSpPr>
        <p:spPr>
          <a:xfrm flipV="1">
            <a:off x="5400720" y="2550960"/>
            <a:ext cx="50904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80" idx="0"/>
            <a:endCxn id="85" idx="4"/>
          </p:cNvCxnSpPr>
          <p:nvPr/>
        </p:nvCxnSpPr>
        <p:spPr>
          <a:xfrm flipV="1">
            <a:off x="6400800" y="3314880"/>
            <a:ext cx="119520" cy="54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8137800" y="1197000"/>
            <a:ext cx="1688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รู้เบื้องต้นเกี่ยวกับวั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9" name=""/>
          <p:cNvSpPr/>
          <p:nvPr/>
        </p:nvSpPr>
        <p:spPr>
          <a:xfrm>
            <a:off x="8100000" y="797040"/>
            <a:ext cx="173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อานิสงส์ของการสวดมนต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0" name=""/>
          <p:cNvSpPr/>
          <p:nvPr/>
        </p:nvSpPr>
        <p:spPr>
          <a:xfrm>
            <a:off x="8161200" y="1550880"/>
            <a:ext cx="1551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ิจกรรมพระพุทธศาสน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1" name=""/>
          <p:cNvSpPr/>
          <p:nvPr/>
        </p:nvSpPr>
        <p:spPr>
          <a:xfrm>
            <a:off x="8193600" y="1384200"/>
            <a:ext cx="1316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เรียนธรรมศึกษ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2" name=""/>
          <p:cNvSpPr/>
          <p:nvPr/>
        </p:nvSpPr>
        <p:spPr>
          <a:xfrm>
            <a:off x="8198640" y="1719360"/>
            <a:ext cx="1334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เข้าค่ายคุณธ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3" name=""/>
          <p:cNvSpPr/>
          <p:nvPr/>
        </p:nvSpPr>
        <p:spPr>
          <a:xfrm>
            <a:off x="8190360" y="2073240"/>
            <a:ext cx="142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เข้ารับการบรรพ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4" name=""/>
          <p:cNvSpPr/>
          <p:nvPr/>
        </p:nvSpPr>
        <p:spPr>
          <a:xfrm>
            <a:off x="8133480" y="1890720"/>
            <a:ext cx="182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แสดงตนเป็นพุทธมามก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5" name=""/>
          <p:cNvSpPr/>
          <p:nvPr/>
        </p:nvSpPr>
        <p:spPr>
          <a:xfrm>
            <a:off x="8123400" y="2274840"/>
            <a:ext cx="2025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สร้างความสำนึกในประโยชน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คุณค่าการรักษา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6" name=""/>
          <p:cNvSpPr/>
          <p:nvPr/>
        </p:nvSpPr>
        <p:spPr>
          <a:xfrm>
            <a:off x="8115120" y="987480"/>
            <a:ext cx="169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จัดพิธีกรรมที่เรียบง่า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67760" y="952560"/>
            <a:ext cx="152280" cy="1447920"/>
            <a:chOff x="8267760" y="952560"/>
            <a:chExt cx="152280" cy="1447920"/>
          </a:xfrm>
        </p:grpSpPr>
        <p:sp>
          <p:nvSpPr>
            <p:cNvPr id="228" name=""/>
            <p:cNvSpPr/>
            <p:nvPr/>
          </p:nvSpPr>
          <p:spPr>
            <a:xfrm>
              <a:off x="8267760" y="95256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67760" y="9525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67760" y="1143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67760" y="1333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67760" y="1536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67760" y="1866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67760" y="204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67760" y="2222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67760" y="2400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67760" y="1689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238" name=""/>
          <p:cNvCxnSpPr>
            <a:stCxn id="84" idx="6"/>
            <a:endCxn id="89" idx="1"/>
          </p:cNvCxnSpPr>
          <p:nvPr/>
        </p:nvCxnSpPr>
        <p:spPr>
          <a:xfrm flipV="1">
            <a:off x="7743960" y="2946960"/>
            <a:ext cx="476280" cy="492840"/>
          </a:xfrm>
          <a:prstGeom prst="bentConnector3">
            <a:avLst>
              <a:gd name="adj1" fmla="val 5045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39" name=""/>
          <p:cNvGrpSpPr/>
          <p:nvPr/>
        </p:nvGrpSpPr>
        <p:grpSpPr>
          <a:xfrm>
            <a:off x="6769080" y="1092240"/>
            <a:ext cx="152280" cy="762120"/>
            <a:chOff x="6769080" y="1092240"/>
            <a:chExt cx="152280" cy="762120"/>
          </a:xfrm>
        </p:grpSpPr>
        <p:sp>
          <p:nvSpPr>
            <p:cNvPr id="240" name=""/>
            <p:cNvSpPr/>
            <p:nvPr/>
          </p:nvSpPr>
          <p:spPr>
            <a:xfrm>
              <a:off x="6845400" y="10922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69080" y="1092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69080" y="1447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69080" y="16257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69080" y="18543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69080" y="1244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246" name=""/>
          <p:cNvCxnSpPr>
            <a:stCxn id="46" idx="0"/>
            <a:endCxn id="240" idx="0"/>
          </p:cNvCxnSpPr>
          <p:nvPr/>
        </p:nvCxnSpPr>
        <p:spPr>
          <a:xfrm flipH="1" flipV="1" rot="5400000">
            <a:off x="6064200" y="1314360"/>
            <a:ext cx="1003680" cy="559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85" idx="0"/>
          </p:cNvCxnSpPr>
          <p:nvPr/>
        </p:nvCxnSpPr>
        <p:spPr>
          <a:xfrm flipH="1" flipV="1" rot="5400000">
            <a:off x="6413040" y="1058760"/>
            <a:ext cx="1961280" cy="1748160"/>
          </a:xfrm>
          <a:prstGeom prst="bentConnector3">
            <a:avLst>
              <a:gd name="adj1" fmla="val 56251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48" name=""/>
          <p:cNvGrpSpPr/>
          <p:nvPr/>
        </p:nvGrpSpPr>
        <p:grpSpPr>
          <a:xfrm>
            <a:off x="5448240" y="5372280"/>
            <a:ext cx="76320" cy="457200"/>
            <a:chOff x="5448240" y="5372280"/>
            <a:chExt cx="76320" cy="457200"/>
          </a:xfrm>
        </p:grpSpPr>
        <p:sp>
          <p:nvSpPr>
            <p:cNvPr id="249" name=""/>
            <p:cNvSpPr/>
            <p:nvPr/>
          </p:nvSpPr>
          <p:spPr>
            <a:xfrm>
              <a:off x="5448240" y="537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48240" y="5829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8240" y="56264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48240" y="5397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253" name=""/>
          <p:cNvCxnSpPr>
            <a:stCxn id="81" idx="2"/>
            <a:endCxn id="249" idx="0"/>
          </p:cNvCxnSpPr>
          <p:nvPr/>
        </p:nvCxnSpPr>
        <p:spPr>
          <a:xfrm flipV="1" rot="10800000">
            <a:off x="5447880" y="5018760"/>
            <a:ext cx="66960" cy="353520"/>
          </a:xfrm>
          <a:prstGeom prst="bentConnector3">
            <a:avLst>
              <a:gd name="adj1" fmla="val 4475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80" idx="7"/>
            <a:endCxn id="84" idx="3"/>
          </p:cNvCxnSpPr>
          <p:nvPr/>
        </p:nvCxnSpPr>
        <p:spPr>
          <a:xfrm flipV="1">
            <a:off x="6704280" y="3581280"/>
            <a:ext cx="38124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83" idx="2"/>
          </p:cNvCxnSpPr>
          <p:nvPr/>
        </p:nvCxnSpPr>
        <p:spPr>
          <a:xfrm>
            <a:off x="6819480" y="4299120"/>
            <a:ext cx="467640" cy="8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80" idx="3"/>
            <a:endCxn id="81" idx="0"/>
          </p:cNvCxnSpPr>
          <p:nvPr/>
        </p:nvCxnSpPr>
        <p:spPr>
          <a:xfrm flipH="1">
            <a:off x="5900760" y="4530240"/>
            <a:ext cx="1969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80" idx="4"/>
            <a:endCxn id="82" idx="1"/>
          </p:cNvCxnSpPr>
          <p:nvPr/>
        </p:nvCxnSpPr>
        <p:spPr>
          <a:xfrm>
            <a:off x="6400800" y="4645080"/>
            <a:ext cx="141840" cy="86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82" idx="3"/>
            <a:endCxn id="100" idx="1"/>
          </p:cNvCxnSpPr>
          <p:nvPr/>
        </p:nvCxnSpPr>
        <p:spPr>
          <a:xfrm rot="5400000">
            <a:off x="6168960" y="5854320"/>
            <a:ext cx="436680" cy="310680"/>
          </a:xfrm>
          <a:prstGeom prst="bentConnector4">
            <a:avLst>
              <a:gd name="adj1" fmla="val 176485"/>
              <a:gd name="adj2" fmla="val 173085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59" name=""/>
          <p:cNvGrpSpPr/>
          <p:nvPr/>
        </p:nvGrpSpPr>
        <p:grpSpPr>
          <a:xfrm>
            <a:off x="2095560" y="1752480"/>
            <a:ext cx="76320" cy="685800"/>
            <a:chOff x="2095560" y="1752480"/>
            <a:chExt cx="76320" cy="685800"/>
          </a:xfrm>
        </p:grpSpPr>
        <p:sp>
          <p:nvSpPr>
            <p:cNvPr id="260" name=""/>
            <p:cNvSpPr/>
            <p:nvPr/>
          </p:nvSpPr>
          <p:spPr>
            <a:xfrm>
              <a:off x="2171880" y="1752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95560" y="1752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95560" y="196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9556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5560" y="2438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265" name=""/>
          <p:cNvCxnSpPr>
            <a:stCxn id="45" idx="2"/>
            <a:endCxn id="260" idx="0"/>
          </p:cNvCxnSpPr>
          <p:nvPr/>
        </p:nvCxnSpPr>
        <p:spPr>
          <a:xfrm flipV="1" rot="10800000">
            <a:off x="2171520" y="2148840"/>
            <a:ext cx="533520" cy="289080"/>
          </a:xfrm>
          <a:prstGeom prst="bentConnector3">
            <a:avLst>
              <a:gd name="adj1" fmla="val 5151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61200" y="6399360"/>
            <a:ext cx="1485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เคารพ – ถ่อมตน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ได้ทำความดีให้พร้อมไว้ก่อน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7" name=""/>
          <p:cNvSpPr/>
          <p:nvPr/>
        </p:nvSpPr>
        <p:spPr>
          <a:xfrm>
            <a:off x="-29160" y="6791400"/>
            <a:ext cx="198576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ใฝ่เรียน ใฝ่รู้</a:t>
            </a:r>
            <a:r>
              <a:rPr b="0" lang="en-US" sz="11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งานไม่อากูล</a:t>
            </a:r>
            <a:r>
              <a:rPr b="0" lang="en-US" sz="11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อดทน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8" name=""/>
          <p:cNvSpPr/>
          <p:nvPr/>
        </p:nvSpPr>
        <p:spPr>
          <a:xfrm>
            <a:off x="-51120" y="7016760"/>
            <a:ext cx="229500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มีวินัย</a:t>
            </a:r>
            <a:r>
              <a:rPr b="0" lang="en-US" sz="11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งานไม่มีโทษ  ไม่ประมาทในธรรม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9" name=""/>
          <p:cNvSpPr/>
          <p:nvPr/>
        </p:nvSpPr>
        <p:spPr>
          <a:xfrm>
            <a:off x="142920" y="58294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70" name=""/>
          <p:cNvCxnSpPr/>
          <p:nvPr/>
        </p:nvCxnSpPr>
        <p:spPr>
          <a:xfrm rot="10800000">
            <a:off x="142200" y="5963400"/>
            <a:ext cx="124560" cy="70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67" idx="1"/>
            <a:endCxn id="269" idx="0"/>
          </p:cNvCxnSpPr>
          <p:nvPr/>
        </p:nvCxnSpPr>
        <p:spPr>
          <a:xfrm flipH="1" rot="10800000">
            <a:off x="-29160" y="5904720"/>
            <a:ext cx="172440" cy="978120"/>
          </a:xfrm>
          <a:prstGeom prst="bentConnector3">
            <a:avLst>
              <a:gd name="adj1" fmla="val -13179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68" idx="1"/>
            <a:endCxn id="269" idx="1"/>
          </p:cNvCxnSpPr>
          <p:nvPr/>
        </p:nvCxnSpPr>
        <p:spPr>
          <a:xfrm flipH="1" rot="10800000">
            <a:off x="-51480" y="5904720"/>
            <a:ext cx="194400" cy="1203480"/>
          </a:xfrm>
          <a:prstGeom prst="bentConnector3">
            <a:avLst>
              <a:gd name="adj1" fmla="val -1170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129" idx="3"/>
          </p:cNvCxnSpPr>
          <p:nvPr/>
        </p:nvCxnSpPr>
        <p:spPr>
          <a:xfrm flipH="1">
            <a:off x="4991040" y="982440"/>
            <a:ext cx="49320" cy="575640"/>
          </a:xfrm>
          <a:prstGeom prst="bentConnector3">
            <a:avLst>
              <a:gd name="adj1" fmla="val -4647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4991040" y="14860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75" name=""/>
          <p:cNvCxnSpPr>
            <a:stCxn id="128" idx="1"/>
            <a:endCxn id="274" idx="0"/>
          </p:cNvCxnSpPr>
          <p:nvPr/>
        </p:nvCxnSpPr>
        <p:spPr>
          <a:xfrm flipH="1" flipV="1" rot="10800000">
            <a:off x="4944240" y="987120"/>
            <a:ext cx="47160" cy="499320"/>
          </a:xfrm>
          <a:prstGeom prst="bentConnector3">
            <a:avLst>
              <a:gd name="adj1" fmla="val -4846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6" name=""/>
          <p:cNvCxnSpPr>
            <a:stCxn id="125" idx="3"/>
            <a:endCxn id="274" idx="0"/>
          </p:cNvCxnSpPr>
          <p:nvPr/>
        </p:nvCxnSpPr>
        <p:spPr>
          <a:xfrm flipH="1">
            <a:off x="4991040" y="1180800"/>
            <a:ext cx="51480" cy="305640"/>
          </a:xfrm>
          <a:prstGeom prst="bentConnector3">
            <a:avLst>
              <a:gd name="adj1" fmla="val -4443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124" idx="1"/>
            <a:endCxn id="274" idx="0"/>
          </p:cNvCxnSpPr>
          <p:nvPr/>
        </p:nvCxnSpPr>
        <p:spPr>
          <a:xfrm flipH="1" flipV="1" rot="10800000">
            <a:off x="4937760" y="1174320"/>
            <a:ext cx="53640" cy="311760"/>
          </a:xfrm>
          <a:prstGeom prst="bentConnector3">
            <a:avLst>
              <a:gd name="adj1" fmla="val -4256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126" idx="3"/>
            <a:endCxn id="274" idx="0"/>
          </p:cNvCxnSpPr>
          <p:nvPr/>
        </p:nvCxnSpPr>
        <p:spPr>
          <a:xfrm flipH="1">
            <a:off x="4991040" y="1377720"/>
            <a:ext cx="66600" cy="108720"/>
          </a:xfrm>
          <a:prstGeom prst="bentConnector3">
            <a:avLst>
              <a:gd name="adj1" fmla="val -342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127" idx="1"/>
            <a:endCxn id="274" idx="0"/>
          </p:cNvCxnSpPr>
          <p:nvPr/>
        </p:nvCxnSpPr>
        <p:spPr>
          <a:xfrm flipH="1" flipV="1" rot="10800000">
            <a:off x="4952160" y="1361520"/>
            <a:ext cx="39240" cy="124560"/>
          </a:xfrm>
          <a:prstGeom prst="bentConnector3">
            <a:avLst>
              <a:gd name="adj1" fmla="val -5833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0" name=""/>
          <p:cNvCxnSpPr>
            <a:stCxn id="47" idx="2"/>
            <a:endCxn id="274" idx="1"/>
          </p:cNvCxnSpPr>
          <p:nvPr/>
        </p:nvCxnSpPr>
        <p:spPr>
          <a:xfrm rot="10800000">
            <a:off x="4991040" y="1637280"/>
            <a:ext cx="76680" cy="430560"/>
          </a:xfrm>
          <a:prstGeom prst="bentConnector3">
            <a:avLst>
              <a:gd name="adj1" fmla="val 4033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183" idx="3"/>
            <a:endCxn id="188" idx="0"/>
          </p:cNvCxnSpPr>
          <p:nvPr/>
        </p:nvCxnSpPr>
        <p:spPr>
          <a:xfrm flipH="1" flipV="1">
            <a:off x="723960" y="2885760"/>
            <a:ext cx="21960" cy="154440"/>
          </a:xfrm>
          <a:prstGeom prst="bentConnector3">
            <a:avLst>
              <a:gd name="adj1" fmla="val -1051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" name=""/>
          <p:cNvCxnSpPr>
            <a:stCxn id="184" idx="1"/>
            <a:endCxn id="188" idx="1"/>
          </p:cNvCxnSpPr>
          <p:nvPr/>
        </p:nvCxnSpPr>
        <p:spPr>
          <a:xfrm rot="10800000">
            <a:off x="723600" y="2885760"/>
            <a:ext cx="5040" cy="154440"/>
          </a:xfrm>
          <a:prstGeom prst="bentConnector3">
            <a:avLst>
              <a:gd name="adj1" fmla="val 504615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stCxn id="185" idx="3"/>
            <a:endCxn id="188" idx="1"/>
          </p:cNvCxnSpPr>
          <p:nvPr/>
        </p:nvCxnSpPr>
        <p:spPr>
          <a:xfrm flipH="1" flipV="1">
            <a:off x="723960" y="2885760"/>
            <a:ext cx="20160" cy="392760"/>
          </a:xfrm>
          <a:prstGeom prst="bentConnector3">
            <a:avLst>
              <a:gd name="adj1" fmla="val -11472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" name=""/>
          <p:cNvCxnSpPr>
            <a:stCxn id="187" idx="1"/>
            <a:endCxn id="188" idx="1"/>
          </p:cNvCxnSpPr>
          <p:nvPr/>
        </p:nvCxnSpPr>
        <p:spPr>
          <a:xfrm flipH="1" rot="10800000">
            <a:off x="713160" y="2885760"/>
            <a:ext cx="11160" cy="392760"/>
          </a:xfrm>
          <a:prstGeom prst="bentConnector3">
            <a:avLst>
              <a:gd name="adj1" fmla="val -21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186" idx="3"/>
            <a:endCxn id="188" idx="1"/>
          </p:cNvCxnSpPr>
          <p:nvPr/>
        </p:nvCxnSpPr>
        <p:spPr>
          <a:xfrm flipH="1" flipV="1">
            <a:off x="723960" y="2885760"/>
            <a:ext cx="30960" cy="611640"/>
          </a:xfrm>
          <a:prstGeom prst="bentConnector3">
            <a:avLst>
              <a:gd name="adj1" fmla="val -7423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" name=""/>
          <p:cNvCxnSpPr>
            <a:stCxn id="172" idx="3"/>
            <a:endCxn id="287" idx="0"/>
          </p:cNvCxnSpPr>
          <p:nvPr/>
        </p:nvCxnSpPr>
        <p:spPr>
          <a:xfrm flipH="1" flipV="1">
            <a:off x="619200" y="4199760"/>
            <a:ext cx="52200" cy="440640"/>
          </a:xfrm>
          <a:prstGeom prst="bentConnector3">
            <a:avLst>
              <a:gd name="adj1" fmla="val -4375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176" idx="1"/>
            <a:endCxn id="287" idx="1"/>
          </p:cNvCxnSpPr>
          <p:nvPr/>
        </p:nvCxnSpPr>
        <p:spPr>
          <a:xfrm rot="10800000">
            <a:off x="619200" y="4199760"/>
            <a:ext cx="34920" cy="669240"/>
          </a:xfrm>
          <a:prstGeom prst="bentConnector3">
            <a:avLst>
              <a:gd name="adj1" fmla="val 76979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173" idx="3"/>
            <a:endCxn id="287" idx="1"/>
          </p:cNvCxnSpPr>
          <p:nvPr/>
        </p:nvCxnSpPr>
        <p:spPr>
          <a:xfrm flipH="1" flipV="1">
            <a:off x="619200" y="4199760"/>
            <a:ext cx="4680" cy="666000"/>
          </a:xfrm>
          <a:prstGeom prst="bentConnector3">
            <a:avLst>
              <a:gd name="adj1" fmla="val -52583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" name=""/>
          <p:cNvCxnSpPr>
            <a:stCxn id="177" idx="3"/>
            <a:endCxn id="287" idx="1"/>
          </p:cNvCxnSpPr>
          <p:nvPr/>
        </p:nvCxnSpPr>
        <p:spPr>
          <a:xfrm flipV="1">
            <a:off x="604080" y="4199760"/>
            <a:ext cx="15480" cy="897840"/>
          </a:xfrm>
          <a:prstGeom prst="bentConnector3">
            <a:avLst>
              <a:gd name="adj1" fmla="val 1630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1" name=""/>
          <p:cNvCxnSpPr>
            <a:stCxn id="174" idx="1"/>
            <a:endCxn id="287" idx="1"/>
          </p:cNvCxnSpPr>
          <p:nvPr/>
        </p:nvCxnSpPr>
        <p:spPr>
          <a:xfrm flipH="1" rot="10800000">
            <a:off x="578880" y="4199400"/>
            <a:ext cx="40320" cy="897840"/>
          </a:xfrm>
          <a:prstGeom prst="bentConnector3">
            <a:avLst>
              <a:gd name="adj1" fmla="val -5675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" name=""/>
          <p:cNvCxnSpPr>
            <a:stCxn id="182" idx="3"/>
            <a:endCxn id="287" idx="1"/>
          </p:cNvCxnSpPr>
          <p:nvPr/>
        </p:nvCxnSpPr>
        <p:spPr>
          <a:xfrm flipV="1">
            <a:off x="611640" y="4199760"/>
            <a:ext cx="7920" cy="1120320"/>
          </a:xfrm>
          <a:prstGeom prst="bentConnector3">
            <a:avLst>
              <a:gd name="adj1" fmla="val 316190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179" idx="1"/>
            <a:endCxn id="287" idx="1"/>
          </p:cNvCxnSpPr>
          <p:nvPr/>
        </p:nvCxnSpPr>
        <p:spPr>
          <a:xfrm flipH="1" rot="10800000">
            <a:off x="608400" y="4199760"/>
            <a:ext cx="11160" cy="1126440"/>
          </a:xfrm>
          <a:prstGeom prst="bentConnector3">
            <a:avLst>
              <a:gd name="adj1" fmla="val -21033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4" name=""/>
          <p:cNvCxnSpPr>
            <a:stCxn id="175" idx="1"/>
            <a:endCxn id="287" idx="1"/>
          </p:cNvCxnSpPr>
          <p:nvPr/>
        </p:nvCxnSpPr>
        <p:spPr>
          <a:xfrm flipH="1" rot="10800000">
            <a:off x="547200" y="4199760"/>
            <a:ext cx="72000" cy="1359720"/>
          </a:xfrm>
          <a:prstGeom prst="bentConnector3">
            <a:avLst>
              <a:gd name="adj1" fmla="val -3175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5" name=""/>
          <p:cNvCxnSpPr>
            <a:stCxn id="180" idx="3"/>
            <a:endCxn id="287" idx="1"/>
          </p:cNvCxnSpPr>
          <p:nvPr/>
        </p:nvCxnSpPr>
        <p:spPr>
          <a:xfrm flipH="1" flipV="1">
            <a:off x="619200" y="4199760"/>
            <a:ext cx="21240" cy="1347120"/>
          </a:xfrm>
          <a:prstGeom prst="bentConnector3">
            <a:avLst>
              <a:gd name="adj1" fmla="val -1087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" name=""/>
          <p:cNvCxnSpPr>
            <a:stCxn id="178" idx="3"/>
            <a:endCxn id="287" idx="1"/>
          </p:cNvCxnSpPr>
          <p:nvPr/>
        </p:nvCxnSpPr>
        <p:spPr>
          <a:xfrm flipH="1" flipV="1">
            <a:off x="619200" y="4199760"/>
            <a:ext cx="13680" cy="1574280"/>
          </a:xfrm>
          <a:prstGeom prst="bentConnector3">
            <a:avLst>
              <a:gd name="adj1" fmla="val -17054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810000" y="5848200"/>
            <a:ext cx="9932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ต่อประเทศชาติ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มหากษัตริย์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98" name=""/>
          <p:cNvCxnSpPr>
            <a:stCxn id="181" idx="1"/>
            <a:endCxn id="287" idx="1"/>
          </p:cNvCxnSpPr>
          <p:nvPr/>
        </p:nvCxnSpPr>
        <p:spPr>
          <a:xfrm flipH="1" rot="10800000">
            <a:off x="544320" y="4199400"/>
            <a:ext cx="74880" cy="1572480"/>
          </a:xfrm>
          <a:prstGeom prst="bentConnector3">
            <a:avLst>
              <a:gd name="adj1" fmla="val -30483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 flipH="1">
            <a:off x="1257120" y="392436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00" name=""/>
          <p:cNvCxnSpPr>
            <a:stCxn id="167" idx="3"/>
            <a:endCxn id="299" idx="0"/>
          </p:cNvCxnSpPr>
          <p:nvPr/>
        </p:nvCxnSpPr>
        <p:spPr>
          <a:xfrm>
            <a:off x="791280" y="3921840"/>
            <a:ext cx="466200" cy="2880"/>
          </a:xfrm>
          <a:prstGeom prst="bentConnector3">
            <a:avLst>
              <a:gd name="adj1" fmla="val 5054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619200" y="4048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2" name=""/>
          <p:cNvSpPr/>
          <p:nvPr/>
        </p:nvSpPr>
        <p:spPr>
          <a:xfrm>
            <a:off x="1409760" y="5067360"/>
            <a:ext cx="990720" cy="609480"/>
          </a:xfrm>
          <a:prstGeom prst="hexagon">
            <a:avLst>
              <a:gd name="adj" fmla="val 40638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บริหารจิต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จริญปัญญ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03" name=""/>
          <p:cNvCxnSpPr>
            <a:stCxn id="101" idx="1"/>
            <a:endCxn id="82" idx="3"/>
          </p:cNvCxnSpPr>
          <p:nvPr/>
        </p:nvCxnSpPr>
        <p:spPr>
          <a:xfrm flipH="1" rot="10800000">
            <a:off x="6148440" y="5791320"/>
            <a:ext cx="394200" cy="220680"/>
          </a:xfrm>
          <a:prstGeom prst="bentConnector4">
            <a:avLst>
              <a:gd name="adj1" fmla="val -57678"/>
              <a:gd name="adj2" fmla="val -15130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82" idx="3"/>
            <a:endCxn id="102" idx="1"/>
          </p:cNvCxnSpPr>
          <p:nvPr/>
        </p:nvCxnSpPr>
        <p:spPr>
          <a:xfrm rot="5400000">
            <a:off x="6105960" y="6007320"/>
            <a:ext cx="652680" cy="220680"/>
          </a:xfrm>
          <a:prstGeom prst="bentConnector4">
            <a:avLst>
              <a:gd name="adj1" fmla="val 46743"/>
              <a:gd name="adj2" fmla="val 20310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82" idx="3"/>
            <a:endCxn id="105" idx="1"/>
          </p:cNvCxnSpPr>
          <p:nvPr/>
        </p:nvCxnSpPr>
        <p:spPr>
          <a:xfrm rot="5400000">
            <a:off x="6077520" y="6194520"/>
            <a:ext cx="868320" cy="61560"/>
          </a:xfrm>
          <a:prstGeom prst="bentConnector4">
            <a:avLst>
              <a:gd name="adj1" fmla="val 47532"/>
              <a:gd name="adj2" fmla="val 4711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82" idx="3"/>
            <a:endCxn id="103" idx="1"/>
          </p:cNvCxnSpPr>
          <p:nvPr/>
        </p:nvCxnSpPr>
        <p:spPr>
          <a:xfrm rot="5400000">
            <a:off x="5861160" y="6194160"/>
            <a:ext cx="1084320" cy="278280"/>
          </a:xfrm>
          <a:prstGeom prst="bentConnector4">
            <a:avLst>
              <a:gd name="adj1" fmla="val 48023"/>
              <a:gd name="adj2" fmla="val 18160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82" idx="3"/>
            <a:endCxn id="104" idx="1"/>
          </p:cNvCxnSpPr>
          <p:nvPr/>
        </p:nvCxnSpPr>
        <p:spPr>
          <a:xfrm rot="5400000">
            <a:off x="5767200" y="6317640"/>
            <a:ext cx="1301760" cy="248760"/>
          </a:xfrm>
          <a:prstGeom prst="bentConnector4">
            <a:avLst>
              <a:gd name="adj1" fmla="val 48354"/>
              <a:gd name="adj2" fmla="val 19130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856296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09" name=""/>
          <p:cNvCxnSpPr>
            <a:stCxn id="83" idx="6"/>
            <a:endCxn id="308" idx="0"/>
          </p:cNvCxnSpPr>
          <p:nvPr/>
        </p:nvCxnSpPr>
        <p:spPr>
          <a:xfrm>
            <a:off x="8058240" y="4384080"/>
            <a:ext cx="505080" cy="36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97" idx="3"/>
            <a:endCxn id="308" idx="1"/>
          </p:cNvCxnSpPr>
          <p:nvPr/>
        </p:nvCxnSpPr>
        <p:spPr>
          <a:xfrm flipH="1" flipV="1">
            <a:off x="8562960" y="4571280"/>
            <a:ext cx="252000" cy="305280"/>
          </a:xfrm>
          <a:prstGeom prst="bentConnector3">
            <a:avLst>
              <a:gd name="adj1" fmla="val -901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94" idx="1"/>
            <a:endCxn id="308" idx="1"/>
          </p:cNvCxnSpPr>
          <p:nvPr/>
        </p:nvCxnSpPr>
        <p:spPr>
          <a:xfrm flipH="1" rot="10800000">
            <a:off x="8353440" y="4571280"/>
            <a:ext cx="209520" cy="214200"/>
          </a:xfrm>
          <a:prstGeom prst="bentConnector3">
            <a:avLst>
              <a:gd name="adj1" fmla="val -1084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96" idx="3"/>
            <a:endCxn id="308" idx="1"/>
          </p:cNvCxnSpPr>
          <p:nvPr/>
        </p:nvCxnSpPr>
        <p:spPr>
          <a:xfrm flipH="1" flipV="1">
            <a:off x="8562960" y="4571280"/>
            <a:ext cx="202680" cy="853920"/>
          </a:xfrm>
          <a:prstGeom prst="bentConnector3">
            <a:avLst>
              <a:gd name="adj1" fmla="val -11227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98" idx="1"/>
            <a:endCxn id="308" idx="1"/>
          </p:cNvCxnSpPr>
          <p:nvPr/>
        </p:nvCxnSpPr>
        <p:spPr>
          <a:xfrm flipH="1" rot="10800000">
            <a:off x="8426160" y="4571280"/>
            <a:ext cx="136800" cy="736200"/>
          </a:xfrm>
          <a:prstGeom prst="bentConnector3">
            <a:avLst>
              <a:gd name="adj1" fmla="val -1662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99" idx="1"/>
            <a:endCxn id="308" idx="1"/>
          </p:cNvCxnSpPr>
          <p:nvPr/>
        </p:nvCxnSpPr>
        <p:spPr>
          <a:xfrm flipH="1" rot="10800000">
            <a:off x="8434080" y="4570920"/>
            <a:ext cx="128880" cy="1067040"/>
          </a:xfrm>
          <a:prstGeom prst="bentConnector3">
            <a:avLst>
              <a:gd name="adj1" fmla="val -1770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95" idx="1"/>
            <a:endCxn id="308" idx="1"/>
          </p:cNvCxnSpPr>
          <p:nvPr/>
        </p:nvCxnSpPr>
        <p:spPr>
          <a:xfrm flipH="1" rot="10800000">
            <a:off x="8360640" y="4570920"/>
            <a:ext cx="202680" cy="442800"/>
          </a:xfrm>
          <a:prstGeom prst="bentConnector3">
            <a:avLst>
              <a:gd name="adj1" fmla="val -11209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3619440" y="61340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5295960" y="59054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18" name=""/>
          <p:cNvCxnSpPr>
            <a:stCxn id="159" idx="1"/>
            <a:endCxn id="317" idx="0"/>
          </p:cNvCxnSpPr>
          <p:nvPr/>
        </p:nvCxnSpPr>
        <p:spPr>
          <a:xfrm rot="10800000">
            <a:off x="5295600" y="5905440"/>
            <a:ext cx="14400" cy="211320"/>
          </a:xfrm>
          <a:prstGeom prst="bentConnector3">
            <a:avLst>
              <a:gd name="adj1" fmla="val 174871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160" idx="1"/>
            <a:endCxn id="317" idx="0"/>
          </p:cNvCxnSpPr>
          <p:nvPr/>
        </p:nvCxnSpPr>
        <p:spPr>
          <a:xfrm flipH="1" rot="10800000">
            <a:off x="5231160" y="5905080"/>
            <a:ext cx="65160" cy="379440"/>
          </a:xfrm>
          <a:prstGeom prst="bentConnector3">
            <a:avLst>
              <a:gd name="adj1" fmla="val -3505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163" idx="1"/>
            <a:endCxn id="317" idx="0"/>
          </p:cNvCxnSpPr>
          <p:nvPr/>
        </p:nvCxnSpPr>
        <p:spPr>
          <a:xfrm rot="10800000">
            <a:off x="5295600" y="5905080"/>
            <a:ext cx="24480" cy="938160"/>
          </a:xfrm>
          <a:prstGeom prst="bentConnector3">
            <a:avLst>
              <a:gd name="adj1" fmla="val 10597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162" idx="1"/>
            <a:endCxn id="317" idx="0"/>
          </p:cNvCxnSpPr>
          <p:nvPr/>
        </p:nvCxnSpPr>
        <p:spPr>
          <a:xfrm flipH="1" rot="10800000">
            <a:off x="5161320" y="5905080"/>
            <a:ext cx="135000" cy="766800"/>
          </a:xfrm>
          <a:prstGeom prst="bentConnector3">
            <a:avLst>
              <a:gd name="adj1" fmla="val -1684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161" idx="1"/>
            <a:endCxn id="317" idx="0"/>
          </p:cNvCxnSpPr>
          <p:nvPr/>
        </p:nvCxnSpPr>
        <p:spPr>
          <a:xfrm flipH="1" rot="10800000">
            <a:off x="5167080" y="5905440"/>
            <a:ext cx="128880" cy="569880"/>
          </a:xfrm>
          <a:prstGeom prst="bentConnector3">
            <a:avLst>
              <a:gd name="adj1" fmla="val -1764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164" idx="1"/>
            <a:endCxn id="317" idx="0"/>
          </p:cNvCxnSpPr>
          <p:nvPr/>
        </p:nvCxnSpPr>
        <p:spPr>
          <a:xfrm rot="10800000">
            <a:off x="5295960" y="5905440"/>
            <a:ext cx="40680" cy="1120680"/>
          </a:xfrm>
          <a:prstGeom prst="bentConnector3">
            <a:avLst>
              <a:gd name="adj1" fmla="val 67410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84" idx="6"/>
            <a:endCxn id="88" idx="1"/>
          </p:cNvCxnSpPr>
          <p:nvPr/>
        </p:nvCxnSpPr>
        <p:spPr>
          <a:xfrm flipV="1">
            <a:off x="7743960" y="3211200"/>
            <a:ext cx="452880" cy="228600"/>
          </a:xfrm>
          <a:prstGeom prst="bentConnector3">
            <a:avLst>
              <a:gd name="adj1" fmla="val 5051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84" idx="6"/>
            <a:endCxn id="91" idx="1"/>
          </p:cNvCxnSpPr>
          <p:nvPr/>
        </p:nvCxnSpPr>
        <p:spPr>
          <a:xfrm flipV="1">
            <a:off x="7743960" y="3416040"/>
            <a:ext cx="577800" cy="23760"/>
          </a:xfrm>
          <a:prstGeom prst="bentConnector3">
            <a:avLst>
              <a:gd name="adj1" fmla="val 503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84" idx="6"/>
            <a:endCxn id="90" idx="1"/>
          </p:cNvCxnSpPr>
          <p:nvPr/>
        </p:nvCxnSpPr>
        <p:spPr>
          <a:xfrm>
            <a:off x="7743960" y="3439440"/>
            <a:ext cx="563040" cy="181800"/>
          </a:xfrm>
          <a:prstGeom prst="bentConnector3">
            <a:avLst>
              <a:gd name="adj1" fmla="val 50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84" idx="6"/>
            <a:endCxn id="92" idx="1"/>
          </p:cNvCxnSpPr>
          <p:nvPr/>
        </p:nvCxnSpPr>
        <p:spPr>
          <a:xfrm>
            <a:off x="7743960" y="3439440"/>
            <a:ext cx="570600" cy="386640"/>
          </a:xfrm>
          <a:prstGeom prst="bentConnector3">
            <a:avLst>
              <a:gd name="adj1" fmla="val 5044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84" idx="6"/>
            <a:endCxn id="93" idx="1"/>
          </p:cNvCxnSpPr>
          <p:nvPr/>
        </p:nvCxnSpPr>
        <p:spPr>
          <a:xfrm>
            <a:off x="7743960" y="3439440"/>
            <a:ext cx="563040" cy="690480"/>
          </a:xfrm>
          <a:prstGeom prst="bentConnector3">
            <a:avLst>
              <a:gd name="adj1" fmla="val 5041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9610560" y="160200"/>
            <a:ext cx="4467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๘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0" name=""/>
          <p:cNvSpPr/>
          <p:nvPr/>
        </p:nvSpPr>
        <p:spPr>
          <a:xfrm>
            <a:off x="190440" y="651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1" name=""/>
          <p:cNvSpPr/>
          <p:nvPr/>
        </p:nvSpPr>
        <p:spPr>
          <a:xfrm>
            <a:off x="152280" y="6477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32" name=""/>
          <p:cNvCxnSpPr>
            <a:stCxn id="316" idx="1"/>
            <a:endCxn id="169" idx="1"/>
          </p:cNvCxnSpPr>
          <p:nvPr/>
        </p:nvCxnSpPr>
        <p:spPr>
          <a:xfrm flipH="1" flipV="1" rot="10800000">
            <a:off x="3619440" y="6209640"/>
            <a:ext cx="76680" cy="889200"/>
          </a:xfrm>
          <a:prstGeom prst="bentConnector3">
            <a:avLst>
              <a:gd name="adj1" fmla="val -30377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3619440" y="63626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4" name=""/>
          <p:cNvSpPr/>
          <p:nvPr/>
        </p:nvSpPr>
        <p:spPr>
          <a:xfrm>
            <a:off x="3629160" y="6534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"/>
          <p:cNvSpPr/>
          <p:nvPr/>
        </p:nvSpPr>
        <p:spPr>
          <a:xfrm>
            <a:off x="3629160" y="673416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4084560" y="2895480"/>
            <a:ext cx="296388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0" lang="hi-IN" sz="75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0" name=""/>
          <p:cNvSpPr/>
          <p:nvPr/>
        </p:nvSpPr>
        <p:spPr>
          <a:xfrm>
            <a:off x="9322560" y="190440"/>
            <a:ext cx="4086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๙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"/>
          <p:cNvGrpSpPr/>
          <p:nvPr/>
        </p:nvGrpSpPr>
        <p:grpSpPr>
          <a:xfrm>
            <a:off x="-95400" y="0"/>
            <a:ext cx="10758960" cy="7125480"/>
            <a:chOff x="-95400" y="0"/>
            <a:chExt cx="10758960" cy="7125480"/>
          </a:xfrm>
        </p:grpSpPr>
        <p:sp>
          <p:nvSpPr>
            <p:cNvPr id="702" name=""/>
            <p:cNvSpPr/>
            <p:nvPr/>
          </p:nvSpPr>
          <p:spPr>
            <a:xfrm>
              <a:off x="6794640" y="4038480"/>
              <a:ext cx="1066680" cy="34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19440" y="3263760"/>
              <a:ext cx="1266840" cy="4827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พระธรรม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11600" y="1460520"/>
              <a:ext cx="1265040" cy="4827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พระพุทธ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600" y="2476440"/>
              <a:ext cx="6429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วันวิสาขบูชา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-95400" y="2808360"/>
              <a:ext cx="81468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วันอาสาฬหบูชา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48720" y="2428920"/>
              <a:ext cx="1783440" cy="4618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81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ngsana New"/>
                </a:rPr>
                <a:t>พระรัตนตรัย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18760" y="4686480"/>
              <a:ext cx="150480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แบ่ง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พระ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ไตรปิฎก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149720" y="5611680"/>
              <a:ext cx="179100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 u="sng">
                  <a:solidFill>
                    <a:srgbClr val="000000"/>
                  </a:solidFill>
                  <a:uFillTx/>
                  <a:latin typeface="Angsana New"/>
                </a:rPr>
                <a:t>เรื่องน่ารู้จากพระไตรปิฎก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81880" y="5251320"/>
              <a:ext cx="995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ไม่สันโดษ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</a:rPr>
                <a:t>( 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ในกุศลธรรม </a:t>
              </a: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58080" y="5146560"/>
              <a:ext cx="182880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Angsana New"/>
                  <a:cs typeface="Cordia New"/>
                </a:rPr>
                <a:t>วิริเยน ทุกฺขมจฺเจติ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Angsana New"/>
                </a:rPr>
                <a:t>คนจะล่วงทุกข์ได้ เพราะความเพียร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58080" y="5680080"/>
              <a:ext cx="171432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  <a:cs typeface="Cordia New"/>
                </a:rPr>
                <a:t>ปญฺา  โลกสฺมิ  ปชฺโชโต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</a:rPr>
                <a:t>ปัญญา</a:t>
              </a: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คือ</a:t>
              </a: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</a:rPr>
                <a:t>แสงสว่างในโลก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04760" y="6058080"/>
              <a:ext cx="103644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อสรพิษร้าย ๔ ตัว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0" y="2324160"/>
              <a:ext cx="72396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วันมาฆบูชา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94840" y="4762440"/>
              <a:ext cx="10666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98360"/>
                  <a:tab algn="l" pos="396720"/>
                  <a:tab algn="l" pos="595440"/>
                  <a:tab algn="l" pos="793800"/>
                  <a:tab algn="l" pos="992160"/>
                  <a:tab algn="l" pos="1190520"/>
                  <a:tab algn="l" pos="1389240"/>
                  <a:tab algn="l" pos="1587600"/>
                  <a:tab algn="l" pos="1785960"/>
                  <a:tab algn="l" pos="1984320"/>
                  <a:tab algn="l" pos="2182680"/>
                  <a:tab algn="l" pos="2381400"/>
                  <a:tab algn="l" pos="2579760"/>
                  <a:tab algn="l" pos="2778120"/>
                  <a:tab algn="l" pos="2976480"/>
                  <a:tab algn="l" pos="3174840"/>
                  <a:tab algn="l" pos="3373560"/>
                  <a:tab algn="l" pos="3571920"/>
                  <a:tab algn="l" pos="3770280"/>
                  <a:tab algn="l" pos="396864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สันโดษ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198360"/>
                  <a:tab algn="l" pos="396720"/>
                  <a:tab algn="l" pos="595440"/>
                  <a:tab algn="l" pos="793800"/>
                  <a:tab algn="l" pos="992160"/>
                  <a:tab algn="l" pos="1190520"/>
                  <a:tab algn="l" pos="1389240"/>
                  <a:tab algn="l" pos="1587600"/>
                  <a:tab algn="l" pos="1785960"/>
                  <a:tab algn="l" pos="1984320"/>
                  <a:tab algn="l" pos="2182680"/>
                  <a:tab algn="l" pos="2381400"/>
                  <a:tab algn="l" pos="2579760"/>
                  <a:tab algn="l" pos="2778120"/>
                  <a:tab algn="l" pos="2976480"/>
                  <a:tab algn="l" pos="3174840"/>
                  <a:tab algn="l" pos="3373560"/>
                  <a:tab algn="l" pos="3571920"/>
                  <a:tab algn="l" pos="3770280"/>
                  <a:tab algn="l" pos="39686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</a:rPr>
                <a:t>( 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ในสิ่งเสพเสวย  </a:t>
              </a: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600" y="6572160"/>
              <a:ext cx="96948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การงานไม่อากูล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3560" y="2389320"/>
              <a:ext cx="1675080" cy="57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ความหมายความสำคัญ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ประโยชน์การเข้าร่วม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ิจกรรม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และ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หลักปฏิบัติ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-28440" y="2960640"/>
              <a:ext cx="7650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วันธรรมสวนะ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67000" y="1619280"/>
              <a:ext cx="554040" cy="425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</a:rPr>
                <a:t>ชาดก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0440" y="1841400"/>
              <a:ext cx="10699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Angsana New"/>
                </a:rPr>
                <a:t>วัณณาโรหชาดก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12120" y="1631880"/>
              <a:ext cx="1079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Angsana New"/>
                </a:rPr>
                <a:t>จ</a:t>
              </a:r>
              <a:r>
                <a:rPr b="0" lang="th-TH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ูฬ</a:t>
              </a:r>
              <a:r>
                <a:rPr b="0" lang="th-TH" sz="1300" spc="-1" strike="noStrike">
                  <a:solidFill>
                    <a:srgbClr val="000000"/>
                  </a:solidFill>
                  <a:latin typeface="Angsana New"/>
                </a:rPr>
                <a:t>เสฏฐ</a:t>
              </a:r>
              <a:r>
                <a:rPr b="0" lang="th-TH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ิ</a:t>
              </a:r>
              <a:r>
                <a:rPr b="0" lang="th-TH" sz="1300" spc="-1" strike="noStrike">
                  <a:solidFill>
                    <a:srgbClr val="000000"/>
                  </a:solidFill>
                  <a:latin typeface="Angsana New"/>
                </a:rPr>
                <a:t>ชาดก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333440" y="444600"/>
              <a:ext cx="712800" cy="644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</a:rPr>
                <a:t>พุทธประวัติ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4440" y="2095560"/>
              <a:ext cx="17510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สรุปวันสำคัญทางพระพุทธศาสน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83600" y="5048280"/>
              <a:ext cx="60084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พระวินัย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85400" y="5232240"/>
              <a:ext cx="600840" cy="1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พระสูตร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54800" y="5353200"/>
              <a:ext cx="80640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พระอภิธรรม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139400" y="4762440"/>
              <a:ext cx="105192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บริหารจิตและ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เจริญปัญญ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31400" y="5543640"/>
              <a:ext cx="16812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รู้วิธีปฏิบัติและประโยชน์ของ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การบริหารจิตและเจริญปัญญา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61280" y="5927760"/>
              <a:ext cx="15469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ฝึกการยืน เดิน นั่ง และนอน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อย่างมีสติ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88920" y="6724800"/>
              <a:ext cx="2075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ฝึกให้มีสมาธิในการฟัง การอ่าน การคิด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การถาม และการเขียน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84240" y="6191280"/>
              <a:ext cx="2089800" cy="55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ฝึกการกำหนดรู้ความรู้สึกเมื่อตาเห็นรูป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หูฟังเสียง จมูกดมกลิ่น ลิ้นลิ้มรส 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กายสัมผัสสิ่งที่มากระทบ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29600" y="4533840"/>
              <a:ext cx="77436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เบญจศีล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57320" y="5116680"/>
              <a:ext cx="9284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เบญจธรรม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4400" y="5319720"/>
              <a:ext cx="1204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บุญกิริยาวัตถุ ๓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83240" y="6134040"/>
              <a:ext cx="8035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 u="sng">
                  <a:solidFill>
                    <a:srgbClr val="000000"/>
                  </a:solidFill>
                  <a:uFillTx/>
                  <a:latin typeface="Angsana New"/>
                </a:rPr>
                <a:t>มงคล ๓๘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880" y="4229280"/>
              <a:ext cx="718200" cy="29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300" spc="-1" strike="noStrike">
                  <a:solidFill>
                    <a:srgbClr val="000000"/>
                  </a:solidFill>
                  <a:latin typeface="Angsana New"/>
                </a:rPr>
                <a:t>ไม่ทำชั่ว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5520" y="4229280"/>
              <a:ext cx="844560" cy="29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300" spc="-1" strike="noStrike">
                  <a:solidFill>
                    <a:srgbClr val="000000"/>
                  </a:solidFill>
                  <a:latin typeface="Angsana New"/>
                </a:rPr>
                <a:t>ทำความดี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9360" y="6362640"/>
              <a:ext cx="81108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ใฝ่เรียน  ใฝ่รู้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07960" y="4229280"/>
              <a:ext cx="1215000" cy="29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300" spc="-1" strike="noStrike">
                  <a:solidFill>
                    <a:srgbClr val="000000"/>
                  </a:solidFill>
                  <a:latin typeface="Angsana New"/>
                </a:rPr>
                <a:t>ทำจิตให้บริสุทธิ์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936080" y="4915080"/>
              <a:ext cx="1684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สวดมนต์ไหว้พระสรรเสริญ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คุณพระรัตนตรัยและแผ่เมตตา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95400" y="5753160"/>
              <a:ext cx="13809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ตัญญูกตเวที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ต่อพระพุทธศาสน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2600" y="5611680"/>
              <a:ext cx="87516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อิทธิบาท ๔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47680" y="4686480"/>
              <a:ext cx="757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อบายมุข ๔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18520" y="5511960"/>
              <a:ext cx="6235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อคติ ๔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02280" y="6743880"/>
              <a:ext cx="49860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</a:rPr>
                <a:t>อดทน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46040" y="12600"/>
              <a:ext cx="8376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ngsana New"/>
                </a:rPr>
                <a:t>ผังมโนทัศน์สาระการเรียนรู้พระพุทธศาสนา   ชั้นประถมศึกษาปีที่  ๕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77840" y="520560"/>
              <a:ext cx="9795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Angsana New"/>
                </a:rPr>
                <a:t>เสด็จกรุงบิลพัสดุ์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7840" y="749160"/>
              <a:ext cx="9795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พุทธกิจสำคัญ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749" name=""/>
            <p:cNvCxnSpPr>
              <a:stCxn id="722" idx="2"/>
              <a:endCxn id="747" idx="3"/>
            </p:cNvCxnSpPr>
            <p:nvPr/>
          </p:nvCxnSpPr>
          <p:spPr>
            <a:xfrm rot="10800000">
              <a:off x="1156680" y="637560"/>
              <a:ext cx="176760" cy="12924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0" name=""/>
            <p:cNvCxnSpPr>
              <a:stCxn id="722" idx="2"/>
              <a:endCxn id="748" idx="3"/>
            </p:cNvCxnSpPr>
            <p:nvPr/>
          </p:nvCxnSpPr>
          <p:spPr>
            <a:xfrm flipV="1" rot="10800000">
              <a:off x="1156680" y="766440"/>
              <a:ext cx="176760" cy="10080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51" name=""/>
            <p:cNvSpPr/>
            <p:nvPr/>
          </p:nvSpPr>
          <p:spPr>
            <a:xfrm>
              <a:off x="2085480" y="3859200"/>
              <a:ext cx="65700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ปัญญ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88680" y="3859200"/>
              <a:ext cx="5443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สมาธิ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6600" y="3859200"/>
              <a:ext cx="3902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ศีล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754" name=""/>
            <p:cNvCxnSpPr/>
            <p:nvPr/>
          </p:nvCxnSpPr>
          <p:spPr>
            <a:xfrm flipH="1" rot="16200000">
              <a:off x="150120" y="4726800"/>
              <a:ext cx="1576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55" name=""/>
            <p:cNvSpPr/>
            <p:nvPr/>
          </p:nvSpPr>
          <p:spPr>
            <a:xfrm>
              <a:off x="3467160" y="571680"/>
              <a:ext cx="1295280" cy="88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พระพุทธศาสน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เป็นมรดกทางวัฒนธรรม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ล้ำค่าของชาติไทย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33440" y="59688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43960" y="571680"/>
              <a:ext cx="1181160" cy="57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พระพุทธศาสน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เป็นหลักในการ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พัฒนาชาติไทย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758" name=""/>
            <p:cNvCxnSpPr>
              <a:stCxn id="707" idx="0"/>
              <a:endCxn id="704" idx="4"/>
            </p:cNvCxnSpPr>
            <p:nvPr/>
          </p:nvCxnSpPr>
          <p:spPr>
            <a:xfrm flipV="1" rot="16200000">
              <a:off x="3622680" y="1783080"/>
              <a:ext cx="439200" cy="795960"/>
            </a:xfrm>
            <a:prstGeom prst="bentConnector3">
              <a:avLst>
                <a:gd name="adj1" fmla="val 48892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759" name=""/>
            <p:cNvSpPr/>
            <p:nvPr/>
          </p:nvSpPr>
          <p:spPr>
            <a:xfrm>
              <a:off x="119160" y="3395520"/>
              <a:ext cx="10573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โอวาท ๓ 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90760" y="3413160"/>
              <a:ext cx="7524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ไตรสิกขา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761" name=""/>
            <p:cNvCxnSpPr/>
            <p:nvPr/>
          </p:nvCxnSpPr>
          <p:spPr>
            <a:xfrm flipH="1" rot="16200000">
              <a:off x="149760" y="4574160"/>
              <a:ext cx="15804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2" name=""/>
            <p:cNvCxnSpPr>
              <a:stCxn id="759" idx="2"/>
              <a:endCxn id="736" idx="0"/>
            </p:cNvCxnSpPr>
            <p:nvPr/>
          </p:nvCxnSpPr>
          <p:spPr>
            <a:xfrm rot="5400000">
              <a:off x="244440" y="3826800"/>
              <a:ext cx="556560" cy="249840"/>
            </a:xfrm>
            <a:prstGeom prst="bentConnector3">
              <a:avLst>
                <a:gd name="adj1" fmla="val 8226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3" name=""/>
            <p:cNvCxnSpPr>
              <a:stCxn id="759" idx="2"/>
              <a:endCxn id="737" idx="0"/>
            </p:cNvCxnSpPr>
            <p:nvPr/>
          </p:nvCxnSpPr>
          <p:spPr>
            <a:xfrm flipH="1" rot="16200000">
              <a:off x="603720" y="3716280"/>
              <a:ext cx="556560" cy="470520"/>
            </a:xfrm>
            <a:prstGeom prst="bentConnector3">
              <a:avLst>
                <a:gd name="adj1" fmla="val 7967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4" name=""/>
            <p:cNvCxnSpPr>
              <a:stCxn id="759" idx="2"/>
              <a:endCxn id="739" idx="0"/>
            </p:cNvCxnSpPr>
            <p:nvPr/>
          </p:nvCxnSpPr>
          <p:spPr>
            <a:xfrm flipH="1" rot="16200000">
              <a:off x="1053000" y="3267000"/>
              <a:ext cx="556560" cy="1369080"/>
            </a:xfrm>
            <a:prstGeom prst="bentConnector3">
              <a:avLst>
                <a:gd name="adj1" fmla="val 7967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5" name=""/>
            <p:cNvCxnSpPr>
              <a:stCxn id="737" idx="2"/>
              <a:endCxn id="733" idx="1"/>
            </p:cNvCxnSpPr>
            <p:nvPr/>
          </p:nvCxnSpPr>
          <p:spPr>
            <a:xfrm rot="5400000">
              <a:off x="331920" y="4479120"/>
              <a:ext cx="732600" cy="838800"/>
            </a:xfrm>
            <a:prstGeom prst="bentConnector4">
              <a:avLst>
                <a:gd name="adj1" fmla="val 68289"/>
                <a:gd name="adj2" fmla="val 10905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6" name=""/>
            <p:cNvCxnSpPr>
              <a:stCxn id="737" idx="2"/>
              <a:endCxn id="734" idx="1"/>
            </p:cNvCxnSpPr>
            <p:nvPr/>
          </p:nvCxnSpPr>
          <p:spPr>
            <a:xfrm rot="5400000">
              <a:off x="234000" y="4564080"/>
              <a:ext cx="915120" cy="851400"/>
            </a:xfrm>
            <a:prstGeom prst="bentConnector4">
              <a:avLst>
                <a:gd name="adj1" fmla="val 54506"/>
                <a:gd name="adj2" fmla="val 10689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7" name=""/>
            <p:cNvCxnSpPr>
              <a:endCxn id="744" idx="1"/>
            </p:cNvCxnSpPr>
            <p:nvPr/>
          </p:nvCxnSpPr>
          <p:spPr>
            <a:xfrm rot="5400000">
              <a:off x="155520" y="4658400"/>
              <a:ext cx="1086480" cy="837000"/>
            </a:xfrm>
            <a:prstGeom prst="bentConnector4">
              <a:avLst>
                <a:gd name="adj1" fmla="val 45873"/>
                <a:gd name="adj2" fmla="val 10890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8" name=""/>
            <p:cNvCxnSpPr/>
            <p:nvPr/>
          </p:nvCxnSpPr>
          <p:spPr>
            <a:xfrm rot="5400000">
              <a:off x="83520" y="4728960"/>
              <a:ext cx="1226160" cy="835920"/>
            </a:xfrm>
            <a:prstGeom prst="bentConnector4">
              <a:avLst>
                <a:gd name="adj1" fmla="val 41057"/>
                <a:gd name="adj2" fmla="val 10909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9" name=""/>
            <p:cNvCxnSpPr/>
            <p:nvPr/>
          </p:nvCxnSpPr>
          <p:spPr>
            <a:xfrm rot="5400000">
              <a:off x="-42840" y="4842360"/>
              <a:ext cx="1465920" cy="848520"/>
            </a:xfrm>
            <a:prstGeom prst="bentConnector4">
              <a:avLst>
                <a:gd name="adj1" fmla="val 34758"/>
                <a:gd name="adj2" fmla="val 1073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0" name=""/>
            <p:cNvCxnSpPr/>
            <p:nvPr/>
          </p:nvCxnSpPr>
          <p:spPr>
            <a:xfrm rot="5400000">
              <a:off x="-174600" y="4974120"/>
              <a:ext cx="1748520" cy="848520"/>
            </a:xfrm>
            <a:prstGeom prst="bentConnector4">
              <a:avLst>
                <a:gd name="adj1" fmla="val 29406"/>
                <a:gd name="adj2" fmla="val 10840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1" name=""/>
            <p:cNvCxnSpPr>
              <a:stCxn id="735" idx="2"/>
              <a:endCxn id="738" idx="1"/>
            </p:cNvCxnSpPr>
            <p:nvPr/>
          </p:nvCxnSpPr>
          <p:spPr>
            <a:xfrm flipH="1" rot="16200000">
              <a:off x="587160" y="6425640"/>
              <a:ext cx="59400" cy="62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2" name=""/>
            <p:cNvCxnSpPr>
              <a:stCxn id="735" idx="2"/>
              <a:endCxn id="716" idx="1"/>
            </p:cNvCxnSpPr>
            <p:nvPr/>
          </p:nvCxnSpPr>
          <p:spPr>
            <a:xfrm flipH="1" rot="16200000">
              <a:off x="489600" y="6523560"/>
              <a:ext cx="254880" cy="62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3" name=""/>
            <p:cNvCxnSpPr>
              <a:stCxn id="735" idx="2"/>
              <a:endCxn id="745" idx="1"/>
            </p:cNvCxnSpPr>
            <p:nvPr/>
          </p:nvCxnSpPr>
          <p:spPr>
            <a:xfrm flipH="1" rot="16200000">
              <a:off x="403920" y="6609240"/>
              <a:ext cx="426240" cy="62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4" name=""/>
            <p:cNvCxnSpPr>
              <a:stCxn id="739" idx="2"/>
              <a:endCxn id="727" idx="0"/>
            </p:cNvCxnSpPr>
            <p:nvPr/>
          </p:nvCxnSpPr>
          <p:spPr>
            <a:xfrm rot="5400000">
              <a:off x="1725120" y="4471920"/>
              <a:ext cx="230760" cy="351360"/>
            </a:xfrm>
            <a:prstGeom prst="bentConnector3">
              <a:avLst>
                <a:gd name="adj1" fmla="val 4953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5" name=""/>
            <p:cNvCxnSpPr/>
            <p:nvPr/>
          </p:nvCxnSpPr>
          <p:spPr>
            <a:xfrm>
              <a:off x="2063520" y="5008320"/>
              <a:ext cx="105480" cy="106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6" name=""/>
            <p:cNvCxnSpPr>
              <a:stCxn id="727" idx="3"/>
              <a:endCxn id="728" idx="1"/>
            </p:cNvCxnSpPr>
            <p:nvPr/>
          </p:nvCxnSpPr>
          <p:spPr>
            <a:xfrm>
              <a:off x="2073240" y="5008320"/>
              <a:ext cx="99360" cy="735120"/>
            </a:xfrm>
            <a:prstGeom prst="bentConnector3">
              <a:avLst>
                <a:gd name="adj1" fmla="val 4981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7" name=""/>
            <p:cNvCxnSpPr>
              <a:stCxn id="727" idx="3"/>
              <a:endCxn id="729" idx="1"/>
            </p:cNvCxnSpPr>
            <p:nvPr/>
          </p:nvCxnSpPr>
          <p:spPr>
            <a:xfrm>
              <a:off x="2073240" y="5008320"/>
              <a:ext cx="99360" cy="1089720"/>
            </a:xfrm>
            <a:prstGeom prst="bentConnector3">
              <a:avLst>
                <a:gd name="adj1" fmla="val 4981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8" name=""/>
            <p:cNvCxnSpPr/>
            <p:nvPr/>
          </p:nvCxnSpPr>
          <p:spPr>
            <a:xfrm flipH="1" rot="16200000">
              <a:off x="1479960" y="5690880"/>
              <a:ext cx="1383480" cy="11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9" name=""/>
            <p:cNvCxnSpPr>
              <a:stCxn id="727" idx="3"/>
              <a:endCxn id="730" idx="1"/>
            </p:cNvCxnSpPr>
            <p:nvPr/>
          </p:nvCxnSpPr>
          <p:spPr>
            <a:xfrm>
              <a:off x="2073240" y="5008680"/>
              <a:ext cx="99360" cy="1916640"/>
            </a:xfrm>
            <a:prstGeom prst="bentConnector3">
              <a:avLst>
                <a:gd name="adj1" fmla="val 4981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0" name=""/>
            <p:cNvSpPr/>
            <p:nvPr/>
          </p:nvSpPr>
          <p:spPr>
            <a:xfrm>
              <a:off x="2633760" y="4081320"/>
              <a:ext cx="7524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หลักกรรม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71840" y="4081320"/>
              <a:ext cx="67644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ศรัทธา ๔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233960" y="4081320"/>
              <a:ext cx="6760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อริยสัจ ๔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995720" y="4081320"/>
              <a:ext cx="7527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พุทธจริยา ๓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4160" y="4081320"/>
              <a:ext cx="8287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พระไตรปิฎก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043840" y="4081320"/>
              <a:ext cx="10573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ศัพท์ทางพระพุทธศาสน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786" name=""/>
            <p:cNvCxnSpPr>
              <a:stCxn id="760" idx="2"/>
              <a:endCxn id="753" idx="0"/>
            </p:cNvCxnSpPr>
            <p:nvPr/>
          </p:nvCxnSpPr>
          <p:spPr>
            <a:xfrm rot="5400000">
              <a:off x="1519560" y="3512160"/>
              <a:ext cx="168840" cy="526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7" name=""/>
            <p:cNvCxnSpPr>
              <a:stCxn id="760" idx="2"/>
              <a:endCxn id="752" idx="0"/>
            </p:cNvCxnSpPr>
            <p:nvPr/>
          </p:nvCxnSpPr>
          <p:spPr>
            <a:xfrm rot="5400000">
              <a:off x="1779120" y="3771720"/>
              <a:ext cx="168840" cy="7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8" name=""/>
            <p:cNvCxnSpPr>
              <a:stCxn id="760" idx="2"/>
              <a:endCxn id="751" idx="0"/>
            </p:cNvCxnSpPr>
            <p:nvPr/>
          </p:nvCxnSpPr>
          <p:spPr>
            <a:xfrm flipH="1" rot="16200000">
              <a:off x="2055600" y="3501000"/>
              <a:ext cx="168840" cy="548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9" name=""/>
            <p:cNvCxnSpPr/>
            <p:nvPr/>
          </p:nvCxnSpPr>
          <p:spPr>
            <a:xfrm rot="5400000">
              <a:off x="4730760" y="4999680"/>
              <a:ext cx="170640" cy="131040"/>
            </a:xfrm>
            <a:prstGeom prst="bentConnector4">
              <a:avLst>
                <a:gd name="adj1" fmla="val 19450"/>
                <a:gd name="adj2" fmla="val 1658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0" name=""/>
            <p:cNvCxnSpPr/>
            <p:nvPr/>
          </p:nvCxnSpPr>
          <p:spPr>
            <a:xfrm rot="5400000">
              <a:off x="4646520" y="5083920"/>
              <a:ext cx="339120" cy="131040"/>
            </a:xfrm>
            <a:prstGeom prst="bentConnector4">
              <a:avLst>
                <a:gd name="adj1" fmla="val 13602"/>
                <a:gd name="adj2" fmla="val 1658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1" name=""/>
            <p:cNvCxnSpPr>
              <a:stCxn id="708" idx="2"/>
              <a:endCxn id="726" idx="1"/>
            </p:cNvCxnSpPr>
            <p:nvPr/>
          </p:nvCxnSpPr>
          <p:spPr>
            <a:xfrm rot="5400000">
              <a:off x="4558320" y="5163840"/>
              <a:ext cx="497880" cy="129240"/>
            </a:xfrm>
            <a:prstGeom prst="bentConnector4">
              <a:avLst>
                <a:gd name="adj1" fmla="val 8610"/>
                <a:gd name="adj2" fmla="val 16396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2" name=""/>
            <p:cNvCxnSpPr>
              <a:stCxn id="709" idx="2"/>
              <a:endCxn id="713" idx="1"/>
            </p:cNvCxnSpPr>
            <p:nvPr/>
          </p:nvCxnSpPr>
          <p:spPr>
            <a:xfrm rot="5400000">
              <a:off x="4750920" y="5887800"/>
              <a:ext cx="276840" cy="311760"/>
            </a:xfrm>
            <a:prstGeom prst="bentConnector4">
              <a:avLst>
                <a:gd name="adj1" fmla="val 27473"/>
                <a:gd name="adj2" fmla="val 17341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/>
            <p:nvPr/>
          </p:nvCxnSpPr>
          <p:spPr>
            <a:xfrm rot="5400000">
              <a:off x="5919120" y="4524480"/>
              <a:ext cx="1572480" cy="1296000"/>
            </a:xfrm>
            <a:prstGeom prst="bentConnector4">
              <a:avLst>
                <a:gd name="adj1" fmla="val 42706"/>
                <a:gd name="adj2" fmla="val 11764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4" name=""/>
            <p:cNvCxnSpPr/>
            <p:nvPr/>
          </p:nvCxnSpPr>
          <p:spPr>
            <a:xfrm flipH="1" rot="16200000">
              <a:off x="7429320" y="4498560"/>
              <a:ext cx="2520" cy="2160"/>
            </a:xfrm>
            <a:prstGeom prst="bentConnector3">
              <a:avLst>
                <a:gd name="adj1" fmla="val 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5" name=""/>
            <p:cNvSpPr/>
            <p:nvPr/>
          </p:nvSpPr>
          <p:spPr>
            <a:xfrm>
              <a:off x="1930680" y="5295960"/>
              <a:ext cx="188100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0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รู้ความหมายของสมาธิและวิปัสสนา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796" name=""/>
            <p:cNvCxnSpPr>
              <a:stCxn id="727" idx="3"/>
              <a:endCxn id="795" idx="1"/>
            </p:cNvCxnSpPr>
            <p:nvPr/>
          </p:nvCxnSpPr>
          <p:spPr>
            <a:xfrm>
              <a:off x="2073240" y="5008680"/>
              <a:ext cx="99360" cy="411840"/>
            </a:xfrm>
            <a:prstGeom prst="bentConnector3">
              <a:avLst>
                <a:gd name="adj1" fmla="val 4981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7" name=""/>
            <p:cNvSpPr/>
            <p:nvPr/>
          </p:nvSpPr>
          <p:spPr>
            <a:xfrm>
              <a:off x="5219640" y="2438280"/>
              <a:ext cx="1108080" cy="4827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81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พระสงฆ์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93720" y="711360"/>
              <a:ext cx="1225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Angsana New"/>
                </a:rPr>
                <a:t>พระโสณโกฬิวิสะ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421320" y="1536840"/>
              <a:ext cx="138924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Angsana New"/>
                </a:rPr>
                <a:t>อาจารย์เสถียร  โพธินันทะ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189480" y="1333440"/>
              <a:ext cx="17830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สมเด็จพระสังฆราช </a:t>
              </a: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</a:rPr>
                <a:t>( 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สา </a:t>
              </a: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83400" y="349200"/>
              <a:ext cx="30801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จัดพิธีกรรมที่เรียบง่ายประหยัดมีประโยชน์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และถูกต้องตามหลักพระพุทธศาสน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663680" y="712800"/>
              <a:ext cx="2409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ความรู้เบื้องต้นเกี่ยวกับศาสนสถา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007480" y="955800"/>
              <a:ext cx="1863720" cy="5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สร้างความสำนึกในประโยชน์และ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คุณค่าของการรักษาศีล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87160" y="1319040"/>
              <a:ext cx="15120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เข้าค่ายคุณธรรม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37840" y="1562040"/>
              <a:ext cx="19998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แสดงตนเป็นพุทธมามกะ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10880" y="2262240"/>
              <a:ext cx="11552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เครื่องสังฆทา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95400" y="2041560"/>
              <a:ext cx="12909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พิธีถวายสังฆทา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64600" y="1855800"/>
              <a:ext cx="17938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พิธีกรรมในการทำงานบุญงานมงคล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36160" y="3086280"/>
              <a:ext cx="2216160" cy="6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ไหว้พระรัตนตรัย บิดามารด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ครูอาจารย์ ผู้ที่เคารพนับถือ และ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บุคคลตามฐานะ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730560" y="2670120"/>
              <a:ext cx="15822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ปฏิบัติต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ขณะประกอบพิธีกรรม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274600" y="2395440"/>
              <a:ext cx="2199240" cy="6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ขวนขวายและการมีส่วนร่วม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ในการจัดเตรียมสถานที่ประกอบ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พิธีกรรมทางพระพุทธศาสน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713640" y="3233880"/>
              <a:ext cx="1606680" cy="6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กราบพระรัตนตรัย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ราบบุคคลตามฐานะ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และการกราบศพ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72280" y="673200"/>
              <a:ext cx="68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พุทธสาวก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72280" y="110484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หน้าที่ชาวพุทธ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372280" y="163836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ชาวพุทธตัวอย่าง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566040" y="23749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ศาสนพิธี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00880" y="300996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มรรยาทชาวพุทธ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18" name=""/>
            <p:cNvCxnSpPr>
              <a:stCxn id="813" idx="3"/>
              <a:endCxn id="798" idx="1"/>
            </p:cNvCxnSpPr>
            <p:nvPr/>
          </p:nvCxnSpPr>
          <p:spPr>
            <a:xfrm>
              <a:off x="6057720" y="825120"/>
              <a:ext cx="1544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9" name=""/>
            <p:cNvCxnSpPr/>
            <p:nvPr/>
          </p:nvCxnSpPr>
          <p:spPr>
            <a:xfrm flipV="1">
              <a:off x="6305040" y="406080"/>
              <a:ext cx="1721880" cy="851760"/>
            </a:xfrm>
            <a:prstGeom prst="bentConnector3">
              <a:avLst>
                <a:gd name="adj1" fmla="val 9251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0" name=""/>
            <p:cNvCxnSpPr/>
            <p:nvPr/>
          </p:nvCxnSpPr>
          <p:spPr>
            <a:xfrm flipV="1">
              <a:off x="6296040" y="748800"/>
              <a:ext cx="1721520" cy="509040"/>
            </a:xfrm>
            <a:prstGeom prst="bentConnector3">
              <a:avLst>
                <a:gd name="adj1" fmla="val 9307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/>
            <p:nvPr/>
          </p:nvCxnSpPr>
          <p:spPr>
            <a:xfrm flipV="1">
              <a:off x="6305040" y="1063440"/>
              <a:ext cx="1721880" cy="194400"/>
            </a:xfrm>
            <a:prstGeom prst="bentConnector3">
              <a:avLst>
                <a:gd name="adj1" fmla="val 9251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/>
            <p:nvPr/>
          </p:nvCxnSpPr>
          <p:spPr>
            <a:xfrm>
              <a:off x="7803720" y="1257480"/>
              <a:ext cx="197640" cy="127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/>
            <p:nvPr/>
          </p:nvCxnSpPr>
          <p:spPr>
            <a:xfrm>
              <a:off x="6296040" y="1257480"/>
              <a:ext cx="1721520" cy="406800"/>
            </a:xfrm>
            <a:prstGeom prst="bentConnector3">
              <a:avLst>
                <a:gd name="adj1" fmla="val 9316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4" name=""/>
            <p:cNvCxnSpPr/>
            <p:nvPr/>
          </p:nvCxnSpPr>
          <p:spPr>
            <a:xfrm flipV="1" rot="16200000">
              <a:off x="3045240" y="1051200"/>
              <a:ext cx="289440" cy="510120"/>
            </a:xfrm>
            <a:prstGeom prst="bentConnector3">
              <a:avLst>
                <a:gd name="adj1" fmla="val 6911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5" name=""/>
            <p:cNvCxnSpPr>
              <a:stCxn id="703" idx="4"/>
              <a:endCxn id="781" idx="0"/>
            </p:cNvCxnSpPr>
            <p:nvPr/>
          </p:nvCxnSpPr>
          <p:spPr>
            <a:xfrm rot="5400000">
              <a:off x="3872880" y="3701520"/>
              <a:ext cx="316440" cy="443880"/>
            </a:xfrm>
            <a:prstGeom prst="bentConnector3">
              <a:avLst>
                <a:gd name="adj1" fmla="val 466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6" name=""/>
            <p:cNvCxnSpPr>
              <a:stCxn id="703" idx="4"/>
              <a:endCxn id="827" idx="0"/>
            </p:cNvCxnSpPr>
            <p:nvPr/>
          </p:nvCxnSpPr>
          <p:spPr>
            <a:xfrm flipV="1" rot="16200000">
              <a:off x="2224440" y="1737000"/>
              <a:ext cx="451440" cy="3606120"/>
            </a:xfrm>
            <a:prstGeom prst="bentConnector5">
              <a:avLst>
                <a:gd name="adj1" fmla="val -29529"/>
                <a:gd name="adj2" fmla="val 33895"/>
                <a:gd name="adj3" fmla="val 12777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8" name=""/>
            <p:cNvCxnSpPr>
              <a:stCxn id="703" idx="4"/>
              <a:endCxn id="780" idx="0"/>
            </p:cNvCxnSpPr>
            <p:nvPr/>
          </p:nvCxnSpPr>
          <p:spPr>
            <a:xfrm rot="5400000">
              <a:off x="3472920" y="3301560"/>
              <a:ext cx="316440" cy="1243800"/>
            </a:xfrm>
            <a:prstGeom prst="bentConnector3">
              <a:avLst>
                <a:gd name="adj1" fmla="val 466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9" name=""/>
            <p:cNvCxnSpPr>
              <a:stCxn id="703" idx="4"/>
              <a:endCxn id="782" idx="0"/>
            </p:cNvCxnSpPr>
            <p:nvPr/>
          </p:nvCxnSpPr>
          <p:spPr>
            <a:xfrm flipH="1" rot="16200000">
              <a:off x="4254480" y="3763440"/>
              <a:ext cx="316440" cy="319680"/>
            </a:xfrm>
            <a:prstGeom prst="bentConnector3">
              <a:avLst>
                <a:gd name="adj1" fmla="val 466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0" name=""/>
            <p:cNvCxnSpPr>
              <a:stCxn id="703" idx="4"/>
              <a:endCxn id="783" idx="0"/>
            </p:cNvCxnSpPr>
            <p:nvPr/>
          </p:nvCxnSpPr>
          <p:spPr>
            <a:xfrm flipH="1" rot="16200000">
              <a:off x="4653720" y="3363480"/>
              <a:ext cx="316440" cy="1119960"/>
            </a:xfrm>
            <a:prstGeom prst="bentConnector3">
              <a:avLst>
                <a:gd name="adj1" fmla="val 466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1" name=""/>
            <p:cNvCxnSpPr>
              <a:stCxn id="703" idx="4"/>
              <a:endCxn id="784" idx="0"/>
            </p:cNvCxnSpPr>
            <p:nvPr/>
          </p:nvCxnSpPr>
          <p:spPr>
            <a:xfrm flipH="1" rot="16200000">
              <a:off x="5091840" y="2925360"/>
              <a:ext cx="316440" cy="1996200"/>
            </a:xfrm>
            <a:prstGeom prst="bentConnector3">
              <a:avLst>
                <a:gd name="adj1" fmla="val 466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2" name=""/>
            <p:cNvCxnSpPr>
              <a:stCxn id="703" idx="4"/>
              <a:endCxn id="833" idx="0"/>
            </p:cNvCxnSpPr>
            <p:nvPr/>
          </p:nvCxnSpPr>
          <p:spPr>
            <a:xfrm flipH="1" rot="16200000">
              <a:off x="5645160" y="2372760"/>
              <a:ext cx="316440" cy="3101040"/>
            </a:xfrm>
            <a:prstGeom prst="bentConnector3">
              <a:avLst>
                <a:gd name="adj1" fmla="val 466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4" name=""/>
            <p:cNvCxnSpPr>
              <a:stCxn id="703" idx="4"/>
              <a:endCxn id="785" idx="0"/>
            </p:cNvCxnSpPr>
            <p:nvPr/>
          </p:nvCxnSpPr>
          <p:spPr>
            <a:xfrm flipH="1" rot="16200000">
              <a:off x="6253920" y="1763280"/>
              <a:ext cx="316440" cy="4320360"/>
            </a:xfrm>
            <a:prstGeom prst="bentConnector3">
              <a:avLst>
                <a:gd name="adj1" fmla="val 466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5" name=""/>
            <p:cNvCxnSpPr/>
            <p:nvPr/>
          </p:nvCxnSpPr>
          <p:spPr>
            <a:xfrm rot="5400000">
              <a:off x="5027040" y="3663720"/>
              <a:ext cx="499320" cy="1944000"/>
            </a:xfrm>
            <a:prstGeom prst="bentConnector4">
              <a:avLst>
                <a:gd name="adj1" fmla="val 34992"/>
                <a:gd name="adj2" fmla="val 11176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6" name=""/>
            <p:cNvCxnSpPr>
              <a:endCxn id="721" idx="3"/>
            </p:cNvCxnSpPr>
            <p:nvPr/>
          </p:nvCxnSpPr>
          <p:spPr>
            <a:xfrm rot="10800000">
              <a:off x="1251720" y="1748880"/>
              <a:ext cx="246960" cy="67320"/>
            </a:xfrm>
            <a:prstGeom prst="bentConnector3">
              <a:avLst>
                <a:gd name="adj1" fmla="val 4963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7" name=""/>
            <p:cNvCxnSpPr>
              <a:endCxn id="720" idx="3"/>
            </p:cNvCxnSpPr>
            <p:nvPr/>
          </p:nvCxnSpPr>
          <p:spPr>
            <a:xfrm flipV="1" rot="10800000">
              <a:off x="1259640" y="1815120"/>
              <a:ext cx="239040" cy="15300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8" name=""/>
            <p:cNvCxnSpPr/>
            <p:nvPr/>
          </p:nvCxnSpPr>
          <p:spPr>
            <a:xfrm flipH="1" flipV="1" rot="5400000">
              <a:off x="3634920" y="970920"/>
              <a:ext cx="289440" cy="670680"/>
            </a:xfrm>
            <a:prstGeom prst="bentConnector3">
              <a:avLst>
                <a:gd name="adj1" fmla="val 7023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9" name=""/>
            <p:cNvCxnSpPr>
              <a:stCxn id="704" idx="0"/>
            </p:cNvCxnSpPr>
            <p:nvPr/>
          </p:nvCxnSpPr>
          <p:spPr>
            <a:xfrm rot="5400000">
              <a:off x="2550240" y="921240"/>
              <a:ext cx="375480" cy="1413720"/>
            </a:xfrm>
            <a:prstGeom prst="bentConnector4">
              <a:avLst>
                <a:gd name="adj1" fmla="val -51247"/>
                <a:gd name="adj2" fmla="val 9009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0" name=""/>
            <p:cNvCxnSpPr>
              <a:endCxn id="841" idx="6"/>
            </p:cNvCxnSpPr>
            <p:nvPr/>
          </p:nvCxnSpPr>
          <p:spPr>
            <a:xfrm flipV="1" rot="16200000">
              <a:off x="1843920" y="923400"/>
              <a:ext cx="509040" cy="159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42" name=""/>
            <p:cNvSpPr/>
            <p:nvPr/>
          </p:nvSpPr>
          <p:spPr>
            <a:xfrm>
              <a:off x="2552760" y="2171880"/>
              <a:ext cx="7621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วันสำคัญทาง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พระพุทธศาสนา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43" name=""/>
            <p:cNvCxnSpPr/>
            <p:nvPr/>
          </p:nvCxnSpPr>
          <p:spPr>
            <a:xfrm rot="5400000">
              <a:off x="2833200" y="1559520"/>
              <a:ext cx="731160" cy="511920"/>
            </a:xfrm>
            <a:prstGeom prst="bentConnector5">
              <a:avLst>
                <a:gd name="adj1" fmla="val -27389"/>
                <a:gd name="adj2" fmla="val 250879"/>
                <a:gd name="adj3" fmla="val 84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4" name=""/>
            <p:cNvCxnSpPr>
              <a:stCxn id="797" idx="0"/>
              <a:endCxn id="815" idx="1"/>
            </p:cNvCxnSpPr>
            <p:nvPr/>
          </p:nvCxnSpPr>
          <p:spPr>
            <a:xfrm flipV="1" rot="16200000">
              <a:off x="5258160" y="1903680"/>
              <a:ext cx="629280" cy="402120"/>
            </a:xfrm>
            <a:prstGeom prst="bentConnector4">
              <a:avLst>
                <a:gd name="adj1" fmla="val 36348"/>
                <a:gd name="adj2" fmla="val 15689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5" name=""/>
            <p:cNvCxnSpPr/>
            <p:nvPr/>
          </p:nvCxnSpPr>
          <p:spPr>
            <a:xfrm flipH="1" flipV="1" rot="5400000">
              <a:off x="6299640" y="1860840"/>
              <a:ext cx="32400" cy="1085040"/>
            </a:xfrm>
            <a:prstGeom prst="bentConnector3">
              <a:avLst>
                <a:gd name="adj1" fmla="val 81910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6" name=""/>
            <p:cNvCxnSpPr/>
            <p:nvPr/>
          </p:nvCxnSpPr>
          <p:spPr>
            <a:xfrm flipH="1" rot="16200000">
              <a:off x="5607360" y="2533320"/>
              <a:ext cx="654840" cy="322920"/>
            </a:xfrm>
            <a:prstGeom prst="bentConnector5">
              <a:avLst>
                <a:gd name="adj1" fmla="val -32013"/>
                <a:gd name="adj2" fmla="val 242745"/>
                <a:gd name="adj3" fmla="val 88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7" name=""/>
            <p:cNvCxnSpPr/>
            <p:nvPr/>
          </p:nvCxnSpPr>
          <p:spPr>
            <a:xfrm flipV="1">
              <a:off x="6375240" y="1459800"/>
              <a:ext cx="131040" cy="330840"/>
            </a:xfrm>
            <a:prstGeom prst="bentConnector3">
              <a:avLst>
                <a:gd name="adj1" fmla="val 4986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8" name=""/>
            <p:cNvCxnSpPr/>
            <p:nvPr/>
          </p:nvCxnSpPr>
          <p:spPr>
            <a:xfrm flipV="1">
              <a:off x="6374880" y="1662840"/>
              <a:ext cx="135720" cy="127800"/>
            </a:xfrm>
            <a:prstGeom prst="bentConnector3">
              <a:avLst>
                <a:gd name="adj1" fmla="val 4920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9" name=""/>
            <p:cNvCxnSpPr>
              <a:stCxn id="816" idx="3"/>
              <a:endCxn id="808" idx="1"/>
            </p:cNvCxnSpPr>
            <p:nvPr/>
          </p:nvCxnSpPr>
          <p:spPr>
            <a:xfrm flipV="1">
              <a:off x="7251480" y="1982520"/>
              <a:ext cx="213480" cy="545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0" name=""/>
            <p:cNvCxnSpPr>
              <a:stCxn id="816" idx="3"/>
              <a:endCxn id="807" idx="1"/>
            </p:cNvCxnSpPr>
            <p:nvPr/>
          </p:nvCxnSpPr>
          <p:spPr>
            <a:xfrm flipV="1">
              <a:off x="7251480" y="2168640"/>
              <a:ext cx="208440" cy="358920"/>
            </a:xfrm>
            <a:prstGeom prst="bentConnector3">
              <a:avLst>
                <a:gd name="adj1" fmla="val 4948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1" name=""/>
            <p:cNvCxnSpPr>
              <a:stCxn id="816" idx="3"/>
              <a:endCxn id="806" idx="1"/>
            </p:cNvCxnSpPr>
            <p:nvPr/>
          </p:nvCxnSpPr>
          <p:spPr>
            <a:xfrm flipV="1">
              <a:off x="7251480" y="2369880"/>
              <a:ext cx="207000" cy="157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2" name=""/>
            <p:cNvCxnSpPr/>
            <p:nvPr/>
          </p:nvCxnSpPr>
          <p:spPr>
            <a:xfrm flipV="1">
              <a:off x="6654960" y="2916000"/>
              <a:ext cx="336600" cy="284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3" name=""/>
            <p:cNvCxnSpPr/>
            <p:nvPr/>
          </p:nvCxnSpPr>
          <p:spPr>
            <a:xfrm>
              <a:off x="6654960" y="3200400"/>
              <a:ext cx="336600" cy="380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4" name=""/>
            <p:cNvCxnSpPr>
              <a:stCxn id="797" idx="2"/>
              <a:endCxn id="707" idx="3"/>
            </p:cNvCxnSpPr>
            <p:nvPr/>
          </p:nvCxnSpPr>
          <p:spPr>
            <a:xfrm flipV="1" rot="10800000">
              <a:off x="4933080" y="2679480"/>
              <a:ext cx="267120" cy="8640"/>
            </a:xfrm>
            <a:prstGeom prst="bentConnector3">
              <a:avLst>
                <a:gd name="adj1" fmla="val 51821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5" name=""/>
            <p:cNvSpPr/>
            <p:nvPr/>
          </p:nvSpPr>
          <p:spPr>
            <a:xfrm>
              <a:off x="0" y="2638440"/>
              <a:ext cx="72864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000" spc="-1" strike="noStrike">
                  <a:solidFill>
                    <a:srgbClr val="000000"/>
                  </a:solidFill>
                  <a:latin typeface="Angsana New"/>
                </a:rPr>
                <a:t>วัน</a:t>
              </a:r>
              <a:r>
                <a:rPr b="0" lang="th-TH" sz="10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อัฏฐมีบูชา</a:t>
              </a:r>
              <a:endParaRPr b="0" lang="en-US" sz="1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56" name=""/>
            <p:cNvCxnSpPr>
              <a:stCxn id="717" idx="1"/>
              <a:endCxn id="714" idx="3"/>
            </p:cNvCxnSpPr>
            <p:nvPr/>
          </p:nvCxnSpPr>
          <p:spPr>
            <a:xfrm rot="10800000">
              <a:off x="723240" y="2424960"/>
              <a:ext cx="251640" cy="254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7" name=""/>
            <p:cNvCxnSpPr>
              <a:stCxn id="717" idx="1"/>
              <a:endCxn id="705" idx="3"/>
            </p:cNvCxnSpPr>
            <p:nvPr/>
          </p:nvCxnSpPr>
          <p:spPr>
            <a:xfrm rot="10800000">
              <a:off x="708840" y="2577240"/>
              <a:ext cx="266040" cy="10260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8" name=""/>
            <p:cNvCxnSpPr>
              <a:stCxn id="717" idx="1"/>
              <a:endCxn id="855" idx="3"/>
            </p:cNvCxnSpPr>
            <p:nvPr/>
          </p:nvCxnSpPr>
          <p:spPr>
            <a:xfrm flipV="1" rot="10800000">
              <a:off x="727920" y="2678760"/>
              <a:ext cx="246960" cy="60840"/>
            </a:xfrm>
            <a:prstGeom prst="bentConnector3">
              <a:avLst>
                <a:gd name="adj1" fmla="val 4963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9" name=""/>
            <p:cNvCxnSpPr>
              <a:stCxn id="717" idx="1"/>
              <a:endCxn id="718" idx="3"/>
            </p:cNvCxnSpPr>
            <p:nvPr/>
          </p:nvCxnSpPr>
          <p:spPr>
            <a:xfrm flipV="1" rot="10800000">
              <a:off x="735840" y="2679480"/>
              <a:ext cx="239040" cy="38304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0" name=""/>
            <p:cNvCxnSpPr>
              <a:stCxn id="717" idx="1"/>
              <a:endCxn id="706" idx="3"/>
            </p:cNvCxnSpPr>
            <p:nvPr/>
          </p:nvCxnSpPr>
          <p:spPr>
            <a:xfrm flipV="1" rot="10800000">
              <a:off x="719280" y="2678760"/>
              <a:ext cx="255960" cy="230760"/>
            </a:xfrm>
            <a:prstGeom prst="bentConnector3">
              <a:avLst>
                <a:gd name="adj1" fmla="val 4971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1" name=""/>
            <p:cNvCxnSpPr/>
            <p:nvPr/>
          </p:nvCxnSpPr>
          <p:spPr>
            <a:xfrm rot="10800000">
              <a:off x="2245680" y="2242440"/>
              <a:ext cx="288000" cy="158040"/>
            </a:xfrm>
            <a:prstGeom prst="bentConnector3">
              <a:avLst>
                <a:gd name="adj1" fmla="val 496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2" name=""/>
            <p:cNvCxnSpPr>
              <a:stCxn id="842" idx="1"/>
              <a:endCxn id="717" idx="3"/>
            </p:cNvCxnSpPr>
            <p:nvPr/>
          </p:nvCxnSpPr>
          <p:spPr>
            <a:xfrm flipV="1" rot="10800000">
              <a:off x="2226600" y="2400120"/>
              <a:ext cx="326160" cy="280080"/>
            </a:xfrm>
            <a:prstGeom prst="bentConnector3">
              <a:avLst>
                <a:gd name="adj1" fmla="val 4972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41" name=""/>
            <p:cNvSpPr/>
            <p:nvPr/>
          </p:nvSpPr>
          <p:spPr>
            <a:xfrm>
              <a:off x="1333440" y="558720"/>
              <a:ext cx="6858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498680" y="1663560"/>
              <a:ext cx="5331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523880" y="3378240"/>
              <a:ext cx="685800" cy="34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666880" y="4051440"/>
              <a:ext cx="685800" cy="34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4064040"/>
              <a:ext cx="685800" cy="34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29280" y="4051440"/>
              <a:ext cx="685800" cy="34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029200" y="4064040"/>
              <a:ext cx="685800" cy="34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892840" y="4038480"/>
              <a:ext cx="685800" cy="34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24520" y="4081320"/>
              <a:ext cx="10573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พุทธศาสนสุภาษิต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001000" y="4038480"/>
              <a:ext cx="10666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829480" y="5295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229600" y="44197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22960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229600" y="4902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076640" y="48769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076640" y="5791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57480" y="4762440"/>
              <a:ext cx="838080" cy="457200"/>
            </a:xfrm>
            <a:prstGeom prst="hexagon">
              <a:avLst>
                <a:gd name="adj" fmla="val 45827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314880"/>
              <a:ext cx="6858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511960" y="3022560"/>
              <a:ext cx="11430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553080" y="2362320"/>
              <a:ext cx="685800" cy="34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81880" y="2743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781680" y="3200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381880" y="27432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381880" y="34923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43680" y="8002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143680" y="1295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143680" y="81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308560" y="1638360"/>
              <a:ext cx="106668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72280" y="1117440"/>
              <a:ext cx="92700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372280" y="673200"/>
              <a:ext cx="68580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254480" y="29592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838000" y="0"/>
              <a:ext cx="39636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๙๙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4084560" y="2895480"/>
            <a:ext cx="296388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0" lang="hi-IN" sz="75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3" name=""/>
          <p:cNvSpPr/>
          <p:nvPr/>
        </p:nvSpPr>
        <p:spPr>
          <a:xfrm>
            <a:off x="9262440" y="190440"/>
            <a:ext cx="5335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๑๐๐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4389480" y="2654280"/>
            <a:ext cx="1463760" cy="148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4d4d4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5" name=""/>
          <p:cNvSpPr/>
          <p:nvPr/>
        </p:nvSpPr>
        <p:spPr>
          <a:xfrm>
            <a:off x="1548720" y="193680"/>
            <a:ext cx="719460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สาระการเรียนรู้พระพุทธ  ชั้นประถมศึกษาปีที่ ๕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6" name=""/>
          <p:cNvSpPr/>
          <p:nvPr/>
        </p:nvSpPr>
        <p:spPr>
          <a:xfrm>
            <a:off x="518040" y="5273640"/>
            <a:ext cx="8532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วิสาขบูช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7" name=""/>
          <p:cNvSpPr/>
          <p:nvPr/>
        </p:nvSpPr>
        <p:spPr>
          <a:xfrm>
            <a:off x="474120" y="5556240"/>
            <a:ext cx="90972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อัฏฐมีบูช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8" name=""/>
          <p:cNvSpPr/>
          <p:nvPr/>
        </p:nvSpPr>
        <p:spPr>
          <a:xfrm>
            <a:off x="330480" y="5838840"/>
            <a:ext cx="106668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อาสาฬหบูช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9" name=""/>
          <p:cNvSpPr/>
          <p:nvPr/>
        </p:nvSpPr>
        <p:spPr>
          <a:xfrm>
            <a:off x="4343400" y="685800"/>
            <a:ext cx="1486080" cy="1486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มรด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ทางวัฒนธรรม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ล้ำค่าของชาติไทย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0" name=""/>
          <p:cNvSpPr/>
          <p:nvPr/>
        </p:nvSpPr>
        <p:spPr>
          <a:xfrm>
            <a:off x="3238560" y="4305240"/>
            <a:ext cx="1143000" cy="1143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สำคัญทาง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01" name=""/>
          <p:cNvCxnSpPr>
            <a:stCxn id="902" idx="1"/>
            <a:endCxn id="896" idx="3"/>
          </p:cNvCxnSpPr>
          <p:nvPr/>
        </p:nvCxnSpPr>
        <p:spPr>
          <a:xfrm rot="10800000">
            <a:off x="1256760" y="5355360"/>
            <a:ext cx="254520" cy="27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2" idx="1"/>
            <a:endCxn id="897" idx="3"/>
          </p:cNvCxnSpPr>
          <p:nvPr/>
        </p:nvCxnSpPr>
        <p:spPr>
          <a:xfrm flipV="1" rot="10800000">
            <a:off x="1256760" y="5626440"/>
            <a:ext cx="254520" cy="11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4" name=""/>
          <p:cNvCxnSpPr>
            <a:stCxn id="902" idx="1"/>
            <a:endCxn id="898" idx="3"/>
          </p:cNvCxnSpPr>
          <p:nvPr/>
        </p:nvCxnSpPr>
        <p:spPr>
          <a:xfrm flipV="1" rot="10800000">
            <a:off x="1256760" y="5627160"/>
            <a:ext cx="254520" cy="29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05" name=""/>
          <p:cNvSpPr/>
          <p:nvPr/>
        </p:nvSpPr>
        <p:spPr>
          <a:xfrm>
            <a:off x="571320" y="4991040"/>
            <a:ext cx="78156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มาฆบูช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06" name=""/>
          <p:cNvCxnSpPr>
            <a:stCxn id="902" idx="1"/>
            <a:endCxn id="905" idx="3"/>
          </p:cNvCxnSpPr>
          <p:nvPr/>
        </p:nvCxnSpPr>
        <p:spPr>
          <a:xfrm rot="10800000">
            <a:off x="1256760" y="5072760"/>
            <a:ext cx="254520" cy="554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02" name=""/>
          <p:cNvSpPr/>
          <p:nvPr/>
        </p:nvSpPr>
        <p:spPr>
          <a:xfrm>
            <a:off x="1293480" y="5295960"/>
            <a:ext cx="1616760" cy="654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หมายความสำคัญ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โยชน์การเข้าร่ว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ิจกรรม หลักปฏิบั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7" name=""/>
          <p:cNvSpPr/>
          <p:nvPr/>
        </p:nvSpPr>
        <p:spPr>
          <a:xfrm>
            <a:off x="441720" y="6121440"/>
            <a:ext cx="95544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ธรรมสวน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08" name=""/>
          <p:cNvCxnSpPr>
            <a:stCxn id="902" idx="1"/>
            <a:endCxn id="907" idx="3"/>
          </p:cNvCxnSpPr>
          <p:nvPr/>
        </p:nvCxnSpPr>
        <p:spPr>
          <a:xfrm flipV="1" rot="10800000">
            <a:off x="1256760" y="5626440"/>
            <a:ext cx="254520" cy="57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2781360" y="2247840"/>
            <a:ext cx="900000" cy="900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ด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10" name=""/>
          <p:cNvSpPr/>
          <p:nvPr/>
        </p:nvSpPr>
        <p:spPr>
          <a:xfrm>
            <a:off x="1361880" y="2443320"/>
            <a:ext cx="128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ณณาโรหชาด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11" name=""/>
          <p:cNvSpPr/>
          <p:nvPr/>
        </p:nvSpPr>
        <p:spPr>
          <a:xfrm>
            <a:off x="1513080" y="2103480"/>
            <a:ext cx="11077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จูฬเสฏฐิชาด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12" name=""/>
          <p:cNvCxnSpPr>
            <a:stCxn id="909" idx="2"/>
            <a:endCxn id="911" idx="3"/>
          </p:cNvCxnSpPr>
          <p:nvPr/>
        </p:nvCxnSpPr>
        <p:spPr>
          <a:xfrm rot="10800000">
            <a:off x="2461320" y="2196360"/>
            <a:ext cx="310320" cy="502560"/>
          </a:xfrm>
          <a:prstGeom prst="bentConnector3">
            <a:avLst>
              <a:gd name="adj1" fmla="val 4819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3" name=""/>
          <p:cNvCxnSpPr>
            <a:stCxn id="909" idx="2"/>
            <a:endCxn id="910" idx="3"/>
          </p:cNvCxnSpPr>
          <p:nvPr/>
        </p:nvCxnSpPr>
        <p:spPr>
          <a:xfrm rot="10800000">
            <a:off x="2461320" y="2548800"/>
            <a:ext cx="310320" cy="150120"/>
          </a:xfrm>
          <a:prstGeom prst="bentConnector3">
            <a:avLst>
              <a:gd name="adj1" fmla="val 4819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14" name=""/>
          <p:cNvSpPr/>
          <p:nvPr/>
        </p:nvSpPr>
        <p:spPr>
          <a:xfrm>
            <a:off x="6058080" y="4457880"/>
            <a:ext cx="900000" cy="900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ประวัติ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15" name=""/>
          <p:cNvCxnSpPr>
            <a:stCxn id="900" idx="2"/>
            <a:endCxn id="916" idx="3"/>
          </p:cNvCxnSpPr>
          <p:nvPr/>
        </p:nvCxnSpPr>
        <p:spPr>
          <a:xfrm rot="10800000">
            <a:off x="2692440" y="4326840"/>
            <a:ext cx="536760" cy="550080"/>
          </a:xfrm>
          <a:prstGeom prst="bentConnector3">
            <a:avLst>
              <a:gd name="adj1" fmla="val 4912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1636200" y="4102200"/>
            <a:ext cx="1234440" cy="441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รุปวันสำคัญทา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17" name=""/>
          <p:cNvCxnSpPr>
            <a:stCxn id="900" idx="2"/>
            <a:endCxn id="902" idx="3"/>
          </p:cNvCxnSpPr>
          <p:nvPr/>
        </p:nvCxnSpPr>
        <p:spPr>
          <a:xfrm flipV="1" rot="10800000">
            <a:off x="2692440" y="4875840"/>
            <a:ext cx="536760" cy="751320"/>
          </a:xfrm>
          <a:prstGeom prst="bentConnector3">
            <a:avLst>
              <a:gd name="adj1" fmla="val 4912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6362640" y="1943280"/>
            <a:ext cx="1219320" cy="1218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หลักในการ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ัฒนาชาติไทย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19" name=""/>
          <p:cNvSpPr/>
          <p:nvPr/>
        </p:nvSpPr>
        <p:spPr>
          <a:xfrm>
            <a:off x="7117920" y="5283360"/>
            <a:ext cx="14932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สด็จกรุงกบิลพัสดุ์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0" name=""/>
          <p:cNvSpPr/>
          <p:nvPr/>
        </p:nvSpPr>
        <p:spPr>
          <a:xfrm>
            <a:off x="7184880" y="4832280"/>
            <a:ext cx="11260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กิจสำคัญ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21" name=""/>
          <p:cNvCxnSpPr>
            <a:stCxn id="914" idx="6"/>
            <a:endCxn id="919" idx="1"/>
          </p:cNvCxnSpPr>
          <p:nvPr/>
        </p:nvCxnSpPr>
        <p:spPr>
          <a:xfrm>
            <a:off x="6967440" y="4908240"/>
            <a:ext cx="386640" cy="469080"/>
          </a:xfrm>
          <a:prstGeom prst="bentConnector3">
            <a:avLst>
              <a:gd name="adj1" fmla="val 485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stCxn id="914" idx="6"/>
            <a:endCxn id="920" idx="1"/>
          </p:cNvCxnSpPr>
          <p:nvPr/>
        </p:nvCxnSpPr>
        <p:spPr>
          <a:xfrm>
            <a:off x="6967440" y="4908600"/>
            <a:ext cx="386640" cy="18000"/>
          </a:xfrm>
          <a:prstGeom prst="bentConnector3">
            <a:avLst>
              <a:gd name="adj1" fmla="val 485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3" name=""/>
          <p:cNvCxnSpPr>
            <a:stCxn id="894" idx="7"/>
            <a:endCxn id="918" idx="2"/>
          </p:cNvCxnSpPr>
          <p:nvPr/>
        </p:nvCxnSpPr>
        <p:spPr>
          <a:xfrm flipV="1">
            <a:off x="5638320" y="2552040"/>
            <a:ext cx="715320" cy="291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24" name=""/>
          <p:cNvCxnSpPr>
            <a:stCxn id="899" idx="4"/>
            <a:endCxn id="894" idx="0"/>
          </p:cNvCxnSpPr>
          <p:nvPr/>
        </p:nvCxnSpPr>
        <p:spPr>
          <a:xfrm>
            <a:off x="5086080" y="2180880"/>
            <a:ext cx="35640" cy="445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5" name=""/>
          <p:cNvCxnSpPr>
            <a:stCxn id="918" idx="2"/>
            <a:endCxn id="894" idx="7"/>
          </p:cNvCxnSpPr>
          <p:nvPr/>
        </p:nvCxnSpPr>
        <p:spPr>
          <a:xfrm flipH="1">
            <a:off x="5637960" y="2552400"/>
            <a:ext cx="715320" cy="29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9" idx="6"/>
            <a:endCxn id="894" idx="1"/>
          </p:cNvCxnSpPr>
          <p:nvPr/>
        </p:nvCxnSpPr>
        <p:spPr>
          <a:xfrm>
            <a:off x="3690720" y="2698560"/>
            <a:ext cx="91332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0" idx="7"/>
            <a:endCxn id="894" idx="3"/>
          </p:cNvCxnSpPr>
          <p:nvPr/>
        </p:nvCxnSpPr>
        <p:spPr>
          <a:xfrm flipV="1">
            <a:off x="4214880" y="3953880"/>
            <a:ext cx="389520" cy="508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4" idx="1"/>
            <a:endCxn id="894" idx="5"/>
          </p:cNvCxnSpPr>
          <p:nvPr/>
        </p:nvCxnSpPr>
        <p:spPr>
          <a:xfrm flipH="1" flipV="1">
            <a:off x="5638320" y="3953880"/>
            <a:ext cx="551520" cy="62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14" idx="6"/>
            <a:endCxn id="930" idx="1"/>
          </p:cNvCxnSpPr>
          <p:nvPr/>
        </p:nvCxnSpPr>
        <p:spPr>
          <a:xfrm flipV="1">
            <a:off x="6967440" y="4474800"/>
            <a:ext cx="386640" cy="434160"/>
          </a:xfrm>
          <a:prstGeom prst="bentConnector3">
            <a:avLst>
              <a:gd name="adj1" fmla="val 4855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0" name=""/>
          <p:cNvSpPr/>
          <p:nvPr/>
        </p:nvSpPr>
        <p:spPr>
          <a:xfrm>
            <a:off x="7173720" y="4381560"/>
            <a:ext cx="12434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รุปพุทธประวัติ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1" name=""/>
          <p:cNvSpPr/>
          <p:nvPr/>
        </p:nvSpPr>
        <p:spPr>
          <a:xfrm>
            <a:off x="9353880" y="190440"/>
            <a:ext cx="3502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๑๐๑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084560" y="2895480"/>
            <a:ext cx="296388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0" lang="hi-IN" sz="75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3" name=""/>
          <p:cNvSpPr/>
          <p:nvPr/>
        </p:nvSpPr>
        <p:spPr>
          <a:xfrm>
            <a:off x="9257040" y="190440"/>
            <a:ext cx="5428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๑๐๒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"/>
          <p:cNvGrpSpPr/>
          <p:nvPr/>
        </p:nvGrpSpPr>
        <p:grpSpPr>
          <a:xfrm>
            <a:off x="-146520" y="22320"/>
            <a:ext cx="10492200" cy="6349320"/>
            <a:chOff x="-146520" y="22320"/>
            <a:chExt cx="10492200" cy="6349320"/>
          </a:xfrm>
        </p:grpSpPr>
        <p:sp>
          <p:nvSpPr>
            <p:cNvPr id="935" name=""/>
            <p:cNvSpPr/>
            <p:nvPr/>
          </p:nvSpPr>
          <p:spPr>
            <a:xfrm>
              <a:off x="4133880" y="3119400"/>
              <a:ext cx="1346040" cy="13384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33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ธรรม</a:t>
              </a:r>
              <a:endParaRPr b="0" lang="en-US" sz="3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413000" y="22320"/>
              <a:ext cx="74678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ผังมโนทัศน์สาระการเรียนรู้พระธรรม  ชั้นประถมศึกษาปีที่ ๕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05240" y="1333440"/>
              <a:ext cx="900000" cy="900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โอวาท ๓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95960" y="3924360"/>
              <a:ext cx="1435320" cy="2278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แบ่งพระไตรปิฎก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50800" y="4383000"/>
              <a:ext cx="1746360" cy="2278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รื่องน่ารู้จากพระไตรปิฎก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650600" y="1265400"/>
              <a:ext cx="202212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ไม่สันโดษ </a:t>
              </a:r>
              <a:r>
                <a:rPr b="0" lang="en-US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( </a:t>
              </a: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ในกุศลธรรม </a:t>
              </a:r>
              <a:r>
                <a:rPr b="0" lang="en-US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796000" y="1994040"/>
              <a:ext cx="900000" cy="900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ไตรสิกขา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584440" y="2854440"/>
              <a:ext cx="900000" cy="900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ุทธศาสน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ุภาษิต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-146520" y="2095560"/>
              <a:ext cx="2714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วิริเยน ทุกฺขมจฺเจติ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</a:t>
              </a: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คนจะล่วงทุกข์ได้ เพราะความเพียร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1560" y="2705040"/>
              <a:ext cx="2057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ปญฺา  โลกสฺมิ  ปชฺโชโต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ปัญญาคือแสงสว่างในโลก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76960" y="4875120"/>
              <a:ext cx="11977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สรพิษร้าย ๔ ตัว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000280" y="419040"/>
              <a:ext cx="64620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บญจศีล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968240" y="853920"/>
              <a:ext cx="81360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บญจธรรม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934400" y="1060560"/>
              <a:ext cx="110952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บุญกิริยาวัตถุ ๓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006400" y="1790640"/>
              <a:ext cx="6782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มงคล ๓๘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155360" y="519120"/>
              <a:ext cx="583560" cy="2278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ไม่ทำชั่ว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076520" y="1370160"/>
              <a:ext cx="720720" cy="2278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ทำความดี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683920" y="2130480"/>
              <a:ext cx="75888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ใฝ่รู้  ใฝ่เรียน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34040" y="2171880"/>
              <a:ext cx="1121400" cy="2278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ทำจิตให้บริสุทธิ์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16600" y="3416400"/>
              <a:ext cx="211356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วดมนต์ไหว้พระสรรเสริญ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คุณพระรัตนตรัยและแผ่เมตตา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31000" y="3914640"/>
              <a:ext cx="211356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รู้วิธีปฏิบัติและประโยชน์ของ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บริหารจิตและเจริญปัญญา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740360" y="4414680"/>
              <a:ext cx="1920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ฝึกการยืน เดิน นั่ง และนอน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ย่างมีสติ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637760" y="5540400"/>
              <a:ext cx="270792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ฝึกให้มีสมาธิในการฟัง  การอ่าน การคิด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ถาม การเขียน และการทำงาน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747560" y="1574640"/>
              <a:ext cx="23086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ตัญญูกตเวทีต่อพระพุทธศาสนา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102360" y="3124080"/>
              <a:ext cx="900000" cy="90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หลักกรรม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711080" y="952560"/>
              <a:ext cx="197208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98360"/>
                  <a:tab algn="l" pos="396720"/>
                  <a:tab algn="l" pos="595440"/>
                  <a:tab algn="l" pos="793800"/>
                  <a:tab algn="l" pos="992160"/>
                  <a:tab algn="l" pos="1190520"/>
                  <a:tab algn="l" pos="1389240"/>
                  <a:tab algn="l" pos="1587600"/>
                  <a:tab algn="l" pos="1785960"/>
                  <a:tab algn="l" pos="1984320"/>
                  <a:tab algn="l" pos="2182680"/>
                  <a:tab algn="l" pos="2381400"/>
                  <a:tab algn="l" pos="2579760"/>
                  <a:tab algn="l" pos="2778120"/>
                  <a:tab algn="l" pos="2976480"/>
                  <a:tab algn="l" pos="3174840"/>
                  <a:tab algn="l" pos="3373560"/>
                  <a:tab algn="l" pos="3571920"/>
                  <a:tab algn="l" pos="3770280"/>
                  <a:tab algn="l" pos="396864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ันโดษ </a:t>
              </a:r>
              <a:r>
                <a:rPr b="0" lang="en-US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( </a:t>
              </a: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ในสิ่งเสพเสวย </a:t>
              </a:r>
              <a:r>
                <a:rPr b="0" lang="en-US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667720" y="1979640"/>
              <a:ext cx="94788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งานไม่อากูล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8840" y="1374840"/>
              <a:ext cx="75420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ิทธิบาท ๔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634160" y="4827600"/>
              <a:ext cx="268668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ฝึกการกำหนดรู้ความรู้สึกเมื่อตาเห็นรูป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หูฟังเสียง จมูกดมกลิ่น ลิ้นลิ้มรส 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ยสัมผัสสิ่งที่มากระทบ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086280" y="1714680"/>
              <a:ext cx="1066680" cy="106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ศัพท์ทาง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พุทธศาสนา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57440" y="4076640"/>
              <a:ext cx="900000" cy="900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ไตรปิฎก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9560" y="631800"/>
              <a:ext cx="7527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บายมุข ๔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97360" y="3549600"/>
              <a:ext cx="58968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วินัย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02760" y="3784680"/>
              <a:ext cx="58824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r">
                <a:lnSpc>
                  <a:spcPct val="5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สูตร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9760" y="3921120"/>
              <a:ext cx="8776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อภิธรรม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031240" y="1254240"/>
              <a:ext cx="4813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คติ ๔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745120" y="2314440"/>
              <a:ext cx="38232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ดทน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11680" y="1714680"/>
              <a:ext cx="5194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ปัญญา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13920" y="1486080"/>
              <a:ext cx="39780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มาธิ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862960" y="1257480"/>
              <a:ext cx="22860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ศีล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843440" y="4991040"/>
              <a:ext cx="900000" cy="900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ริยสัจ ๔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981760" y="4305240"/>
              <a:ext cx="900000" cy="900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ศรัทธา ๔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548160" y="4915080"/>
              <a:ext cx="900000" cy="900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ุทธจริยา ๓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978" name=""/>
            <p:cNvCxnSpPr>
              <a:stCxn id="950" idx="3"/>
              <a:endCxn id="946" idx="1"/>
            </p:cNvCxnSpPr>
            <p:nvPr/>
          </p:nvCxnSpPr>
          <p:spPr>
            <a:xfrm flipV="1">
              <a:off x="7673760" y="532800"/>
              <a:ext cx="423000" cy="105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9" name=""/>
            <p:cNvCxnSpPr>
              <a:stCxn id="950" idx="3"/>
              <a:endCxn id="966" idx="1"/>
            </p:cNvCxnSpPr>
            <p:nvPr/>
          </p:nvCxnSpPr>
          <p:spPr>
            <a:xfrm>
              <a:off x="7673760" y="638280"/>
              <a:ext cx="423000" cy="119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0" name=""/>
            <p:cNvCxnSpPr>
              <a:stCxn id="951" idx="3"/>
              <a:endCxn id="947" idx="1"/>
            </p:cNvCxnSpPr>
            <p:nvPr/>
          </p:nvCxnSpPr>
          <p:spPr>
            <a:xfrm flipV="1">
              <a:off x="7710480" y="968040"/>
              <a:ext cx="386640" cy="521280"/>
            </a:xfrm>
            <a:prstGeom prst="bentConnector3">
              <a:avLst>
                <a:gd name="adj1" fmla="val 4976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1" name=""/>
            <p:cNvCxnSpPr>
              <a:stCxn id="951" idx="3"/>
              <a:endCxn id="948" idx="1"/>
            </p:cNvCxnSpPr>
            <p:nvPr/>
          </p:nvCxnSpPr>
          <p:spPr>
            <a:xfrm flipV="1">
              <a:off x="7710480" y="1153800"/>
              <a:ext cx="386640" cy="335520"/>
            </a:xfrm>
            <a:prstGeom prst="bentConnector3">
              <a:avLst>
                <a:gd name="adj1" fmla="val 4976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2" name=""/>
            <p:cNvCxnSpPr>
              <a:stCxn id="951" idx="3"/>
              <a:endCxn id="970" idx="1"/>
            </p:cNvCxnSpPr>
            <p:nvPr/>
          </p:nvCxnSpPr>
          <p:spPr>
            <a:xfrm flipV="1">
              <a:off x="7710480" y="1325160"/>
              <a:ext cx="386640" cy="164160"/>
            </a:xfrm>
            <a:prstGeom prst="bentConnector3">
              <a:avLst>
                <a:gd name="adj1" fmla="val 4976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3" name=""/>
            <p:cNvCxnSpPr>
              <a:stCxn id="951" idx="3"/>
              <a:endCxn id="962" idx="1"/>
            </p:cNvCxnSpPr>
            <p:nvPr/>
          </p:nvCxnSpPr>
          <p:spPr>
            <a:xfrm>
              <a:off x="7710480" y="1488600"/>
              <a:ext cx="386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4" name=""/>
            <p:cNvCxnSpPr>
              <a:stCxn id="951" idx="3"/>
              <a:endCxn id="958" idx="1"/>
            </p:cNvCxnSpPr>
            <p:nvPr/>
          </p:nvCxnSpPr>
          <p:spPr>
            <a:xfrm>
              <a:off x="7710480" y="1488960"/>
              <a:ext cx="386640" cy="200880"/>
            </a:xfrm>
            <a:prstGeom prst="bentConnector3">
              <a:avLst>
                <a:gd name="adj1" fmla="val 4976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5" name=""/>
            <p:cNvCxnSpPr>
              <a:stCxn id="951" idx="3"/>
              <a:endCxn id="949" idx="1"/>
            </p:cNvCxnSpPr>
            <p:nvPr/>
          </p:nvCxnSpPr>
          <p:spPr>
            <a:xfrm>
              <a:off x="7710480" y="1488960"/>
              <a:ext cx="386640" cy="416880"/>
            </a:xfrm>
            <a:prstGeom prst="bentConnector3">
              <a:avLst>
                <a:gd name="adj1" fmla="val 4976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6" name=""/>
            <p:cNvCxnSpPr>
              <a:stCxn id="949" idx="3"/>
              <a:endCxn id="971" idx="1"/>
            </p:cNvCxnSpPr>
            <p:nvPr/>
          </p:nvCxnSpPr>
          <p:spPr>
            <a:xfrm>
              <a:off x="8594640" y="1905120"/>
              <a:ext cx="207360" cy="491040"/>
            </a:xfrm>
            <a:prstGeom prst="bentConnector3">
              <a:avLst>
                <a:gd name="adj1" fmla="val 4991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7" name=""/>
            <p:cNvCxnSpPr>
              <a:stCxn id="949" idx="3"/>
              <a:endCxn id="952" idx="1"/>
            </p:cNvCxnSpPr>
            <p:nvPr/>
          </p:nvCxnSpPr>
          <p:spPr>
            <a:xfrm>
              <a:off x="8594640" y="1905120"/>
              <a:ext cx="207360" cy="326160"/>
            </a:xfrm>
            <a:prstGeom prst="bentConnector3">
              <a:avLst>
                <a:gd name="adj1" fmla="val 4991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8" name=""/>
            <p:cNvCxnSpPr>
              <a:stCxn id="949" idx="3"/>
              <a:endCxn id="961" idx="1"/>
            </p:cNvCxnSpPr>
            <p:nvPr/>
          </p:nvCxnSpPr>
          <p:spPr>
            <a:xfrm>
              <a:off x="8594640" y="1905120"/>
              <a:ext cx="207360" cy="155880"/>
            </a:xfrm>
            <a:prstGeom prst="bentConnector3">
              <a:avLst>
                <a:gd name="adj1" fmla="val 4991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9" name=""/>
            <p:cNvCxnSpPr>
              <a:stCxn id="941" idx="0"/>
              <a:endCxn id="974" idx="3"/>
            </p:cNvCxnSpPr>
            <p:nvPr/>
          </p:nvCxnSpPr>
          <p:spPr>
            <a:xfrm flipV="1" rot="16200000">
              <a:off x="5845680" y="1582920"/>
              <a:ext cx="613440" cy="189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0" name=""/>
            <p:cNvCxnSpPr>
              <a:stCxn id="941" idx="0"/>
              <a:endCxn id="973" idx="3"/>
            </p:cNvCxnSpPr>
            <p:nvPr/>
          </p:nvCxnSpPr>
          <p:spPr>
            <a:xfrm flipV="1" rot="16200000">
              <a:off x="5959800" y="1697040"/>
              <a:ext cx="384840" cy="189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1" name=""/>
            <p:cNvCxnSpPr>
              <a:stCxn id="941" idx="0"/>
              <a:endCxn id="972" idx="3"/>
            </p:cNvCxnSpPr>
            <p:nvPr/>
          </p:nvCxnSpPr>
          <p:spPr>
            <a:xfrm flipV="1" rot="16200000">
              <a:off x="6074280" y="1811880"/>
              <a:ext cx="155880" cy="189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2" name=""/>
            <p:cNvCxnSpPr>
              <a:stCxn id="964" idx="0"/>
              <a:endCxn id="960" idx="3"/>
            </p:cNvCxnSpPr>
            <p:nvPr/>
          </p:nvCxnSpPr>
          <p:spPr>
            <a:xfrm flipV="1" rot="16200000">
              <a:off x="3181320" y="1266840"/>
              <a:ext cx="646920" cy="229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3" name=""/>
            <p:cNvCxnSpPr>
              <a:stCxn id="940" idx="3"/>
              <a:endCxn id="964" idx="0"/>
            </p:cNvCxnSpPr>
            <p:nvPr/>
          </p:nvCxnSpPr>
          <p:spPr>
            <a:xfrm>
              <a:off x="3373200" y="1371600"/>
              <a:ext cx="246600" cy="334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4" name=""/>
            <p:cNvCxnSpPr>
              <a:stCxn id="965" idx="2"/>
              <a:endCxn id="939" idx="3"/>
            </p:cNvCxnSpPr>
            <p:nvPr/>
          </p:nvCxnSpPr>
          <p:spPr>
            <a:xfrm rot="10800000">
              <a:off x="2042280" y="4501440"/>
              <a:ext cx="505800" cy="26280"/>
            </a:xfrm>
            <a:prstGeom prst="bentConnector3">
              <a:avLst>
                <a:gd name="adj1" fmla="val 4900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5" name=""/>
            <p:cNvCxnSpPr>
              <a:stCxn id="965" idx="2"/>
              <a:endCxn id="938" idx="3"/>
            </p:cNvCxnSpPr>
            <p:nvPr/>
          </p:nvCxnSpPr>
          <p:spPr>
            <a:xfrm rot="10800000">
              <a:off x="2021760" y="4042800"/>
              <a:ext cx="526320" cy="484920"/>
            </a:xfrm>
            <a:prstGeom prst="bentConnector3">
              <a:avLst>
                <a:gd name="adj1" fmla="val 489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6" name=""/>
            <p:cNvCxnSpPr>
              <a:stCxn id="938" idx="1"/>
              <a:endCxn id="969" idx="3"/>
            </p:cNvCxnSpPr>
            <p:nvPr/>
          </p:nvCxnSpPr>
          <p:spPr>
            <a:xfrm rot="10800000">
              <a:off x="804240" y="4034880"/>
              <a:ext cx="200520" cy="8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7" name=""/>
            <p:cNvCxnSpPr>
              <a:stCxn id="938" idx="1"/>
              <a:endCxn id="968" idx="3"/>
            </p:cNvCxnSpPr>
            <p:nvPr/>
          </p:nvCxnSpPr>
          <p:spPr>
            <a:xfrm rot="10800000">
              <a:off x="804240" y="3845880"/>
              <a:ext cx="200520" cy="197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8" name=""/>
            <p:cNvCxnSpPr>
              <a:stCxn id="938" idx="1"/>
              <a:endCxn id="967" idx="3"/>
            </p:cNvCxnSpPr>
            <p:nvPr/>
          </p:nvCxnSpPr>
          <p:spPr>
            <a:xfrm rot="10800000">
              <a:off x="804240" y="3631320"/>
              <a:ext cx="200520" cy="412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9" name=""/>
            <p:cNvCxnSpPr>
              <a:stCxn id="939" idx="2"/>
              <a:endCxn id="945" idx="0"/>
            </p:cNvCxnSpPr>
            <p:nvPr/>
          </p:nvCxnSpPr>
          <p:spPr>
            <a:xfrm flipH="1" rot="16200000">
              <a:off x="1322280" y="4721760"/>
              <a:ext cx="254520" cy="52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0" name=""/>
            <p:cNvCxnSpPr>
              <a:stCxn id="942" idx="2"/>
              <a:endCxn id="943" idx="3"/>
            </p:cNvCxnSpPr>
            <p:nvPr/>
          </p:nvCxnSpPr>
          <p:spPr>
            <a:xfrm rot="10800000">
              <a:off x="2175840" y="2323440"/>
              <a:ext cx="399240" cy="981720"/>
            </a:xfrm>
            <a:prstGeom prst="bentConnector3">
              <a:avLst>
                <a:gd name="adj1" fmla="val 4855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1" name=""/>
            <p:cNvCxnSpPr>
              <a:stCxn id="942" idx="2"/>
              <a:endCxn id="944" idx="3"/>
            </p:cNvCxnSpPr>
            <p:nvPr/>
          </p:nvCxnSpPr>
          <p:spPr>
            <a:xfrm rot="10800000">
              <a:off x="2175840" y="2932920"/>
              <a:ext cx="399240" cy="372240"/>
            </a:xfrm>
            <a:prstGeom prst="bentConnector3">
              <a:avLst>
                <a:gd name="adj1" fmla="val 485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2" name=""/>
            <p:cNvSpPr/>
            <p:nvPr/>
          </p:nvSpPr>
          <p:spPr>
            <a:xfrm>
              <a:off x="2624040" y="6143760"/>
              <a:ext cx="8578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โลกัตถจริยา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532320" y="6143760"/>
              <a:ext cx="94176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ญาตัตถจริยา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438080" y="6143760"/>
              <a:ext cx="92340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ุทธัตถจริยา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005" name=""/>
            <p:cNvCxnSpPr>
              <a:stCxn id="977" idx="4"/>
              <a:endCxn id="1002" idx="0"/>
            </p:cNvCxnSpPr>
            <p:nvPr/>
          </p:nvCxnSpPr>
          <p:spPr>
            <a:xfrm rot="5400000">
              <a:off x="3365640" y="5510880"/>
              <a:ext cx="320040" cy="946800"/>
            </a:xfrm>
            <a:prstGeom prst="bentConnector3">
              <a:avLst>
                <a:gd name="adj1" fmla="val 4819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6" name=""/>
            <p:cNvCxnSpPr>
              <a:stCxn id="977" idx="4"/>
              <a:endCxn id="1004" idx="0"/>
            </p:cNvCxnSpPr>
            <p:nvPr/>
          </p:nvCxnSpPr>
          <p:spPr>
            <a:xfrm flipH="1" rot="16200000">
              <a:off x="4289040" y="5532840"/>
              <a:ext cx="320040" cy="902520"/>
            </a:xfrm>
            <a:prstGeom prst="bentConnector3">
              <a:avLst>
                <a:gd name="adj1" fmla="val 4819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7" name=""/>
            <p:cNvCxnSpPr>
              <a:stCxn id="977" idx="4"/>
              <a:endCxn id="1003" idx="0"/>
            </p:cNvCxnSpPr>
            <p:nvPr/>
          </p:nvCxnSpPr>
          <p:spPr>
            <a:xfrm>
              <a:off x="3998520" y="5824080"/>
              <a:ext cx="5400" cy="32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8" name=""/>
            <p:cNvSpPr/>
            <p:nvPr/>
          </p:nvSpPr>
          <p:spPr>
            <a:xfrm>
              <a:off x="7099200" y="2705040"/>
              <a:ext cx="990720" cy="533520"/>
            </a:xfrm>
            <a:prstGeom prst="hexagon">
              <a:avLst>
                <a:gd name="adj" fmla="val 4642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บริหารจิตและ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จริญปัญญา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048440" y="9525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010" name=""/>
            <p:cNvCxnSpPr>
              <a:stCxn id="937" idx="0"/>
              <a:endCxn id="1009" idx="0"/>
            </p:cNvCxnSpPr>
            <p:nvPr/>
          </p:nvCxnSpPr>
          <p:spPr>
            <a:xfrm flipH="1" flipV="1" rot="5400000">
              <a:off x="5716080" y="-8280"/>
              <a:ext cx="372240" cy="2292840"/>
            </a:xfrm>
            <a:prstGeom prst="bentConnector3">
              <a:avLst>
                <a:gd name="adj1" fmla="val 5895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1" name=""/>
            <p:cNvCxnSpPr>
              <a:stCxn id="950" idx="1"/>
              <a:endCxn id="1009" idx="0"/>
            </p:cNvCxnSpPr>
            <p:nvPr/>
          </p:nvCxnSpPr>
          <p:spPr>
            <a:xfrm flipV="1" rot="10800000">
              <a:off x="7047720" y="637200"/>
              <a:ext cx="172080" cy="315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2" name=""/>
            <p:cNvCxnSpPr>
              <a:stCxn id="951" idx="1"/>
              <a:endCxn id="1009" idx="1"/>
            </p:cNvCxnSpPr>
            <p:nvPr/>
          </p:nvCxnSpPr>
          <p:spPr>
            <a:xfrm rot="10800000">
              <a:off x="7047720" y="1485360"/>
              <a:ext cx="115200" cy="3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3" name=""/>
            <p:cNvCxnSpPr>
              <a:stCxn id="953" idx="1"/>
              <a:endCxn id="1009" idx="1"/>
            </p:cNvCxnSpPr>
            <p:nvPr/>
          </p:nvCxnSpPr>
          <p:spPr>
            <a:xfrm rot="10800000">
              <a:off x="7047720" y="1485360"/>
              <a:ext cx="115200" cy="80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4" name=""/>
            <p:cNvCxnSpPr>
              <a:stCxn id="953" idx="2"/>
              <a:endCxn id="1008" idx="0"/>
            </p:cNvCxnSpPr>
            <p:nvPr/>
          </p:nvCxnSpPr>
          <p:spPr>
            <a:xfrm>
              <a:off x="7594200" y="2409840"/>
              <a:ext cx="1080" cy="29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15" name=""/>
            <p:cNvSpPr/>
            <p:nvPr/>
          </p:nvSpPr>
          <p:spPr>
            <a:xfrm flipV="1">
              <a:off x="7810560" y="4609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016" name=""/>
            <p:cNvCxnSpPr>
              <a:stCxn id="1008" idx="2"/>
              <a:endCxn id="1015" idx="0"/>
            </p:cNvCxnSpPr>
            <p:nvPr/>
          </p:nvCxnSpPr>
          <p:spPr>
            <a:xfrm flipH="1" rot="16200000">
              <a:off x="7016760" y="3816000"/>
              <a:ext cx="1372320" cy="216720"/>
            </a:xfrm>
            <a:prstGeom prst="bentConnector3">
              <a:avLst>
                <a:gd name="adj1" fmla="val 499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7" name=""/>
            <p:cNvCxnSpPr>
              <a:stCxn id="954" idx="1"/>
            </p:cNvCxnSpPr>
            <p:nvPr/>
          </p:nvCxnSpPr>
          <p:spPr>
            <a:xfrm flipV="1" rot="10800000">
              <a:off x="7809840" y="3636720"/>
              <a:ext cx="229320" cy="364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8" name=""/>
            <p:cNvCxnSpPr>
              <a:stCxn id="955" idx="1"/>
            </p:cNvCxnSpPr>
            <p:nvPr/>
          </p:nvCxnSpPr>
          <p:spPr>
            <a:xfrm flipV="1" rot="10800000">
              <a:off x="7809840" y="4134960"/>
              <a:ext cx="229320" cy="246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9" name=""/>
            <p:cNvCxnSpPr>
              <a:stCxn id="956" idx="1"/>
            </p:cNvCxnSpPr>
            <p:nvPr/>
          </p:nvCxnSpPr>
          <p:spPr>
            <a:xfrm rot="10800000">
              <a:off x="7809840" y="4228560"/>
              <a:ext cx="229320" cy="363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0" name=""/>
            <p:cNvCxnSpPr>
              <a:stCxn id="963" idx="1"/>
              <a:endCxn id="1015" idx="0"/>
            </p:cNvCxnSpPr>
            <p:nvPr/>
          </p:nvCxnSpPr>
          <p:spPr>
            <a:xfrm rot="10800000">
              <a:off x="7809840" y="4838040"/>
              <a:ext cx="229320" cy="316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1" name=""/>
            <p:cNvCxnSpPr>
              <a:stCxn id="957" idx="1"/>
            </p:cNvCxnSpPr>
            <p:nvPr/>
          </p:nvCxnSpPr>
          <p:spPr>
            <a:xfrm rot="10800000">
              <a:off x="7809840" y="4838040"/>
              <a:ext cx="229320" cy="923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2" name=""/>
            <p:cNvSpPr/>
            <p:nvPr/>
          </p:nvSpPr>
          <p:spPr>
            <a:xfrm>
              <a:off x="9263160" y="190440"/>
              <a:ext cx="53064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๑๐๓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023" name=""/>
            <p:cNvCxnSpPr>
              <a:stCxn id="937" idx="4"/>
              <a:endCxn id="935" idx="0"/>
            </p:cNvCxnSpPr>
            <p:nvPr/>
          </p:nvCxnSpPr>
          <p:spPr>
            <a:xfrm>
              <a:off x="4755960" y="2242800"/>
              <a:ext cx="51480" cy="848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4" name=""/>
            <p:cNvCxnSpPr>
              <a:stCxn id="964" idx="5"/>
              <a:endCxn id="935" idx="1"/>
            </p:cNvCxnSpPr>
            <p:nvPr/>
          </p:nvCxnSpPr>
          <p:spPr>
            <a:xfrm>
              <a:off x="3997440" y="2635200"/>
              <a:ext cx="334080" cy="651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5" name=""/>
            <p:cNvCxnSpPr>
              <a:stCxn id="942" idx="6"/>
              <a:endCxn id="935" idx="2"/>
            </p:cNvCxnSpPr>
            <p:nvPr/>
          </p:nvCxnSpPr>
          <p:spPr>
            <a:xfrm>
              <a:off x="3494160" y="3304800"/>
              <a:ext cx="612000" cy="484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6" name=""/>
            <p:cNvCxnSpPr>
              <a:stCxn id="965" idx="6"/>
              <a:endCxn id="935" idx="3"/>
            </p:cNvCxnSpPr>
            <p:nvPr/>
          </p:nvCxnSpPr>
          <p:spPr>
            <a:xfrm flipV="1">
              <a:off x="3466800" y="4290480"/>
              <a:ext cx="864360" cy="23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7" name=""/>
            <p:cNvCxnSpPr>
              <a:stCxn id="941" idx="3"/>
              <a:endCxn id="935" idx="7"/>
            </p:cNvCxnSpPr>
            <p:nvPr/>
          </p:nvCxnSpPr>
          <p:spPr>
            <a:xfrm flipH="1">
              <a:off x="5283000" y="2771280"/>
              <a:ext cx="645120" cy="515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8" name=""/>
            <p:cNvCxnSpPr>
              <a:stCxn id="959" idx="2"/>
              <a:endCxn id="935" idx="6"/>
            </p:cNvCxnSpPr>
            <p:nvPr/>
          </p:nvCxnSpPr>
          <p:spPr>
            <a:xfrm flipH="1">
              <a:off x="5508000" y="3574800"/>
              <a:ext cx="585000" cy="214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9" name=""/>
            <p:cNvCxnSpPr>
              <a:stCxn id="976" idx="2"/>
              <a:endCxn id="935" idx="5"/>
            </p:cNvCxnSpPr>
            <p:nvPr/>
          </p:nvCxnSpPr>
          <p:spPr>
            <a:xfrm flipH="1" flipV="1">
              <a:off x="5282640" y="4290120"/>
              <a:ext cx="689400" cy="466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0" name=""/>
            <p:cNvCxnSpPr>
              <a:stCxn id="975" idx="1"/>
              <a:endCxn id="935" idx="4"/>
            </p:cNvCxnSpPr>
            <p:nvPr/>
          </p:nvCxnSpPr>
          <p:spPr>
            <a:xfrm flipH="1" flipV="1">
              <a:off x="4806360" y="4485960"/>
              <a:ext cx="168840" cy="62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1" name=""/>
            <p:cNvCxnSpPr>
              <a:stCxn id="977" idx="0"/>
              <a:endCxn id="935" idx="3"/>
            </p:cNvCxnSpPr>
            <p:nvPr/>
          </p:nvCxnSpPr>
          <p:spPr>
            <a:xfrm flipV="1">
              <a:off x="3998880" y="4290120"/>
              <a:ext cx="332640" cy="61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4084560" y="2895480"/>
            <a:ext cx="296388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0" lang="hi-IN" sz="75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3" name=""/>
          <p:cNvSpPr/>
          <p:nvPr/>
        </p:nvSpPr>
        <p:spPr>
          <a:xfrm>
            <a:off x="9264600" y="190440"/>
            <a:ext cx="5274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๑๐๔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4491000" y="2505240"/>
            <a:ext cx="1322280" cy="12063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300" spc="-1" strike="noStrike">
                <a:solidFill>
                  <a:srgbClr val="000000"/>
                </a:solidFill>
                <a:latin typeface="Angsana New"/>
              </a:rPr>
              <a:t>พระสงฆ์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5" name=""/>
          <p:cNvSpPr/>
          <p:nvPr/>
        </p:nvSpPr>
        <p:spPr>
          <a:xfrm>
            <a:off x="1476720" y="182520"/>
            <a:ext cx="7335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โนทัศน์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สาระการเรียนรู้พระสงฆ์  ชั้นประถมศึกษาปีที่ ๕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6" name=""/>
          <p:cNvSpPr/>
          <p:nvPr/>
        </p:nvSpPr>
        <p:spPr>
          <a:xfrm>
            <a:off x="2868480" y="276228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หน้าที่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7" name=""/>
          <p:cNvSpPr/>
          <p:nvPr/>
        </p:nvSpPr>
        <p:spPr>
          <a:xfrm>
            <a:off x="6016680" y="458460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ศาสนพิธี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8" name=""/>
          <p:cNvSpPr/>
          <p:nvPr/>
        </p:nvSpPr>
        <p:spPr>
          <a:xfrm>
            <a:off x="4699080" y="103356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ุทธ</a:t>
            </a: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สาว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9" name=""/>
          <p:cNvSpPr/>
          <p:nvPr/>
        </p:nvSpPr>
        <p:spPr>
          <a:xfrm>
            <a:off x="6805440" y="283536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ตัวอย่าง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0" name=""/>
          <p:cNvSpPr/>
          <p:nvPr/>
        </p:nvSpPr>
        <p:spPr>
          <a:xfrm>
            <a:off x="3044160" y="1371600"/>
            <a:ext cx="1225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พระโสณโกฬิวิส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41" name=""/>
          <p:cNvCxnSpPr>
            <a:stCxn id="1040" idx="3"/>
            <a:endCxn id="1038" idx="2"/>
          </p:cNvCxnSpPr>
          <p:nvPr/>
        </p:nvCxnSpPr>
        <p:spPr>
          <a:xfrm>
            <a:off x="4150800" y="1488600"/>
            <a:ext cx="538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2" name=""/>
          <p:cNvSpPr/>
          <p:nvPr/>
        </p:nvSpPr>
        <p:spPr>
          <a:xfrm>
            <a:off x="8424720" y="3454560"/>
            <a:ext cx="1389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อาจารย์เสถียร  โพธินันท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3" name=""/>
          <p:cNvSpPr/>
          <p:nvPr/>
        </p:nvSpPr>
        <p:spPr>
          <a:xfrm>
            <a:off x="8192880" y="2781360"/>
            <a:ext cx="178308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สมเด็จพระสังฆราช </a:t>
            </a:r>
            <a:r>
              <a:rPr b="0" lang="en-US" sz="1300" spc="-1" strike="noStrike">
                <a:solidFill>
                  <a:srgbClr val="000000"/>
                </a:solidFill>
                <a:latin typeface="Angsana New"/>
              </a:rPr>
              <a:t>( </a:t>
            </a: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สา </a:t>
            </a:r>
            <a:r>
              <a:rPr b="0" lang="en-US" sz="13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4" name=""/>
          <p:cNvSpPr/>
          <p:nvPr/>
        </p:nvSpPr>
        <p:spPr>
          <a:xfrm>
            <a:off x="-38160" y="2313000"/>
            <a:ext cx="3080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จัดพิธีกรรมที่เรียบง่ายประหยัดมีประโยชน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และถูกต้องตามหลักพระพุทธศาสน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5" name=""/>
          <p:cNvSpPr/>
          <p:nvPr/>
        </p:nvSpPr>
        <p:spPr>
          <a:xfrm>
            <a:off x="551880" y="2778120"/>
            <a:ext cx="24098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ความรู้เบื้องต้นเกี่ยวกับศาสนสถ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6" name=""/>
          <p:cNvSpPr/>
          <p:nvPr/>
        </p:nvSpPr>
        <p:spPr>
          <a:xfrm>
            <a:off x="474120" y="3086280"/>
            <a:ext cx="24462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สร้างความสำนึกในประโยชน์แล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คุณค่าของการรักษา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47" name=""/>
          <p:cNvCxnSpPr>
            <a:stCxn id="1036" idx="2"/>
            <a:endCxn id="1044" idx="3"/>
          </p:cNvCxnSpPr>
          <p:nvPr/>
        </p:nvCxnSpPr>
        <p:spPr>
          <a:xfrm rot="10800000">
            <a:off x="2617200" y="2518560"/>
            <a:ext cx="241920" cy="700920"/>
          </a:xfrm>
          <a:prstGeom prst="bentConnector3">
            <a:avLst>
              <a:gd name="adj1" fmla="val 47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8" name=""/>
          <p:cNvCxnSpPr>
            <a:stCxn id="1036" idx="2"/>
            <a:endCxn id="1045" idx="3"/>
          </p:cNvCxnSpPr>
          <p:nvPr/>
        </p:nvCxnSpPr>
        <p:spPr>
          <a:xfrm rot="10800000">
            <a:off x="2617200" y="2904480"/>
            <a:ext cx="241920" cy="315000"/>
          </a:xfrm>
          <a:prstGeom prst="bentConnector3">
            <a:avLst>
              <a:gd name="adj1" fmla="val 47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9" name=""/>
          <p:cNvCxnSpPr>
            <a:stCxn id="1036" idx="2"/>
            <a:endCxn id="1046" idx="3"/>
          </p:cNvCxnSpPr>
          <p:nvPr/>
        </p:nvCxnSpPr>
        <p:spPr>
          <a:xfrm flipV="1" rot="10800000">
            <a:off x="2623320" y="3218400"/>
            <a:ext cx="235800" cy="73800"/>
          </a:xfrm>
          <a:prstGeom prst="bentConnector3">
            <a:avLst>
              <a:gd name="adj1" fmla="val 47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0" name=""/>
          <p:cNvCxnSpPr>
            <a:stCxn id="1038" idx="4"/>
            <a:endCxn id="1034" idx="0"/>
          </p:cNvCxnSpPr>
          <p:nvPr/>
        </p:nvCxnSpPr>
        <p:spPr>
          <a:xfrm rot="5400000">
            <a:off x="4889520" y="2219400"/>
            <a:ext cx="529200" cy="3960"/>
          </a:xfrm>
          <a:prstGeom prst="bentConnector3">
            <a:avLst>
              <a:gd name="adj1" fmla="val 5078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51" name=""/>
          <p:cNvCxnSpPr>
            <a:stCxn id="1039" idx="6"/>
            <a:endCxn id="1042" idx="1"/>
          </p:cNvCxnSpPr>
          <p:nvPr/>
        </p:nvCxnSpPr>
        <p:spPr>
          <a:xfrm>
            <a:off x="7729200" y="3292560"/>
            <a:ext cx="695520" cy="289440"/>
          </a:xfrm>
          <a:prstGeom prst="bentConnector3">
            <a:avLst>
              <a:gd name="adj1" fmla="val 49300"/>
            </a:avLst>
          </a:prstGeom>
          <a:ln w="0">
            <a:noFill/>
          </a:ln>
        </p:spPr>
      </p:cxnSp>
      <p:cxnSp>
        <p:nvCxnSpPr>
          <p:cNvPr id="1052" name=""/>
          <p:cNvCxnSpPr>
            <a:stCxn id="1039" idx="6"/>
            <a:endCxn id="1043" idx="1"/>
          </p:cNvCxnSpPr>
          <p:nvPr/>
        </p:nvCxnSpPr>
        <p:spPr>
          <a:xfrm flipV="1">
            <a:off x="7729560" y="2907720"/>
            <a:ext cx="691200" cy="384840"/>
          </a:xfrm>
          <a:prstGeom prst="bentConnector3">
            <a:avLst>
              <a:gd name="adj1" fmla="val 49192"/>
            </a:avLst>
          </a:prstGeom>
          <a:ln w="0">
            <a:noFill/>
          </a:ln>
        </p:spPr>
      </p:cxnSp>
      <p:sp>
        <p:nvSpPr>
          <p:cNvPr id="1053" name=""/>
          <p:cNvSpPr/>
          <p:nvPr/>
        </p:nvSpPr>
        <p:spPr>
          <a:xfrm>
            <a:off x="1323000" y="3552840"/>
            <a:ext cx="15120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เข้าค่ายคุณธ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54" name=""/>
          <p:cNvCxnSpPr>
            <a:stCxn id="1036" idx="2"/>
            <a:endCxn id="1053" idx="3"/>
          </p:cNvCxnSpPr>
          <p:nvPr/>
        </p:nvCxnSpPr>
        <p:spPr>
          <a:xfrm flipV="1" rot="10800000">
            <a:off x="2613960" y="3218400"/>
            <a:ext cx="244800" cy="461160"/>
          </a:xfrm>
          <a:prstGeom prst="bentConnector3">
            <a:avLst>
              <a:gd name="adj1" fmla="val 4801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55" name=""/>
          <p:cNvSpPr/>
          <p:nvPr/>
        </p:nvSpPr>
        <p:spPr>
          <a:xfrm>
            <a:off x="893880" y="3863880"/>
            <a:ext cx="19998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แสดงตนเป็นพุทธมามก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56" name=""/>
          <p:cNvCxnSpPr>
            <a:stCxn id="1036" idx="2"/>
            <a:endCxn id="1055" idx="3"/>
          </p:cNvCxnSpPr>
          <p:nvPr/>
        </p:nvCxnSpPr>
        <p:spPr>
          <a:xfrm flipV="1" rot="10800000">
            <a:off x="2623320" y="3218400"/>
            <a:ext cx="235800" cy="772200"/>
          </a:xfrm>
          <a:prstGeom prst="bentConnector3">
            <a:avLst>
              <a:gd name="adj1" fmla="val 4785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57" name=""/>
          <p:cNvSpPr/>
          <p:nvPr/>
        </p:nvSpPr>
        <p:spPr>
          <a:xfrm>
            <a:off x="6975000" y="5378400"/>
            <a:ext cx="1155240" cy="2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เครื่องสังฆท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8" name=""/>
          <p:cNvSpPr/>
          <p:nvPr/>
        </p:nvSpPr>
        <p:spPr>
          <a:xfrm>
            <a:off x="6958800" y="5067360"/>
            <a:ext cx="1290960" cy="25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พิธีถวายสังฆท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9" name=""/>
          <p:cNvSpPr/>
          <p:nvPr/>
        </p:nvSpPr>
        <p:spPr>
          <a:xfrm>
            <a:off x="7128000" y="4745160"/>
            <a:ext cx="17938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พิธีกรรมในการทำงานบุญงานมงค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60" name=""/>
          <p:cNvCxnSpPr>
            <a:stCxn id="1037" idx="6"/>
            <a:endCxn id="1059" idx="1"/>
          </p:cNvCxnSpPr>
          <p:nvPr/>
        </p:nvCxnSpPr>
        <p:spPr>
          <a:xfrm flipV="1">
            <a:off x="6940080" y="4876560"/>
            <a:ext cx="188280" cy="165600"/>
          </a:xfrm>
          <a:prstGeom prst="bentConnector3">
            <a:avLst>
              <a:gd name="adj1" fmla="val 473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1" name=""/>
          <p:cNvCxnSpPr>
            <a:stCxn id="1037" idx="6"/>
            <a:endCxn id="1058" idx="1"/>
          </p:cNvCxnSpPr>
          <p:nvPr/>
        </p:nvCxnSpPr>
        <p:spPr>
          <a:xfrm>
            <a:off x="6940080" y="5041440"/>
            <a:ext cx="197640" cy="158040"/>
          </a:xfrm>
          <a:prstGeom prst="bentConnector3">
            <a:avLst>
              <a:gd name="adj1" fmla="val 4744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2" name=""/>
          <p:cNvCxnSpPr>
            <a:stCxn id="1037" idx="6"/>
            <a:endCxn id="1057" idx="1"/>
          </p:cNvCxnSpPr>
          <p:nvPr/>
        </p:nvCxnSpPr>
        <p:spPr>
          <a:xfrm>
            <a:off x="6940440" y="5041800"/>
            <a:ext cx="192960" cy="450000"/>
          </a:xfrm>
          <a:prstGeom prst="bentConnector3">
            <a:avLst>
              <a:gd name="adj1" fmla="val 4710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3" name=""/>
          <p:cNvSpPr/>
          <p:nvPr/>
        </p:nvSpPr>
        <p:spPr>
          <a:xfrm>
            <a:off x="1020960" y="5532480"/>
            <a:ext cx="221616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ไหว้พระรัตนตรัย บิดามารด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ครูอาจารย์ ผู้ที่เคารพนับถือ แล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บุคคลตามฐาน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4" name=""/>
          <p:cNvSpPr/>
          <p:nvPr/>
        </p:nvSpPr>
        <p:spPr>
          <a:xfrm>
            <a:off x="1564920" y="4978440"/>
            <a:ext cx="158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ปฏิบัติต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ขณะประกอบพิธีก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5" name=""/>
          <p:cNvSpPr/>
          <p:nvPr/>
        </p:nvSpPr>
        <p:spPr>
          <a:xfrm>
            <a:off x="1065600" y="4254480"/>
            <a:ext cx="219924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ขวนขวายและการมีส่วนร่ว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ในการจัดเตรียมสถานที่ประกอบ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พิธีกรรมทางพระพุทธศาสน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6" name=""/>
          <p:cNvSpPr/>
          <p:nvPr/>
        </p:nvSpPr>
        <p:spPr>
          <a:xfrm>
            <a:off x="3719520" y="442440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ม</a:t>
            </a:r>
            <a:r>
              <a:rPr b="1" lang="hi-IN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ร</a:t>
            </a: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ยาท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67" name=""/>
          <p:cNvCxnSpPr>
            <a:stCxn id="1066" idx="2"/>
            <a:endCxn id="1065" idx="3"/>
          </p:cNvCxnSpPr>
          <p:nvPr/>
        </p:nvCxnSpPr>
        <p:spPr>
          <a:xfrm rot="10800000">
            <a:off x="2975760" y="4599720"/>
            <a:ext cx="734400" cy="28188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8" name=""/>
          <p:cNvCxnSpPr>
            <a:stCxn id="1066" idx="2"/>
            <a:endCxn id="1064" idx="3"/>
          </p:cNvCxnSpPr>
          <p:nvPr/>
        </p:nvCxnSpPr>
        <p:spPr>
          <a:xfrm flipV="1" rot="10800000">
            <a:off x="2948760" y="4881240"/>
            <a:ext cx="761400" cy="343440"/>
          </a:xfrm>
          <a:prstGeom prst="bentConnector3">
            <a:avLst>
              <a:gd name="adj1" fmla="val 492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9" name=""/>
          <p:cNvCxnSpPr>
            <a:stCxn id="1066" idx="2"/>
            <a:endCxn id="1063" idx="3"/>
          </p:cNvCxnSpPr>
          <p:nvPr/>
        </p:nvCxnSpPr>
        <p:spPr>
          <a:xfrm flipV="1" rot="10800000">
            <a:off x="2944080" y="4880520"/>
            <a:ext cx="766080" cy="997560"/>
          </a:xfrm>
          <a:prstGeom prst="bentConnector3">
            <a:avLst>
              <a:gd name="adj1" fmla="val 4936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70" name=""/>
          <p:cNvSpPr/>
          <p:nvPr/>
        </p:nvSpPr>
        <p:spPr>
          <a:xfrm>
            <a:off x="901440" y="6272280"/>
            <a:ext cx="2389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กราบพระรัตนตรัย กราบบุคค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ตามฐานะ และการกราบศพ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71" name=""/>
          <p:cNvCxnSpPr>
            <a:stCxn id="1034" idx="6"/>
            <a:endCxn id="1039" idx="2"/>
          </p:cNvCxnSpPr>
          <p:nvPr/>
        </p:nvCxnSpPr>
        <p:spPr>
          <a:xfrm>
            <a:off x="5832000" y="3108240"/>
            <a:ext cx="964440" cy="185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72" name=""/>
          <p:cNvCxnSpPr>
            <a:stCxn id="1034" idx="2"/>
            <a:endCxn id="1036" idx="6"/>
          </p:cNvCxnSpPr>
          <p:nvPr/>
        </p:nvCxnSpPr>
        <p:spPr>
          <a:xfrm flipH="1">
            <a:off x="3791880" y="3107880"/>
            <a:ext cx="680040" cy="111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73" name=""/>
          <p:cNvCxnSpPr>
            <a:stCxn id="1034" idx="5"/>
            <a:endCxn id="1037" idx="1"/>
          </p:cNvCxnSpPr>
          <p:nvPr/>
        </p:nvCxnSpPr>
        <p:spPr>
          <a:xfrm>
            <a:off x="5619240" y="3554280"/>
            <a:ext cx="531000" cy="1154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74" name=""/>
          <p:cNvCxnSpPr>
            <a:stCxn id="1034" idx="3"/>
            <a:endCxn id="1066" idx="7"/>
          </p:cNvCxnSpPr>
          <p:nvPr/>
        </p:nvCxnSpPr>
        <p:spPr>
          <a:xfrm flipH="1">
            <a:off x="4500000" y="3553920"/>
            <a:ext cx="184680" cy="994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75" name=""/>
          <p:cNvCxnSpPr>
            <a:stCxn id="1066" idx="2"/>
            <a:endCxn id="1070" idx="3"/>
          </p:cNvCxnSpPr>
          <p:nvPr/>
        </p:nvCxnSpPr>
        <p:spPr>
          <a:xfrm flipV="1" rot="10800000">
            <a:off x="2955240" y="4881240"/>
            <a:ext cx="754920" cy="1637280"/>
          </a:xfrm>
          <a:prstGeom prst="bentConnector3">
            <a:avLst>
              <a:gd name="adj1" fmla="val 4923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6" name=""/>
          <p:cNvCxnSpPr>
            <a:stCxn id="1039" idx="6"/>
            <a:endCxn id="1043" idx="1"/>
          </p:cNvCxnSpPr>
          <p:nvPr/>
        </p:nvCxnSpPr>
        <p:spPr>
          <a:xfrm flipV="1">
            <a:off x="7729560" y="2907720"/>
            <a:ext cx="691200" cy="384840"/>
          </a:xfrm>
          <a:prstGeom prst="bentConnector3">
            <a:avLst>
              <a:gd name="adj1" fmla="val 4919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7" name=""/>
          <p:cNvCxnSpPr>
            <a:stCxn id="1039" idx="6"/>
            <a:endCxn id="1042" idx="1"/>
          </p:cNvCxnSpPr>
          <p:nvPr/>
        </p:nvCxnSpPr>
        <p:spPr>
          <a:xfrm>
            <a:off x="7729200" y="3292560"/>
            <a:ext cx="695520" cy="289440"/>
          </a:xfrm>
          <a:prstGeom prst="bentConnector3">
            <a:avLst>
              <a:gd name="adj1" fmla="val 493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78" name=""/>
          <p:cNvSpPr/>
          <p:nvPr/>
        </p:nvSpPr>
        <p:spPr>
          <a:xfrm>
            <a:off x="9264600" y="190440"/>
            <a:ext cx="5274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๑๐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4084560" y="2895480"/>
            <a:ext cx="296388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0" lang="hi-IN" sz="75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0" name=""/>
          <p:cNvSpPr/>
          <p:nvPr/>
        </p:nvSpPr>
        <p:spPr>
          <a:xfrm>
            <a:off x="9267480" y="190440"/>
            <a:ext cx="5230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๑๐๖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541760" y="3467160"/>
            <a:ext cx="1866960" cy="4413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รัตนตรัย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114480"/>
            <a:ext cx="1028700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สาระการเรียนรู้พระพุทธศาสนา ระดับชั้นประถมศึกษาปีที่  ๖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3" name=""/>
          <p:cNvSpPr/>
          <p:nvPr/>
        </p:nvSpPr>
        <p:spPr>
          <a:xfrm>
            <a:off x="7429680" y="3467160"/>
            <a:ext cx="1106280" cy="4824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งฆ์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4" name=""/>
          <p:cNvSpPr/>
          <p:nvPr/>
        </p:nvSpPr>
        <p:spPr>
          <a:xfrm>
            <a:off x="4915080" y="2629080"/>
            <a:ext cx="1266480" cy="4824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85" name=""/>
          <p:cNvCxnSpPr>
            <a:stCxn id="1084" idx="4"/>
            <a:endCxn id="1081" idx="0"/>
          </p:cNvCxnSpPr>
          <p:nvPr/>
        </p:nvCxnSpPr>
        <p:spPr>
          <a:xfrm flipH="1">
            <a:off x="5474520" y="3130200"/>
            <a:ext cx="7380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6" name=""/>
          <p:cNvCxnSpPr>
            <a:stCxn id="1081" idx="3"/>
            <a:endCxn id="1083" idx="2"/>
          </p:cNvCxnSpPr>
          <p:nvPr/>
        </p:nvCxnSpPr>
        <p:spPr>
          <a:xfrm flipV="1">
            <a:off x="6216120" y="3707640"/>
            <a:ext cx="11948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7" name=""/>
          <p:cNvSpPr/>
          <p:nvPr/>
        </p:nvSpPr>
        <p:spPr>
          <a:xfrm>
            <a:off x="2933640" y="3467160"/>
            <a:ext cx="1266840" cy="4824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ธรรม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88" name=""/>
          <p:cNvCxnSpPr>
            <a:stCxn id="1087" idx="6"/>
            <a:endCxn id="1081" idx="1"/>
          </p:cNvCxnSpPr>
          <p:nvPr/>
        </p:nvCxnSpPr>
        <p:spPr>
          <a:xfrm>
            <a:off x="4219200" y="3708000"/>
            <a:ext cx="5151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9" name=""/>
          <p:cNvSpPr/>
          <p:nvPr/>
        </p:nvSpPr>
        <p:spPr>
          <a:xfrm>
            <a:off x="1809720" y="5118120"/>
            <a:ext cx="800280" cy="376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0" name=""/>
          <p:cNvSpPr/>
          <p:nvPr/>
        </p:nvSpPr>
        <p:spPr>
          <a:xfrm>
            <a:off x="2805120" y="5600880"/>
            <a:ext cx="814320" cy="48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ศาสน</a:t>
            </a:r>
            <a:r>
              <a:rPr b="0" lang="th-TH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ุภาษิต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1" name=""/>
          <p:cNvSpPr/>
          <p:nvPr/>
        </p:nvSpPr>
        <p:spPr>
          <a:xfrm>
            <a:off x="1730520" y="3790800"/>
            <a:ext cx="792000" cy="30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โอวาท ๓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2" name=""/>
          <p:cNvSpPr/>
          <p:nvPr/>
        </p:nvSpPr>
        <p:spPr>
          <a:xfrm>
            <a:off x="2857680" y="5132520"/>
            <a:ext cx="695160" cy="35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กิจ ๕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3" name=""/>
          <p:cNvSpPr/>
          <p:nvPr/>
        </p:nvSpPr>
        <p:spPr>
          <a:xfrm>
            <a:off x="1809720" y="4202280"/>
            <a:ext cx="71280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หลักกรร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4" name=""/>
          <p:cNvSpPr/>
          <p:nvPr/>
        </p:nvSpPr>
        <p:spPr>
          <a:xfrm>
            <a:off x="2838600" y="4152960"/>
            <a:ext cx="712800" cy="34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ไตรสิกข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5" name=""/>
          <p:cNvSpPr/>
          <p:nvPr/>
        </p:nvSpPr>
        <p:spPr>
          <a:xfrm>
            <a:off x="1809720" y="4633920"/>
            <a:ext cx="71280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อริยสัจ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6" name=""/>
          <p:cNvSpPr/>
          <p:nvPr/>
        </p:nvSpPr>
        <p:spPr>
          <a:xfrm>
            <a:off x="2838600" y="4630680"/>
            <a:ext cx="63324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ศรัทธา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7" name=""/>
          <p:cNvSpPr/>
          <p:nvPr/>
        </p:nvSpPr>
        <p:spPr>
          <a:xfrm>
            <a:off x="1562040" y="5905440"/>
            <a:ext cx="87012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ศัพท์ทา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8" name=""/>
          <p:cNvSpPr/>
          <p:nvPr/>
        </p:nvSpPr>
        <p:spPr>
          <a:xfrm>
            <a:off x="1171080" y="2019240"/>
            <a:ext cx="687240" cy="227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ความด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9" name=""/>
          <p:cNvSpPr/>
          <p:nvPr/>
        </p:nvSpPr>
        <p:spPr>
          <a:xfrm>
            <a:off x="2169360" y="2471760"/>
            <a:ext cx="675000" cy="441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จิต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ให้บริสุทธิ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0" name=""/>
          <p:cNvSpPr/>
          <p:nvPr/>
        </p:nvSpPr>
        <p:spPr>
          <a:xfrm>
            <a:off x="402480" y="574560"/>
            <a:ext cx="6462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ศีล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1" name=""/>
          <p:cNvSpPr/>
          <p:nvPr/>
        </p:nvSpPr>
        <p:spPr>
          <a:xfrm>
            <a:off x="299160" y="803160"/>
            <a:ext cx="74952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อบายมุข ๖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2" name=""/>
          <p:cNvSpPr/>
          <p:nvPr/>
        </p:nvSpPr>
        <p:spPr>
          <a:xfrm>
            <a:off x="270000" y="1066680"/>
            <a:ext cx="7938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อกุศลมูล ๓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3" name=""/>
          <p:cNvSpPr/>
          <p:nvPr/>
        </p:nvSpPr>
        <p:spPr>
          <a:xfrm>
            <a:off x="396000" y="1504800"/>
            <a:ext cx="751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ธ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4" name=""/>
          <p:cNvSpPr/>
          <p:nvPr/>
        </p:nvSpPr>
        <p:spPr>
          <a:xfrm>
            <a:off x="658800" y="2095560"/>
            <a:ext cx="41148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ละ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5" name=""/>
          <p:cNvSpPr/>
          <p:nvPr/>
        </p:nvSpPr>
        <p:spPr>
          <a:xfrm>
            <a:off x="482400" y="2943360"/>
            <a:ext cx="626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งคล ๓๘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6" name=""/>
          <p:cNvSpPr/>
          <p:nvPr/>
        </p:nvSpPr>
        <p:spPr>
          <a:xfrm>
            <a:off x="474840" y="1800360"/>
            <a:ext cx="641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ุศลมูล ๓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7" name=""/>
          <p:cNvSpPr/>
          <p:nvPr/>
        </p:nvSpPr>
        <p:spPr>
          <a:xfrm>
            <a:off x="558000" y="2351160"/>
            <a:ext cx="52884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คารวะ ๖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8" name=""/>
          <p:cNvSpPr/>
          <p:nvPr/>
        </p:nvSpPr>
        <p:spPr>
          <a:xfrm>
            <a:off x="-10800" y="2567160"/>
            <a:ext cx="1217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ตัญญูกตเวที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ต่อพระมหากษัตริย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9" name=""/>
          <p:cNvSpPr/>
          <p:nvPr/>
        </p:nvSpPr>
        <p:spPr>
          <a:xfrm>
            <a:off x="485640" y="3238560"/>
            <a:ext cx="3657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มีวินัย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0" name=""/>
          <p:cNvSpPr/>
          <p:nvPr/>
        </p:nvSpPr>
        <p:spPr>
          <a:xfrm>
            <a:off x="400320" y="3460680"/>
            <a:ext cx="99036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งานไม่มีโทษ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1" name=""/>
          <p:cNvSpPr/>
          <p:nvPr/>
        </p:nvSpPr>
        <p:spPr>
          <a:xfrm>
            <a:off x="394200" y="3648240"/>
            <a:ext cx="10836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ไม่ประมาทในธรรม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2" name=""/>
          <p:cNvSpPr/>
          <p:nvPr/>
        </p:nvSpPr>
        <p:spPr>
          <a:xfrm>
            <a:off x="1205640" y="905040"/>
            <a:ext cx="546840" cy="2278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ไม่ทำชั่ว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3" name=""/>
          <p:cNvSpPr/>
          <p:nvPr/>
        </p:nvSpPr>
        <p:spPr>
          <a:xfrm>
            <a:off x="3339000" y="571680"/>
            <a:ext cx="18151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วดมนต์ไหว้พระสรรเสริญ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พระรัตนตรัยและแผ่เมตต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4" name=""/>
          <p:cNvSpPr/>
          <p:nvPr/>
        </p:nvSpPr>
        <p:spPr>
          <a:xfrm>
            <a:off x="3352680" y="1397160"/>
            <a:ext cx="18133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วิธีปฏิบัติและประโยชน์ของ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บริหารจิตและเจริญปัญญ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5" name=""/>
          <p:cNvSpPr/>
          <p:nvPr/>
        </p:nvSpPr>
        <p:spPr>
          <a:xfrm>
            <a:off x="3351240" y="2494080"/>
            <a:ext cx="1859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ให้มีสมาธิในการฟัง การอ่าน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คิด  การถาม และการเขีย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6" name=""/>
          <p:cNvSpPr/>
          <p:nvPr/>
        </p:nvSpPr>
        <p:spPr>
          <a:xfrm>
            <a:off x="3270600" y="1836720"/>
            <a:ext cx="22982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การกำหนดรู้ความรู้สึกเมื่อตาเห็นรูป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หูฟังเสียง จมูกดมกลิ่น ลิ้นลิ้มรส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ยสัมผัสสิ่งที่มากระทบ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7" name=""/>
          <p:cNvSpPr/>
          <p:nvPr/>
        </p:nvSpPr>
        <p:spPr>
          <a:xfrm>
            <a:off x="3346560" y="952560"/>
            <a:ext cx="187128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ความหมายของสติสัมปชัญญ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าธิและปัญญ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8" name=""/>
          <p:cNvSpPr/>
          <p:nvPr/>
        </p:nvSpPr>
        <p:spPr>
          <a:xfrm>
            <a:off x="3822480" y="4610160"/>
            <a:ext cx="5194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ปัญญ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9" name=""/>
          <p:cNvSpPr/>
          <p:nvPr/>
        </p:nvSpPr>
        <p:spPr>
          <a:xfrm>
            <a:off x="3841920" y="4349880"/>
            <a:ext cx="3978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าธ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0" name=""/>
          <p:cNvSpPr/>
          <p:nvPr/>
        </p:nvSpPr>
        <p:spPr>
          <a:xfrm>
            <a:off x="3862440" y="4091040"/>
            <a:ext cx="2286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ศีล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21" name=""/>
          <p:cNvCxnSpPr>
            <a:stCxn id="1094" idx="6"/>
            <a:endCxn id="1119" idx="1"/>
          </p:cNvCxnSpPr>
          <p:nvPr/>
        </p:nvCxnSpPr>
        <p:spPr>
          <a:xfrm>
            <a:off x="3551400" y="4324320"/>
            <a:ext cx="344880" cy="140400"/>
          </a:xfrm>
          <a:prstGeom prst="bentConnector3">
            <a:avLst>
              <a:gd name="adj1" fmla="val 497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2" name=""/>
          <p:cNvCxnSpPr>
            <a:stCxn id="1094" idx="6"/>
            <a:endCxn id="1118" idx="1"/>
          </p:cNvCxnSpPr>
          <p:nvPr/>
        </p:nvCxnSpPr>
        <p:spPr>
          <a:xfrm>
            <a:off x="3551400" y="4323960"/>
            <a:ext cx="344880" cy="400680"/>
          </a:xfrm>
          <a:prstGeom prst="bentConnector3">
            <a:avLst>
              <a:gd name="adj1" fmla="val 4973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3" name=""/>
          <p:cNvSpPr/>
          <p:nvPr/>
        </p:nvSpPr>
        <p:spPr>
          <a:xfrm>
            <a:off x="-163800" y="4778280"/>
            <a:ext cx="2071080" cy="441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ลักษณะเฉพาะและความสำคัญ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ของ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4" name=""/>
          <p:cNvSpPr/>
          <p:nvPr/>
        </p:nvSpPr>
        <p:spPr>
          <a:xfrm>
            <a:off x="146160" y="5423040"/>
            <a:ext cx="1746360" cy="227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รื่องน่ารู้จาก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5" name=""/>
          <p:cNvSpPr/>
          <p:nvPr/>
        </p:nvSpPr>
        <p:spPr>
          <a:xfrm>
            <a:off x="-14400" y="5783400"/>
            <a:ext cx="13579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หากินผิดถิ่นย่อมพินาศ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26" name=""/>
          <p:cNvCxnSpPr>
            <a:stCxn id="1127" idx="0"/>
            <a:endCxn id="1125" idx="3"/>
          </p:cNvCxnSpPr>
          <p:nvPr/>
        </p:nvCxnSpPr>
        <p:spPr>
          <a:xfrm rot="5400000">
            <a:off x="1208520" y="5682240"/>
            <a:ext cx="130680" cy="272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8" name=""/>
          <p:cNvSpPr/>
          <p:nvPr/>
        </p:nvSpPr>
        <p:spPr>
          <a:xfrm>
            <a:off x="3378600" y="6210360"/>
            <a:ext cx="172044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จฺเจน กิตฺตึ ปปฺโปติ</a:t>
            </a:r>
            <a:r>
              <a:rPr b="0" lang="th-TH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คนจะได้เกียรติด้วยสัจจะ 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9" name=""/>
          <p:cNvSpPr/>
          <p:nvPr/>
        </p:nvSpPr>
        <p:spPr>
          <a:xfrm>
            <a:off x="3426120" y="6667560"/>
            <a:ext cx="13122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ยถาวาที  ตถาการี 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ูดเช่นไรทำเช่นนั้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0" name=""/>
          <p:cNvSpPr/>
          <p:nvPr/>
        </p:nvSpPr>
        <p:spPr>
          <a:xfrm>
            <a:off x="2705040" y="3772080"/>
            <a:ext cx="0" cy="18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1" name=""/>
          <p:cNvSpPr/>
          <p:nvPr/>
        </p:nvSpPr>
        <p:spPr>
          <a:xfrm>
            <a:off x="923760" y="6438960"/>
            <a:ext cx="402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ฉันท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2" name=""/>
          <p:cNvSpPr/>
          <p:nvPr/>
        </p:nvSpPr>
        <p:spPr>
          <a:xfrm>
            <a:off x="879120" y="6210360"/>
            <a:ext cx="4676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ณห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3" name=""/>
          <p:cNvSpPr/>
          <p:nvPr/>
        </p:nvSpPr>
        <p:spPr>
          <a:xfrm>
            <a:off x="5219640" y="723960"/>
            <a:ext cx="15242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สำคัญ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ของพระพุทธ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ในฐานะศาสนาประจำชา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4" name=""/>
          <p:cNvSpPr/>
          <p:nvPr/>
        </p:nvSpPr>
        <p:spPr>
          <a:xfrm>
            <a:off x="6553080" y="2914560"/>
            <a:ext cx="5526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ด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35" name=""/>
          <p:cNvCxnSpPr>
            <a:stCxn id="1136" idx="0"/>
            <a:endCxn id="1137" idx="2"/>
          </p:cNvCxnSpPr>
          <p:nvPr/>
        </p:nvCxnSpPr>
        <p:spPr>
          <a:xfrm flipH="1" flipV="1" rot="5400000">
            <a:off x="6648120" y="1847520"/>
            <a:ext cx="38880" cy="610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8" name=""/>
          <p:cNvCxnSpPr>
            <a:endCxn id="1133" idx="3"/>
          </p:cNvCxnSpPr>
          <p:nvPr/>
        </p:nvCxnSpPr>
        <p:spPr>
          <a:xfrm rot="10800000">
            <a:off x="5442840" y="1374120"/>
            <a:ext cx="1529640" cy="26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39" name=""/>
          <p:cNvSpPr/>
          <p:nvPr/>
        </p:nvSpPr>
        <p:spPr>
          <a:xfrm>
            <a:off x="8478720" y="825480"/>
            <a:ext cx="7419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ัจฉิมสาว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0" name=""/>
          <p:cNvSpPr/>
          <p:nvPr/>
        </p:nvSpPr>
        <p:spPr>
          <a:xfrm>
            <a:off x="8580600" y="1030320"/>
            <a:ext cx="490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ินิพพ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1" name=""/>
          <p:cNvSpPr/>
          <p:nvPr/>
        </p:nvSpPr>
        <p:spPr>
          <a:xfrm>
            <a:off x="8403480" y="1233360"/>
            <a:ext cx="12038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ถวายพระเพลิง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2" name=""/>
          <p:cNvSpPr/>
          <p:nvPr/>
        </p:nvSpPr>
        <p:spPr>
          <a:xfrm>
            <a:off x="8354880" y="1436760"/>
            <a:ext cx="15102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แจกพระบรมสารีริกธาตุ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3" name=""/>
          <p:cNvSpPr/>
          <p:nvPr/>
        </p:nvSpPr>
        <p:spPr>
          <a:xfrm>
            <a:off x="8426880" y="1641600"/>
            <a:ext cx="11077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งเวชนียสถาน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4" name=""/>
          <p:cNvSpPr/>
          <p:nvPr/>
        </p:nvSpPr>
        <p:spPr>
          <a:xfrm>
            <a:off x="8434440" y="622440"/>
            <a:ext cx="9766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ลงอายุสังขา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5" name=""/>
          <p:cNvSpPr/>
          <p:nvPr/>
        </p:nvSpPr>
        <p:spPr>
          <a:xfrm>
            <a:off x="8431200" y="419040"/>
            <a:ext cx="10162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รุปพุทธประว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46" name=""/>
          <p:cNvCxnSpPr>
            <a:stCxn id="1145" idx="1"/>
            <a:endCxn id="1147" idx="6"/>
          </p:cNvCxnSpPr>
          <p:nvPr/>
        </p:nvCxnSpPr>
        <p:spPr>
          <a:xfrm flipV="1" rot="10800000">
            <a:off x="8216280" y="496440"/>
            <a:ext cx="364320" cy="41832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8" name=""/>
          <p:cNvSpPr/>
          <p:nvPr/>
        </p:nvSpPr>
        <p:spPr>
          <a:xfrm>
            <a:off x="7134840" y="2789280"/>
            <a:ext cx="101628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ีฆีติโกสล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9" name=""/>
          <p:cNvSpPr/>
          <p:nvPr/>
        </p:nvSpPr>
        <p:spPr>
          <a:xfrm>
            <a:off x="7141320" y="3159000"/>
            <a:ext cx="9540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พพทาฐิ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50" name=""/>
          <p:cNvCxnSpPr>
            <a:stCxn id="1134" idx="6"/>
            <a:endCxn id="1149" idx="1"/>
          </p:cNvCxnSpPr>
          <p:nvPr/>
        </p:nvCxnSpPr>
        <p:spPr>
          <a:xfrm>
            <a:off x="7105680" y="3095640"/>
            <a:ext cx="172080" cy="141840"/>
          </a:xfrm>
          <a:prstGeom prst="bentConnector3">
            <a:avLst>
              <a:gd name="adj1" fmla="val 498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51" name=""/>
          <p:cNvSpPr/>
          <p:nvPr/>
        </p:nvSpPr>
        <p:spPr>
          <a:xfrm>
            <a:off x="8313840" y="1944720"/>
            <a:ext cx="2170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รุปวันสำคัญทางพระพุทธศาสน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2" name=""/>
          <p:cNvSpPr/>
          <p:nvPr/>
        </p:nvSpPr>
        <p:spPr>
          <a:xfrm>
            <a:off x="8466480" y="2173320"/>
            <a:ext cx="1709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- 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หมาย ความสำคัญ 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- 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โยชน์การเข้าร่ว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   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ิจกรรมและหลักปฏิบ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3" name=""/>
          <p:cNvSpPr/>
          <p:nvPr/>
        </p:nvSpPr>
        <p:spPr>
          <a:xfrm>
            <a:off x="8934120" y="2960640"/>
            <a:ext cx="72828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วิสาขบูช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4" name=""/>
          <p:cNvSpPr/>
          <p:nvPr/>
        </p:nvSpPr>
        <p:spPr>
          <a:xfrm>
            <a:off x="8911800" y="3317760"/>
            <a:ext cx="9111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อาสาฬหบูช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5" name=""/>
          <p:cNvSpPr/>
          <p:nvPr/>
        </p:nvSpPr>
        <p:spPr>
          <a:xfrm>
            <a:off x="8949240" y="2782800"/>
            <a:ext cx="6674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มาฆบูช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6" name=""/>
          <p:cNvSpPr/>
          <p:nvPr/>
        </p:nvSpPr>
        <p:spPr>
          <a:xfrm>
            <a:off x="8924760" y="3139920"/>
            <a:ext cx="7754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อัฏฐมีบูช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7" name=""/>
          <p:cNvSpPr/>
          <p:nvPr/>
        </p:nvSpPr>
        <p:spPr>
          <a:xfrm>
            <a:off x="8912880" y="3497400"/>
            <a:ext cx="81360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ธรรมสวน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8" name=""/>
          <p:cNvSpPr/>
          <p:nvPr/>
        </p:nvSpPr>
        <p:spPr>
          <a:xfrm>
            <a:off x="6962760" y="5059440"/>
            <a:ext cx="712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หน้าที่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9" name=""/>
          <p:cNvSpPr/>
          <p:nvPr/>
        </p:nvSpPr>
        <p:spPr>
          <a:xfrm>
            <a:off x="8104320" y="5829480"/>
            <a:ext cx="620640" cy="40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พิธ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0" name=""/>
          <p:cNvSpPr/>
          <p:nvPr/>
        </p:nvSpPr>
        <p:spPr>
          <a:xfrm>
            <a:off x="7124760" y="4305240"/>
            <a:ext cx="630000" cy="34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ว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1" name=""/>
          <p:cNvSpPr/>
          <p:nvPr/>
        </p:nvSpPr>
        <p:spPr>
          <a:xfrm>
            <a:off x="8115480" y="4305240"/>
            <a:ext cx="633240" cy="45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2" name=""/>
          <p:cNvSpPr/>
          <p:nvPr/>
        </p:nvSpPr>
        <p:spPr>
          <a:xfrm>
            <a:off x="6442200" y="4076640"/>
            <a:ext cx="6048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ราธ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3" name=""/>
          <p:cNvSpPr/>
          <p:nvPr/>
        </p:nvSpPr>
        <p:spPr>
          <a:xfrm>
            <a:off x="8696160" y="4330800"/>
            <a:ext cx="17388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มหาสมณเจ้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มพระปรมานุชิตชิโนรส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4" name=""/>
          <p:cNvSpPr/>
          <p:nvPr/>
        </p:nvSpPr>
        <p:spPr>
          <a:xfrm>
            <a:off x="8699760" y="4008600"/>
            <a:ext cx="17478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่อขุนรามคำแหงมหาราช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65" name=""/>
          <p:cNvCxnSpPr>
            <a:stCxn id="1083" idx="4"/>
            <a:endCxn id="1158" idx="6"/>
          </p:cNvCxnSpPr>
          <p:nvPr/>
        </p:nvCxnSpPr>
        <p:spPr>
          <a:xfrm rot="5400000">
            <a:off x="7169040" y="4474080"/>
            <a:ext cx="1320120" cy="308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6" name=""/>
          <p:cNvCxnSpPr>
            <a:stCxn id="1083" idx="4"/>
            <a:endCxn id="1159" idx="2"/>
          </p:cNvCxnSpPr>
          <p:nvPr/>
        </p:nvCxnSpPr>
        <p:spPr>
          <a:xfrm flipH="1" rot="16200000">
            <a:off x="7012440" y="4938840"/>
            <a:ext cx="2063160" cy="1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7" name=""/>
          <p:cNvCxnSpPr>
            <a:stCxn id="1083" idx="4"/>
            <a:endCxn id="1160" idx="6"/>
          </p:cNvCxnSpPr>
          <p:nvPr/>
        </p:nvCxnSpPr>
        <p:spPr>
          <a:xfrm rot="5400000">
            <a:off x="7614360" y="4107960"/>
            <a:ext cx="5086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8" name=""/>
          <p:cNvCxnSpPr>
            <a:stCxn id="1083" idx="4"/>
            <a:endCxn id="1161" idx="2"/>
          </p:cNvCxnSpPr>
          <p:nvPr/>
        </p:nvCxnSpPr>
        <p:spPr>
          <a:xfrm flipH="1" rot="16200000">
            <a:off x="7766640" y="4184280"/>
            <a:ext cx="564480" cy="132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9" name=""/>
          <p:cNvSpPr/>
          <p:nvPr/>
        </p:nvSpPr>
        <p:spPr>
          <a:xfrm>
            <a:off x="7124760" y="6362640"/>
            <a:ext cx="603360" cy="4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0" name=""/>
          <p:cNvSpPr/>
          <p:nvPr/>
        </p:nvSpPr>
        <p:spPr>
          <a:xfrm>
            <a:off x="8753040" y="5962680"/>
            <a:ext cx="806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ิธีทอดกฐิ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1" name=""/>
          <p:cNvSpPr/>
          <p:nvPr/>
        </p:nvSpPr>
        <p:spPr>
          <a:xfrm>
            <a:off x="8754120" y="5638680"/>
            <a:ext cx="8564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ิธีทอดผ้าป่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2" name=""/>
          <p:cNvSpPr/>
          <p:nvPr/>
        </p:nvSpPr>
        <p:spPr>
          <a:xfrm>
            <a:off x="8628480" y="4998960"/>
            <a:ext cx="175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ทบทวนการอาราธนา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าราธนาธรรม</a:t>
            </a:r>
            <a:br>
              <a:rPr sz="1300"/>
            </a:b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อาราธนาพระปริต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3" name=""/>
          <p:cNvSpPr/>
          <p:nvPr/>
        </p:nvSpPr>
        <p:spPr>
          <a:xfrm>
            <a:off x="8693640" y="6286680"/>
            <a:ext cx="1246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ระเบียบพิธีในกา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บุญงานอวมงค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4" name=""/>
          <p:cNvSpPr/>
          <p:nvPr/>
        </p:nvSpPr>
        <p:spPr>
          <a:xfrm>
            <a:off x="4600440" y="6624720"/>
            <a:ext cx="268668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ตามแนวทางขอ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ศาสนิกชน เพื่อประโยชน์ต่อ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5" name=""/>
          <p:cNvSpPr/>
          <p:nvPr/>
        </p:nvSpPr>
        <p:spPr>
          <a:xfrm>
            <a:off x="5177160" y="6299280"/>
            <a:ext cx="20221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ในขณะฟังธรร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6" name=""/>
          <p:cNvSpPr/>
          <p:nvPr/>
        </p:nvSpPr>
        <p:spPr>
          <a:xfrm>
            <a:off x="5397120" y="5973840"/>
            <a:ext cx="17614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ถวายของแด่พระภิกษุ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7" name=""/>
          <p:cNvSpPr/>
          <p:nvPr/>
        </p:nvSpPr>
        <p:spPr>
          <a:xfrm>
            <a:off x="4288680" y="4983120"/>
            <a:ext cx="27752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เข้ารับการบรรพชาในพระพุทธ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8" name=""/>
          <p:cNvSpPr/>
          <p:nvPr/>
        </p:nvSpPr>
        <p:spPr>
          <a:xfrm>
            <a:off x="5440680" y="5288040"/>
            <a:ext cx="144612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เข้าค่ายคุณธรร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9" name=""/>
          <p:cNvSpPr/>
          <p:nvPr/>
        </p:nvSpPr>
        <p:spPr>
          <a:xfrm>
            <a:off x="4366800" y="4381560"/>
            <a:ext cx="2675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รู้เบื้องต้นเกี่ยวกับสถานที่ต่างๆ 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ภายในวัด เช่น เขตพุทธาวาส  สังฆาวาส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การปฏิบัติตนที่เหมาะส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0" name=""/>
          <p:cNvSpPr/>
          <p:nvPr/>
        </p:nvSpPr>
        <p:spPr>
          <a:xfrm>
            <a:off x="4986360" y="5592600"/>
            <a:ext cx="197352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แสดงตนเป็นพุทธมามก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81" name=""/>
          <p:cNvCxnSpPr>
            <a:stCxn id="1179" idx="3"/>
            <a:endCxn id="1158" idx="2"/>
          </p:cNvCxnSpPr>
          <p:nvPr/>
        </p:nvCxnSpPr>
        <p:spPr>
          <a:xfrm>
            <a:off x="6667560" y="4645080"/>
            <a:ext cx="295560" cy="643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2" name=""/>
          <p:cNvCxnSpPr>
            <a:stCxn id="1177" idx="3"/>
            <a:endCxn id="1158" idx="2"/>
          </p:cNvCxnSpPr>
          <p:nvPr/>
        </p:nvCxnSpPr>
        <p:spPr>
          <a:xfrm>
            <a:off x="6667560" y="5097240"/>
            <a:ext cx="295560" cy="191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7" name=""/>
          <p:cNvSpPr/>
          <p:nvPr/>
        </p:nvSpPr>
        <p:spPr>
          <a:xfrm>
            <a:off x="7505640" y="723960"/>
            <a:ext cx="71136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ประวั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7" name=""/>
          <p:cNvSpPr/>
          <p:nvPr/>
        </p:nvSpPr>
        <p:spPr>
          <a:xfrm>
            <a:off x="6972480" y="1790640"/>
            <a:ext cx="12189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สำคัญทา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3" name=""/>
          <p:cNvSpPr/>
          <p:nvPr/>
        </p:nvSpPr>
        <p:spPr>
          <a:xfrm>
            <a:off x="681480" y="1149480"/>
            <a:ext cx="15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84" name=""/>
          <p:cNvCxnSpPr>
            <a:stCxn id="1109" idx="1"/>
            <a:endCxn id="1105" idx="1"/>
          </p:cNvCxnSpPr>
          <p:nvPr/>
        </p:nvCxnSpPr>
        <p:spPr>
          <a:xfrm flipH="1" rot="10800000">
            <a:off x="537840" y="3050280"/>
            <a:ext cx="24480" cy="288360"/>
          </a:xfrm>
          <a:prstGeom prst="bentConnector3">
            <a:avLst>
              <a:gd name="adj1" fmla="val -9597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10" idx="1"/>
            <a:endCxn id="1105" idx="1"/>
          </p:cNvCxnSpPr>
          <p:nvPr/>
        </p:nvCxnSpPr>
        <p:spPr>
          <a:xfrm flipH="1" rot="10800000">
            <a:off x="537840" y="3050280"/>
            <a:ext cx="24480" cy="491400"/>
          </a:xfrm>
          <a:prstGeom prst="bentConnector3">
            <a:avLst>
              <a:gd name="adj1" fmla="val -9597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11" idx="1"/>
            <a:endCxn id="1105" idx="1"/>
          </p:cNvCxnSpPr>
          <p:nvPr/>
        </p:nvCxnSpPr>
        <p:spPr>
          <a:xfrm flipH="1" rot="10800000">
            <a:off x="537840" y="3050280"/>
            <a:ext cx="24480" cy="678600"/>
          </a:xfrm>
          <a:prstGeom prst="bentConnector3">
            <a:avLst>
              <a:gd name="adj1" fmla="val -9597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12" idx="1"/>
            <a:endCxn id="1100" idx="3"/>
          </p:cNvCxnSpPr>
          <p:nvPr/>
        </p:nvCxnSpPr>
        <p:spPr>
          <a:xfrm rot="10800000">
            <a:off x="952560" y="688320"/>
            <a:ext cx="317880" cy="335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8" name=""/>
          <p:cNvCxnSpPr>
            <a:stCxn id="1112" idx="1"/>
            <a:endCxn id="1101" idx="3"/>
          </p:cNvCxnSpPr>
          <p:nvPr/>
        </p:nvCxnSpPr>
        <p:spPr>
          <a:xfrm rot="10800000">
            <a:off x="952560" y="916920"/>
            <a:ext cx="317880" cy="106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9" name=""/>
          <p:cNvCxnSpPr>
            <a:stCxn id="1112" idx="1"/>
            <a:endCxn id="1102" idx="3"/>
          </p:cNvCxnSpPr>
          <p:nvPr/>
        </p:nvCxnSpPr>
        <p:spPr>
          <a:xfrm flipV="1" rot="10800000">
            <a:off x="952560" y="1022760"/>
            <a:ext cx="317880" cy="158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0" name=""/>
          <p:cNvCxnSpPr>
            <a:stCxn id="1098" idx="1"/>
            <a:endCxn id="1103" idx="3"/>
          </p:cNvCxnSpPr>
          <p:nvPr/>
        </p:nvCxnSpPr>
        <p:spPr>
          <a:xfrm rot="10800000">
            <a:off x="1028160" y="1612080"/>
            <a:ext cx="229320" cy="526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1" name=""/>
          <p:cNvCxnSpPr>
            <a:stCxn id="1098" idx="1"/>
            <a:endCxn id="1106" idx="3"/>
          </p:cNvCxnSpPr>
          <p:nvPr/>
        </p:nvCxnSpPr>
        <p:spPr>
          <a:xfrm rot="10800000">
            <a:off x="1028160" y="1907280"/>
            <a:ext cx="229320" cy="231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2" name=""/>
          <p:cNvCxnSpPr>
            <a:stCxn id="1098" idx="1"/>
            <a:endCxn id="1104" idx="3"/>
          </p:cNvCxnSpPr>
          <p:nvPr/>
        </p:nvCxnSpPr>
        <p:spPr>
          <a:xfrm flipV="1" rot="10800000">
            <a:off x="1028160" y="2137320"/>
            <a:ext cx="229320" cy="45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3" name=""/>
          <p:cNvCxnSpPr>
            <a:stCxn id="1098" idx="1"/>
            <a:endCxn id="1107" idx="3"/>
          </p:cNvCxnSpPr>
          <p:nvPr/>
        </p:nvCxnSpPr>
        <p:spPr>
          <a:xfrm flipV="1" rot="10800000">
            <a:off x="1028160" y="2138040"/>
            <a:ext cx="229320" cy="281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4" name=""/>
          <p:cNvCxnSpPr>
            <a:stCxn id="1098" idx="1"/>
            <a:endCxn id="1108" idx="3"/>
          </p:cNvCxnSpPr>
          <p:nvPr/>
        </p:nvCxnSpPr>
        <p:spPr>
          <a:xfrm flipV="1" rot="10800000">
            <a:off x="1028160" y="2137320"/>
            <a:ext cx="229320" cy="57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5" name=""/>
          <p:cNvCxnSpPr>
            <a:stCxn id="1098" idx="1"/>
            <a:endCxn id="1105" idx="3"/>
          </p:cNvCxnSpPr>
          <p:nvPr/>
        </p:nvCxnSpPr>
        <p:spPr>
          <a:xfrm flipV="1" rot="10800000">
            <a:off x="1028160" y="2137320"/>
            <a:ext cx="229320" cy="913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96" name=""/>
          <p:cNvSpPr/>
          <p:nvPr/>
        </p:nvSpPr>
        <p:spPr>
          <a:xfrm>
            <a:off x="2324160" y="1257480"/>
            <a:ext cx="1066680" cy="609480"/>
          </a:xfrm>
          <a:prstGeom prst="hexagon">
            <a:avLst>
              <a:gd name="adj" fmla="val 43754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บริหารจิต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เจริญปัญญ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97" name=""/>
          <p:cNvSpPr/>
          <p:nvPr/>
        </p:nvSpPr>
        <p:spPr>
          <a:xfrm>
            <a:off x="2019240" y="2933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98" name=""/>
          <p:cNvCxnSpPr>
            <a:stCxn id="1091" idx="0"/>
            <a:endCxn id="1197" idx="0"/>
          </p:cNvCxnSpPr>
          <p:nvPr/>
        </p:nvCxnSpPr>
        <p:spPr>
          <a:xfrm flipV="1" rot="16200000">
            <a:off x="1758600" y="3421800"/>
            <a:ext cx="629280" cy="108720"/>
          </a:xfrm>
          <a:prstGeom prst="bentConnector3">
            <a:avLst>
              <a:gd name="adj1" fmla="val 4997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9" name=""/>
          <p:cNvCxnSpPr>
            <a:stCxn id="1099" idx="1"/>
            <a:endCxn id="1197" idx="0"/>
          </p:cNvCxnSpPr>
          <p:nvPr/>
        </p:nvCxnSpPr>
        <p:spPr>
          <a:xfrm flipV="1" rot="10800000">
            <a:off x="2018520" y="2696040"/>
            <a:ext cx="240480" cy="237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0" name=""/>
          <p:cNvCxnSpPr>
            <a:stCxn id="1098" idx="3"/>
            <a:endCxn id="1197" idx="0"/>
          </p:cNvCxnSpPr>
          <p:nvPr/>
        </p:nvCxnSpPr>
        <p:spPr>
          <a:xfrm>
            <a:off x="1771560" y="2138040"/>
            <a:ext cx="248400" cy="795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1" name=""/>
          <p:cNvCxnSpPr>
            <a:stCxn id="1112" idx="3"/>
            <a:endCxn id="1197" idx="0"/>
          </p:cNvCxnSpPr>
          <p:nvPr/>
        </p:nvCxnSpPr>
        <p:spPr>
          <a:xfrm>
            <a:off x="1687320" y="1023480"/>
            <a:ext cx="332280" cy="1910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2" name=""/>
          <p:cNvCxnSpPr>
            <a:stCxn id="1196" idx="2"/>
            <a:endCxn id="1099" idx="3"/>
          </p:cNvCxnSpPr>
          <p:nvPr/>
        </p:nvCxnSpPr>
        <p:spPr>
          <a:xfrm rot="5400000">
            <a:off x="2390040" y="2230200"/>
            <a:ext cx="830880" cy="104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3" name=""/>
          <p:cNvCxnSpPr>
            <a:stCxn id="1113" idx="1"/>
            <a:endCxn id="1196" idx="3"/>
          </p:cNvCxnSpPr>
          <p:nvPr/>
        </p:nvCxnSpPr>
        <p:spPr>
          <a:xfrm flipV="1" rot="10800000">
            <a:off x="3390120" y="734040"/>
            <a:ext cx="229320" cy="82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4" name=""/>
          <p:cNvCxnSpPr>
            <a:stCxn id="1117" idx="1"/>
            <a:endCxn id="1196" idx="3"/>
          </p:cNvCxnSpPr>
          <p:nvPr/>
        </p:nvCxnSpPr>
        <p:spPr>
          <a:xfrm flipV="1" rot="10800000">
            <a:off x="3390120" y="1142640"/>
            <a:ext cx="229320" cy="419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5" name=""/>
          <p:cNvCxnSpPr>
            <a:stCxn id="1114" idx="1"/>
            <a:endCxn id="1196" idx="3"/>
          </p:cNvCxnSpPr>
          <p:nvPr/>
        </p:nvCxnSpPr>
        <p:spPr>
          <a:xfrm flipV="1" rot="10800000">
            <a:off x="3390120" y="1560240"/>
            <a:ext cx="2293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6" name=""/>
          <p:cNvCxnSpPr>
            <a:stCxn id="1116" idx="1"/>
            <a:endCxn id="1196" idx="3"/>
          </p:cNvCxnSpPr>
          <p:nvPr/>
        </p:nvCxnSpPr>
        <p:spPr>
          <a:xfrm rot="10800000">
            <a:off x="3390120" y="1561320"/>
            <a:ext cx="229320" cy="55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7" name=""/>
          <p:cNvCxnSpPr>
            <a:stCxn id="1115" idx="1"/>
            <a:endCxn id="1196" idx="3"/>
          </p:cNvCxnSpPr>
          <p:nvPr/>
        </p:nvCxnSpPr>
        <p:spPr>
          <a:xfrm rot="10800000">
            <a:off x="3390120" y="1561320"/>
            <a:ext cx="229320" cy="10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8" name=""/>
          <p:cNvCxnSpPr>
            <a:stCxn id="1087" idx="2"/>
            <a:endCxn id="1130" idx="0"/>
          </p:cNvCxnSpPr>
          <p:nvPr/>
        </p:nvCxnSpPr>
        <p:spPr>
          <a:xfrm flipV="1" rot="10800000">
            <a:off x="2704320" y="3707280"/>
            <a:ext cx="210240" cy="64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9" name=""/>
          <p:cNvCxnSpPr>
            <a:stCxn id="1091" idx="0"/>
            <a:endCxn id="1087" idx="2"/>
          </p:cNvCxnSpPr>
          <p:nvPr/>
        </p:nvCxnSpPr>
        <p:spPr>
          <a:xfrm flipH="1" flipV="1" rot="5400000">
            <a:off x="2479320" y="3355200"/>
            <a:ext cx="83160" cy="78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0" name=""/>
          <p:cNvCxnSpPr>
            <a:stCxn id="1093" idx="6"/>
            <a:endCxn id="1130" idx="1"/>
          </p:cNvCxnSpPr>
          <p:nvPr/>
        </p:nvCxnSpPr>
        <p:spPr>
          <a:xfrm flipV="1">
            <a:off x="2522160" y="3956760"/>
            <a:ext cx="183240" cy="407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1" name=""/>
          <p:cNvCxnSpPr>
            <a:stCxn id="1095" idx="6"/>
            <a:endCxn id="1130" idx="1"/>
          </p:cNvCxnSpPr>
          <p:nvPr/>
        </p:nvCxnSpPr>
        <p:spPr>
          <a:xfrm flipV="1">
            <a:off x="2522160" y="3956760"/>
            <a:ext cx="18324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094" idx="2"/>
            <a:endCxn id="1130" idx="1"/>
          </p:cNvCxnSpPr>
          <p:nvPr/>
        </p:nvCxnSpPr>
        <p:spPr>
          <a:xfrm rot="10800000">
            <a:off x="2704320" y="3956760"/>
            <a:ext cx="134280" cy="367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096" idx="2"/>
            <a:endCxn id="1130" idx="1"/>
          </p:cNvCxnSpPr>
          <p:nvPr/>
        </p:nvCxnSpPr>
        <p:spPr>
          <a:xfrm rot="10800000">
            <a:off x="2704320" y="3956760"/>
            <a:ext cx="134280" cy="835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4" name=""/>
          <p:cNvCxnSpPr>
            <a:stCxn id="1089" idx="6"/>
            <a:endCxn id="1130" idx="1"/>
          </p:cNvCxnSpPr>
          <p:nvPr/>
        </p:nvCxnSpPr>
        <p:spPr>
          <a:xfrm flipV="1">
            <a:off x="2610000" y="3956760"/>
            <a:ext cx="95760" cy="1350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5" name=""/>
          <p:cNvCxnSpPr>
            <a:stCxn id="1092" idx="2"/>
            <a:endCxn id="1130" idx="1"/>
          </p:cNvCxnSpPr>
          <p:nvPr/>
        </p:nvCxnSpPr>
        <p:spPr>
          <a:xfrm rot="10800000">
            <a:off x="2704320" y="3956760"/>
            <a:ext cx="153360" cy="135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6" name=""/>
          <p:cNvCxnSpPr>
            <a:stCxn id="1097" idx="6"/>
            <a:endCxn id="1130" idx="1"/>
          </p:cNvCxnSpPr>
          <p:nvPr/>
        </p:nvCxnSpPr>
        <p:spPr>
          <a:xfrm flipV="1">
            <a:off x="2432160" y="3957480"/>
            <a:ext cx="273240" cy="2270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7" name=""/>
          <p:cNvCxnSpPr>
            <a:stCxn id="1090" idx="2"/>
            <a:endCxn id="1130" idx="1"/>
          </p:cNvCxnSpPr>
          <p:nvPr/>
        </p:nvCxnSpPr>
        <p:spPr>
          <a:xfrm rot="10800000">
            <a:off x="2704320" y="3956760"/>
            <a:ext cx="100800" cy="1885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8" name=""/>
          <p:cNvCxnSpPr>
            <a:stCxn id="1097" idx="2"/>
            <a:endCxn id="1132" idx="3"/>
          </p:cNvCxnSpPr>
          <p:nvPr/>
        </p:nvCxnSpPr>
        <p:spPr>
          <a:xfrm flipV="1" rot="10800000">
            <a:off x="1280520" y="6227640"/>
            <a:ext cx="281520" cy="76680"/>
          </a:xfrm>
          <a:prstGeom prst="bentConnector3">
            <a:avLst>
              <a:gd name="adj1" fmla="val 496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9" name=""/>
          <p:cNvCxnSpPr>
            <a:stCxn id="1097" idx="2"/>
            <a:endCxn id="1131" idx="3"/>
          </p:cNvCxnSpPr>
          <p:nvPr/>
        </p:nvCxnSpPr>
        <p:spPr>
          <a:xfrm flipV="1" rot="10800000">
            <a:off x="1275480" y="6226560"/>
            <a:ext cx="286560" cy="30564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0" name=""/>
          <p:cNvCxnSpPr>
            <a:stCxn id="1090" idx="4"/>
            <a:endCxn id="1128" idx="1"/>
          </p:cNvCxnSpPr>
          <p:nvPr/>
        </p:nvCxnSpPr>
        <p:spPr>
          <a:xfrm flipH="1" rot="16200000">
            <a:off x="3251880" y="6043320"/>
            <a:ext cx="327600" cy="407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1" name=""/>
          <p:cNvCxnSpPr>
            <a:stCxn id="1090" idx="4"/>
            <a:endCxn id="1129" idx="1"/>
          </p:cNvCxnSpPr>
          <p:nvPr/>
        </p:nvCxnSpPr>
        <p:spPr>
          <a:xfrm flipH="1" rot="16200000">
            <a:off x="3023280" y="6271920"/>
            <a:ext cx="784800" cy="407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2" name=""/>
          <p:cNvCxnSpPr>
            <a:stCxn id="1089" idx="2"/>
            <a:endCxn id="1123" idx="3"/>
          </p:cNvCxnSpPr>
          <p:nvPr/>
        </p:nvCxnSpPr>
        <p:spPr>
          <a:xfrm rot="10800000">
            <a:off x="1637640" y="5002920"/>
            <a:ext cx="172080" cy="304200"/>
          </a:xfrm>
          <a:prstGeom prst="bentConnector3">
            <a:avLst>
              <a:gd name="adj1" fmla="val 498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3" name=""/>
          <p:cNvCxnSpPr>
            <a:stCxn id="1089" idx="2"/>
            <a:endCxn id="1124" idx="3"/>
          </p:cNvCxnSpPr>
          <p:nvPr/>
        </p:nvCxnSpPr>
        <p:spPr>
          <a:xfrm flipV="1" rot="10800000">
            <a:off x="1637640" y="5306760"/>
            <a:ext cx="172080" cy="235440"/>
          </a:xfrm>
          <a:prstGeom prst="bentConnector3">
            <a:avLst>
              <a:gd name="adj1" fmla="val 498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4" name=""/>
          <p:cNvCxnSpPr>
            <a:stCxn id="1178" idx="3"/>
            <a:endCxn id="1158" idx="2"/>
          </p:cNvCxnSpPr>
          <p:nvPr/>
        </p:nvCxnSpPr>
        <p:spPr>
          <a:xfrm flipV="1">
            <a:off x="6667560" y="5287320"/>
            <a:ext cx="295560" cy="114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5" name=""/>
          <p:cNvCxnSpPr>
            <a:stCxn id="1180" idx="3"/>
            <a:endCxn id="1158" idx="2"/>
          </p:cNvCxnSpPr>
          <p:nvPr/>
        </p:nvCxnSpPr>
        <p:spPr>
          <a:xfrm flipV="1">
            <a:off x="6667560" y="5287680"/>
            <a:ext cx="295560" cy="419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6" name=""/>
          <p:cNvCxnSpPr>
            <a:stCxn id="1176" idx="3"/>
            <a:endCxn id="1169" idx="2"/>
          </p:cNvCxnSpPr>
          <p:nvPr/>
        </p:nvCxnSpPr>
        <p:spPr>
          <a:xfrm>
            <a:off x="6895800" y="6078600"/>
            <a:ext cx="229320" cy="49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7" name=""/>
          <p:cNvCxnSpPr>
            <a:stCxn id="1175" idx="3"/>
            <a:endCxn id="1169" idx="2"/>
          </p:cNvCxnSpPr>
          <p:nvPr/>
        </p:nvCxnSpPr>
        <p:spPr>
          <a:xfrm>
            <a:off x="6895800" y="6404040"/>
            <a:ext cx="229320" cy="17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8" name=""/>
          <p:cNvCxnSpPr>
            <a:stCxn id="1174" idx="3"/>
            <a:endCxn id="1169" idx="2"/>
          </p:cNvCxnSpPr>
          <p:nvPr/>
        </p:nvCxnSpPr>
        <p:spPr>
          <a:xfrm flipV="1">
            <a:off x="6895800" y="6575040"/>
            <a:ext cx="229320" cy="249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9" name=""/>
          <p:cNvCxnSpPr>
            <a:stCxn id="1162" idx="3"/>
            <a:endCxn id="1160" idx="2"/>
          </p:cNvCxnSpPr>
          <p:nvPr/>
        </p:nvCxnSpPr>
        <p:spPr>
          <a:xfrm>
            <a:off x="6973560" y="4159080"/>
            <a:ext cx="151560" cy="317880"/>
          </a:xfrm>
          <a:prstGeom prst="bentConnector3">
            <a:avLst>
              <a:gd name="adj1" fmla="val 4928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0" name=""/>
          <p:cNvCxnSpPr>
            <a:stCxn id="1169" idx="6"/>
            <a:endCxn id="1083" idx="4"/>
          </p:cNvCxnSpPr>
          <p:nvPr/>
        </p:nvCxnSpPr>
        <p:spPr>
          <a:xfrm flipV="1">
            <a:off x="7727760" y="3967920"/>
            <a:ext cx="255960" cy="2607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1" name=""/>
          <p:cNvCxnSpPr>
            <a:stCxn id="1159" idx="6"/>
            <a:endCxn id="1172" idx="1"/>
          </p:cNvCxnSpPr>
          <p:nvPr/>
        </p:nvCxnSpPr>
        <p:spPr>
          <a:xfrm flipV="1">
            <a:off x="8724600" y="5244480"/>
            <a:ext cx="1530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2" name=""/>
          <p:cNvCxnSpPr>
            <a:stCxn id="1159" idx="6"/>
            <a:endCxn id="1171" idx="1"/>
          </p:cNvCxnSpPr>
          <p:nvPr/>
        </p:nvCxnSpPr>
        <p:spPr>
          <a:xfrm flipV="1">
            <a:off x="8724600" y="5725440"/>
            <a:ext cx="15300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3" name=""/>
          <p:cNvCxnSpPr>
            <a:stCxn id="1159" idx="6"/>
            <a:endCxn id="1173" idx="1"/>
          </p:cNvCxnSpPr>
          <p:nvPr/>
        </p:nvCxnSpPr>
        <p:spPr>
          <a:xfrm>
            <a:off x="8724600" y="6030720"/>
            <a:ext cx="153000" cy="42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4" name=""/>
          <p:cNvCxnSpPr>
            <a:stCxn id="1161" idx="6"/>
            <a:endCxn id="1164" idx="1"/>
          </p:cNvCxnSpPr>
          <p:nvPr/>
        </p:nvCxnSpPr>
        <p:spPr>
          <a:xfrm flipV="1">
            <a:off x="8748360" y="4101480"/>
            <a:ext cx="205560" cy="430920"/>
          </a:xfrm>
          <a:prstGeom prst="bentConnector3">
            <a:avLst>
              <a:gd name="adj1" fmla="val 494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5" name=""/>
          <p:cNvCxnSpPr>
            <a:stCxn id="1161" idx="6"/>
            <a:endCxn id="1163" idx="1"/>
          </p:cNvCxnSpPr>
          <p:nvPr/>
        </p:nvCxnSpPr>
        <p:spPr>
          <a:xfrm flipV="1">
            <a:off x="8748360" y="4508280"/>
            <a:ext cx="205560" cy="24480"/>
          </a:xfrm>
          <a:prstGeom prst="bentConnector3">
            <a:avLst>
              <a:gd name="adj1" fmla="val 494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6" name=""/>
          <p:cNvCxnSpPr>
            <a:stCxn id="1094" idx="6"/>
            <a:endCxn id="1120" idx="1"/>
          </p:cNvCxnSpPr>
          <p:nvPr/>
        </p:nvCxnSpPr>
        <p:spPr>
          <a:xfrm flipV="1">
            <a:off x="3551400" y="4204440"/>
            <a:ext cx="344880" cy="119880"/>
          </a:xfrm>
          <a:prstGeom prst="bentConnector3">
            <a:avLst>
              <a:gd name="adj1" fmla="val 497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7" name=""/>
          <p:cNvCxnSpPr>
            <a:stCxn id="1134" idx="6"/>
            <a:endCxn id="1148" idx="1"/>
          </p:cNvCxnSpPr>
          <p:nvPr/>
        </p:nvCxnSpPr>
        <p:spPr>
          <a:xfrm flipV="1">
            <a:off x="7105680" y="2875680"/>
            <a:ext cx="172080" cy="219960"/>
          </a:xfrm>
          <a:prstGeom prst="bentConnector3">
            <a:avLst>
              <a:gd name="adj1" fmla="val 498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8" name=""/>
          <p:cNvCxnSpPr>
            <a:stCxn id="1137" idx="6"/>
            <a:endCxn id="1151" idx="1"/>
          </p:cNvCxnSpPr>
          <p:nvPr/>
        </p:nvCxnSpPr>
        <p:spPr>
          <a:xfrm flipV="1">
            <a:off x="8191440" y="2052360"/>
            <a:ext cx="434160" cy="81360"/>
          </a:xfrm>
          <a:prstGeom prst="bentConnector3">
            <a:avLst>
              <a:gd name="adj1" fmla="val 4979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39" name=""/>
          <p:cNvSpPr/>
          <p:nvPr/>
        </p:nvSpPr>
        <p:spPr>
          <a:xfrm>
            <a:off x="8929800" y="2782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0" name=""/>
          <p:cNvSpPr/>
          <p:nvPr/>
        </p:nvSpPr>
        <p:spPr>
          <a:xfrm>
            <a:off x="6362640" y="21718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241" name=""/>
          <p:cNvCxnSpPr>
            <a:stCxn id="1242" idx="0"/>
            <a:endCxn id="1147" idx="4"/>
          </p:cNvCxnSpPr>
          <p:nvPr/>
        </p:nvCxnSpPr>
        <p:spPr>
          <a:xfrm flipH="1" flipV="1" rot="5400000">
            <a:off x="7148880" y="926640"/>
            <a:ext cx="534240" cy="889560"/>
          </a:xfrm>
          <a:prstGeom prst="bentConnector3">
            <a:avLst>
              <a:gd name="adj1" fmla="val 571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3" name=""/>
          <p:cNvCxnSpPr>
            <a:stCxn id="1144" idx="1"/>
            <a:endCxn id="1147" idx="6"/>
          </p:cNvCxnSpPr>
          <p:nvPr/>
        </p:nvCxnSpPr>
        <p:spPr>
          <a:xfrm flipV="1" rot="10800000">
            <a:off x="8216280" y="699120"/>
            <a:ext cx="364320" cy="21492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4" name=""/>
          <p:cNvCxnSpPr>
            <a:stCxn id="1139" idx="1"/>
            <a:endCxn id="1147" idx="6"/>
          </p:cNvCxnSpPr>
          <p:nvPr/>
        </p:nvCxnSpPr>
        <p:spPr>
          <a:xfrm flipV="1" rot="10800000">
            <a:off x="8216280" y="902160"/>
            <a:ext cx="364320" cy="1188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5" name=""/>
          <p:cNvCxnSpPr>
            <a:stCxn id="1140" idx="1"/>
            <a:endCxn id="1147" idx="6"/>
          </p:cNvCxnSpPr>
          <p:nvPr/>
        </p:nvCxnSpPr>
        <p:spPr>
          <a:xfrm rot="10800000">
            <a:off x="8216280" y="913680"/>
            <a:ext cx="364320" cy="1944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6" name=""/>
          <p:cNvCxnSpPr>
            <a:stCxn id="1141" idx="1"/>
            <a:endCxn id="1147" idx="6"/>
          </p:cNvCxnSpPr>
          <p:nvPr/>
        </p:nvCxnSpPr>
        <p:spPr>
          <a:xfrm rot="10800000">
            <a:off x="8216280" y="913680"/>
            <a:ext cx="364320" cy="39744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stCxn id="1142" idx="1"/>
            <a:endCxn id="1147" idx="6"/>
          </p:cNvCxnSpPr>
          <p:nvPr/>
        </p:nvCxnSpPr>
        <p:spPr>
          <a:xfrm rot="10800000">
            <a:off x="8216280" y="913680"/>
            <a:ext cx="364320" cy="60084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143" idx="1"/>
            <a:endCxn id="1147" idx="6"/>
          </p:cNvCxnSpPr>
          <p:nvPr/>
        </p:nvCxnSpPr>
        <p:spPr>
          <a:xfrm rot="10800000">
            <a:off x="8216280" y="913680"/>
            <a:ext cx="364320" cy="80568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9" name=""/>
          <p:cNvSpPr/>
          <p:nvPr/>
        </p:nvSpPr>
        <p:spPr>
          <a:xfrm>
            <a:off x="6362640" y="16383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250" name=""/>
          <p:cNvCxnSpPr>
            <a:stCxn id="1084" idx="0"/>
            <a:endCxn id="1249" idx="0"/>
          </p:cNvCxnSpPr>
          <p:nvPr/>
        </p:nvCxnSpPr>
        <p:spPr>
          <a:xfrm flipH="1" flipV="1" rot="5400000">
            <a:off x="5469480" y="1716480"/>
            <a:ext cx="972360" cy="815040"/>
          </a:xfrm>
          <a:prstGeom prst="bentConnector3">
            <a:avLst>
              <a:gd name="adj1" fmla="val 215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1" name=""/>
          <p:cNvCxnSpPr>
            <a:stCxn id="1155" idx="1"/>
            <a:endCxn id="1239" idx="0"/>
          </p:cNvCxnSpPr>
          <p:nvPr/>
        </p:nvCxnSpPr>
        <p:spPr>
          <a:xfrm rot="10800000">
            <a:off x="8929080" y="2858400"/>
            <a:ext cx="100800" cy="24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2" name=""/>
          <p:cNvCxnSpPr>
            <a:stCxn id="1153" idx="1"/>
            <a:endCxn id="1239" idx="1"/>
          </p:cNvCxnSpPr>
          <p:nvPr/>
        </p:nvCxnSpPr>
        <p:spPr>
          <a:xfrm rot="10800000">
            <a:off x="8929080" y="2858400"/>
            <a:ext cx="100800" cy="202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3" name=""/>
          <p:cNvCxnSpPr>
            <a:stCxn id="1156" idx="1"/>
            <a:endCxn id="1239" idx="1"/>
          </p:cNvCxnSpPr>
          <p:nvPr/>
        </p:nvCxnSpPr>
        <p:spPr>
          <a:xfrm rot="10800000">
            <a:off x="8929080" y="2858400"/>
            <a:ext cx="10080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4" name=""/>
          <p:cNvCxnSpPr>
            <a:stCxn id="1154" idx="1"/>
            <a:endCxn id="1239" idx="1"/>
          </p:cNvCxnSpPr>
          <p:nvPr/>
        </p:nvCxnSpPr>
        <p:spPr>
          <a:xfrm rot="10800000">
            <a:off x="8929080" y="2859120"/>
            <a:ext cx="100800" cy="559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5" name=""/>
          <p:cNvCxnSpPr>
            <a:stCxn id="1157" idx="1"/>
            <a:endCxn id="1239" idx="1"/>
          </p:cNvCxnSpPr>
          <p:nvPr/>
        </p:nvCxnSpPr>
        <p:spPr>
          <a:xfrm rot="10800000">
            <a:off x="8929080" y="2858400"/>
            <a:ext cx="100800" cy="738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6" name=""/>
          <p:cNvSpPr/>
          <p:nvPr/>
        </p:nvSpPr>
        <p:spPr>
          <a:xfrm>
            <a:off x="9244440" y="190440"/>
            <a:ext cx="5641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๑๐๗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57" name=""/>
          <p:cNvSpPr/>
          <p:nvPr/>
        </p:nvSpPr>
        <p:spPr>
          <a:xfrm>
            <a:off x="1409760" y="56768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258" name=""/>
          <p:cNvCxnSpPr>
            <a:stCxn id="1084" idx="0"/>
            <a:endCxn id="1134" idx="2"/>
          </p:cNvCxnSpPr>
          <p:nvPr/>
        </p:nvCxnSpPr>
        <p:spPr>
          <a:xfrm flipH="1" rot="16200000">
            <a:off x="5807520" y="2349360"/>
            <a:ext cx="486360" cy="1005480"/>
          </a:xfrm>
          <a:prstGeom prst="bentConnector4">
            <a:avLst>
              <a:gd name="adj1" fmla="val -43111"/>
              <a:gd name="adj2" fmla="val 81482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084560" y="2895480"/>
            <a:ext cx="296388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0" lang="hi-IN" sz="75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7" name=""/>
          <p:cNvSpPr/>
          <p:nvPr/>
        </p:nvSpPr>
        <p:spPr>
          <a:xfrm>
            <a:off x="9322560" y="190440"/>
            <a:ext cx="4100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๙๐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/>
          <p:nvPr/>
        </p:nvSpPr>
        <p:spPr>
          <a:xfrm>
            <a:off x="4084560" y="2895480"/>
            <a:ext cx="296388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0" lang="hi-IN" sz="75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0" name=""/>
          <p:cNvSpPr/>
          <p:nvPr/>
        </p:nvSpPr>
        <p:spPr>
          <a:xfrm>
            <a:off x="9262440" y="190440"/>
            <a:ext cx="5320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๑๐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4389480" y="2654280"/>
            <a:ext cx="1463760" cy="148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4d4d4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2" name=""/>
          <p:cNvSpPr/>
          <p:nvPr/>
        </p:nvSpPr>
        <p:spPr>
          <a:xfrm>
            <a:off x="1465560" y="193680"/>
            <a:ext cx="7362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สาระการเรียนรู้พระพุทธ  ชั้นประถมศึกษาปีที่ ๖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3" name=""/>
          <p:cNvSpPr/>
          <p:nvPr/>
        </p:nvSpPr>
        <p:spPr>
          <a:xfrm>
            <a:off x="4419720" y="647640"/>
            <a:ext cx="1371600" cy="13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สำคัญของ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ในฐานะศาสนา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จำชาติ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4" name=""/>
          <p:cNvSpPr/>
          <p:nvPr/>
        </p:nvSpPr>
        <p:spPr>
          <a:xfrm>
            <a:off x="2933640" y="2924280"/>
            <a:ext cx="990720" cy="9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สำคัญท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5" name=""/>
          <p:cNvSpPr/>
          <p:nvPr/>
        </p:nvSpPr>
        <p:spPr>
          <a:xfrm>
            <a:off x="4686480" y="488628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ด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6" name=""/>
          <p:cNvSpPr/>
          <p:nvPr/>
        </p:nvSpPr>
        <p:spPr>
          <a:xfrm>
            <a:off x="3862440" y="6264360"/>
            <a:ext cx="12873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ีฆีติโกสลชาด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7" name=""/>
          <p:cNvSpPr/>
          <p:nvPr/>
        </p:nvSpPr>
        <p:spPr>
          <a:xfrm>
            <a:off x="5115960" y="6273720"/>
            <a:ext cx="13460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พพทาฐิชาด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268" name=""/>
          <p:cNvCxnSpPr>
            <a:stCxn id="1265" idx="4"/>
            <a:endCxn id="1267" idx="0"/>
          </p:cNvCxnSpPr>
          <p:nvPr/>
        </p:nvCxnSpPr>
        <p:spPr>
          <a:xfrm flipH="1" rot="16200000">
            <a:off x="5234760" y="5718600"/>
            <a:ext cx="464040" cy="646560"/>
          </a:xfrm>
          <a:prstGeom prst="bentConnector3">
            <a:avLst>
              <a:gd name="adj1" fmla="val 489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9" name=""/>
          <p:cNvCxnSpPr>
            <a:stCxn id="1265" idx="4"/>
            <a:endCxn id="1266" idx="0"/>
          </p:cNvCxnSpPr>
          <p:nvPr/>
        </p:nvCxnSpPr>
        <p:spPr>
          <a:xfrm rot="5400000">
            <a:off x="4597560" y="5718600"/>
            <a:ext cx="454680" cy="637560"/>
          </a:xfrm>
          <a:prstGeom prst="bentConnector3">
            <a:avLst>
              <a:gd name="adj1" fmla="val 488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70" name=""/>
          <p:cNvSpPr/>
          <p:nvPr/>
        </p:nvSpPr>
        <p:spPr>
          <a:xfrm>
            <a:off x="6500880" y="294624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ประวัติ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1" name=""/>
          <p:cNvSpPr/>
          <p:nvPr/>
        </p:nvSpPr>
        <p:spPr>
          <a:xfrm>
            <a:off x="6987600" y="4664160"/>
            <a:ext cx="80604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ปัจฉิมสาว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2" name=""/>
          <p:cNvSpPr/>
          <p:nvPr/>
        </p:nvSpPr>
        <p:spPr>
          <a:xfrm>
            <a:off x="6990480" y="4976640"/>
            <a:ext cx="74952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ินิพพา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3" name=""/>
          <p:cNvSpPr/>
          <p:nvPr/>
        </p:nvSpPr>
        <p:spPr>
          <a:xfrm>
            <a:off x="6928920" y="5278320"/>
            <a:ext cx="13014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ถวายพระเพลิ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4" name=""/>
          <p:cNvSpPr/>
          <p:nvPr/>
        </p:nvSpPr>
        <p:spPr>
          <a:xfrm>
            <a:off x="6878520" y="5586480"/>
            <a:ext cx="163224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แจกพระบรมสารีริกธาตุ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5" name=""/>
          <p:cNvSpPr/>
          <p:nvPr/>
        </p:nvSpPr>
        <p:spPr>
          <a:xfrm>
            <a:off x="6968880" y="5889600"/>
            <a:ext cx="120096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งเวชนียสถาน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6" name=""/>
          <p:cNvSpPr/>
          <p:nvPr/>
        </p:nvSpPr>
        <p:spPr>
          <a:xfrm>
            <a:off x="6939720" y="4371840"/>
            <a:ext cx="105768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ปลงอายุสังขาร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7" name=""/>
          <p:cNvSpPr/>
          <p:nvPr/>
        </p:nvSpPr>
        <p:spPr>
          <a:xfrm>
            <a:off x="599760" y="2933640"/>
            <a:ext cx="23040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รุปวันสำคัญทางพระพุทธ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8" name=""/>
          <p:cNvSpPr/>
          <p:nvPr/>
        </p:nvSpPr>
        <p:spPr>
          <a:xfrm>
            <a:off x="1093680" y="3457440"/>
            <a:ext cx="1708200" cy="654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หมาย ความสำคัญ 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โยชน์การเข้าร่ว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ิจกรรม   หลักปฏิบั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279" name=""/>
          <p:cNvCxnSpPr>
            <a:stCxn id="1278" idx="3"/>
            <a:endCxn id="1264" idx="2"/>
          </p:cNvCxnSpPr>
          <p:nvPr/>
        </p:nvCxnSpPr>
        <p:spPr>
          <a:xfrm flipV="1">
            <a:off x="2570040" y="3418920"/>
            <a:ext cx="354960" cy="370440"/>
          </a:xfrm>
          <a:prstGeom prst="bentConnector3">
            <a:avLst>
              <a:gd name="adj1" fmla="val 510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0" name=""/>
          <p:cNvCxnSpPr>
            <a:stCxn id="1277" idx="3"/>
            <a:endCxn id="1264" idx="2"/>
          </p:cNvCxnSpPr>
          <p:nvPr/>
        </p:nvCxnSpPr>
        <p:spPr>
          <a:xfrm>
            <a:off x="2570040" y="3048120"/>
            <a:ext cx="354960" cy="372240"/>
          </a:xfrm>
          <a:prstGeom prst="bentConnector3">
            <a:avLst>
              <a:gd name="adj1" fmla="val 5106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1" name=""/>
          <p:cNvSpPr/>
          <p:nvPr/>
        </p:nvSpPr>
        <p:spPr>
          <a:xfrm>
            <a:off x="433080" y="3400560"/>
            <a:ext cx="7815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มาฆบูช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82" name=""/>
          <p:cNvSpPr/>
          <p:nvPr/>
        </p:nvSpPr>
        <p:spPr>
          <a:xfrm>
            <a:off x="379800" y="3591000"/>
            <a:ext cx="8532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วิสาขบูช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83" name=""/>
          <p:cNvSpPr/>
          <p:nvPr/>
        </p:nvSpPr>
        <p:spPr>
          <a:xfrm>
            <a:off x="335880" y="3762360"/>
            <a:ext cx="90972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อัฏฐมีบูช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84" name=""/>
          <p:cNvSpPr/>
          <p:nvPr/>
        </p:nvSpPr>
        <p:spPr>
          <a:xfrm>
            <a:off x="192240" y="3922560"/>
            <a:ext cx="10666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อาสาฬหบูช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85" name=""/>
          <p:cNvSpPr/>
          <p:nvPr/>
        </p:nvSpPr>
        <p:spPr>
          <a:xfrm>
            <a:off x="303480" y="4113360"/>
            <a:ext cx="9554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ธรรมสวน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286" name=""/>
          <p:cNvCxnSpPr>
            <a:stCxn id="1278" idx="1"/>
            <a:endCxn id="1281" idx="3"/>
          </p:cNvCxnSpPr>
          <p:nvPr/>
        </p:nvCxnSpPr>
        <p:spPr>
          <a:xfrm rot="10800000">
            <a:off x="1118520" y="3513960"/>
            <a:ext cx="207000" cy="275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7" name=""/>
          <p:cNvCxnSpPr>
            <a:stCxn id="1278" idx="1"/>
            <a:endCxn id="1282" idx="3"/>
          </p:cNvCxnSpPr>
          <p:nvPr/>
        </p:nvCxnSpPr>
        <p:spPr>
          <a:xfrm rot="10800000">
            <a:off x="1118520" y="3704400"/>
            <a:ext cx="207000" cy="84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8" name=""/>
          <p:cNvCxnSpPr>
            <a:stCxn id="1278" idx="1"/>
            <a:endCxn id="1283" idx="3"/>
          </p:cNvCxnSpPr>
          <p:nvPr/>
        </p:nvCxnSpPr>
        <p:spPr>
          <a:xfrm flipV="1" rot="10800000">
            <a:off x="1118520" y="3787920"/>
            <a:ext cx="207000" cy="87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9" name=""/>
          <p:cNvCxnSpPr>
            <a:stCxn id="1278" idx="1"/>
            <a:endCxn id="1284" idx="3"/>
          </p:cNvCxnSpPr>
          <p:nvPr/>
        </p:nvCxnSpPr>
        <p:spPr>
          <a:xfrm flipV="1" rot="10800000">
            <a:off x="1118520" y="3789000"/>
            <a:ext cx="207000" cy="248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0" name=""/>
          <p:cNvCxnSpPr>
            <a:stCxn id="1278" idx="1"/>
            <a:endCxn id="1285" idx="3"/>
          </p:cNvCxnSpPr>
          <p:nvPr/>
        </p:nvCxnSpPr>
        <p:spPr>
          <a:xfrm flipV="1" rot="10800000">
            <a:off x="1118520" y="3788280"/>
            <a:ext cx="207000" cy="438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1" name=""/>
          <p:cNvCxnSpPr>
            <a:stCxn id="1270" idx="4"/>
            <a:endCxn id="1271" idx="1"/>
          </p:cNvCxnSpPr>
          <p:nvPr/>
        </p:nvCxnSpPr>
        <p:spPr>
          <a:xfrm flipH="1" rot="16200000">
            <a:off x="6590520" y="4236840"/>
            <a:ext cx="87696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2" name=""/>
          <p:cNvCxnSpPr>
            <a:stCxn id="1270" idx="4"/>
            <a:endCxn id="1272" idx="1"/>
          </p:cNvCxnSpPr>
          <p:nvPr/>
        </p:nvCxnSpPr>
        <p:spPr>
          <a:xfrm flipH="1" rot="16200000">
            <a:off x="6433920" y="4393080"/>
            <a:ext cx="118980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3" name=""/>
          <p:cNvCxnSpPr>
            <a:stCxn id="1270" idx="4"/>
            <a:endCxn id="1273" idx="1"/>
          </p:cNvCxnSpPr>
          <p:nvPr/>
        </p:nvCxnSpPr>
        <p:spPr>
          <a:xfrm flipH="1" rot="16200000">
            <a:off x="6294240" y="4533480"/>
            <a:ext cx="1491480" cy="16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4" name=""/>
          <p:cNvCxnSpPr>
            <a:stCxn id="1270" idx="4"/>
            <a:endCxn id="1274" idx="1"/>
          </p:cNvCxnSpPr>
          <p:nvPr/>
        </p:nvCxnSpPr>
        <p:spPr>
          <a:xfrm flipH="1" rot="16200000">
            <a:off x="6140520" y="4687560"/>
            <a:ext cx="1799280" cy="16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5" name=""/>
          <p:cNvCxnSpPr>
            <a:stCxn id="1270" idx="4"/>
            <a:endCxn id="1275" idx="1"/>
          </p:cNvCxnSpPr>
          <p:nvPr/>
        </p:nvCxnSpPr>
        <p:spPr>
          <a:xfrm flipH="1" rot="16200000">
            <a:off x="5997600" y="4829760"/>
            <a:ext cx="2102040" cy="183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6" name=""/>
          <p:cNvCxnSpPr>
            <a:stCxn id="1270" idx="4"/>
            <a:endCxn id="1276" idx="1"/>
          </p:cNvCxnSpPr>
          <p:nvPr/>
        </p:nvCxnSpPr>
        <p:spPr>
          <a:xfrm flipH="1" rot="16200000">
            <a:off x="6736320" y="4090680"/>
            <a:ext cx="58500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7" name=""/>
          <p:cNvCxnSpPr>
            <a:stCxn id="1263" idx="4"/>
            <a:endCxn id="1261" idx="0"/>
          </p:cNvCxnSpPr>
          <p:nvPr/>
        </p:nvCxnSpPr>
        <p:spPr>
          <a:xfrm>
            <a:off x="5105520" y="2028960"/>
            <a:ext cx="16560" cy="597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8" name=""/>
          <p:cNvCxnSpPr>
            <a:stCxn id="1264" idx="6"/>
            <a:endCxn id="1261" idx="2"/>
          </p:cNvCxnSpPr>
          <p:nvPr/>
        </p:nvCxnSpPr>
        <p:spPr>
          <a:xfrm flipV="1">
            <a:off x="3933360" y="3398400"/>
            <a:ext cx="42804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9" name=""/>
          <p:cNvCxnSpPr>
            <a:stCxn id="1265" idx="0"/>
            <a:endCxn id="1261" idx="4"/>
          </p:cNvCxnSpPr>
          <p:nvPr/>
        </p:nvCxnSpPr>
        <p:spPr>
          <a:xfrm flipH="1" flipV="1">
            <a:off x="5121000" y="4172040"/>
            <a:ext cx="23040" cy="705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0" name=""/>
          <p:cNvCxnSpPr>
            <a:stCxn id="1270" idx="2"/>
            <a:endCxn id="1261" idx="6"/>
          </p:cNvCxnSpPr>
          <p:nvPr/>
        </p:nvCxnSpPr>
        <p:spPr>
          <a:xfrm flipH="1" flipV="1">
            <a:off x="5880960" y="3398040"/>
            <a:ext cx="610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1" name=""/>
          <p:cNvSpPr/>
          <p:nvPr/>
        </p:nvSpPr>
        <p:spPr>
          <a:xfrm>
            <a:off x="6939720" y="4059360"/>
            <a:ext cx="109872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รุปพุทธประวั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302" name=""/>
          <p:cNvCxnSpPr>
            <a:stCxn id="1270" idx="4"/>
            <a:endCxn id="1301" idx="1"/>
          </p:cNvCxnSpPr>
          <p:nvPr/>
        </p:nvCxnSpPr>
        <p:spPr>
          <a:xfrm flipH="1" rot="16200000">
            <a:off x="6892920" y="3934440"/>
            <a:ext cx="27216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3" name=""/>
          <p:cNvSpPr/>
          <p:nvPr/>
        </p:nvSpPr>
        <p:spPr>
          <a:xfrm>
            <a:off x="9266760" y="190440"/>
            <a:ext cx="5198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๑๐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4084560" y="2895480"/>
            <a:ext cx="296388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0" lang="hi-IN" sz="75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05" name=""/>
          <p:cNvSpPr/>
          <p:nvPr/>
        </p:nvSpPr>
        <p:spPr>
          <a:xfrm>
            <a:off x="9265320" y="190440"/>
            <a:ext cx="5274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๑๑๐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6251400" y="297648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ธรร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07" name=""/>
          <p:cNvSpPr/>
          <p:nvPr/>
        </p:nvSpPr>
        <p:spPr>
          <a:xfrm>
            <a:off x="4905360" y="3056040"/>
            <a:ext cx="719280" cy="71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โอวาท ๓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08" name=""/>
          <p:cNvSpPr/>
          <p:nvPr/>
        </p:nvSpPr>
        <p:spPr>
          <a:xfrm>
            <a:off x="5381640" y="4102200"/>
            <a:ext cx="719280" cy="71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ไตรสิกข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09" name=""/>
          <p:cNvSpPr/>
          <p:nvPr/>
        </p:nvSpPr>
        <p:spPr>
          <a:xfrm>
            <a:off x="6251400" y="4503600"/>
            <a:ext cx="719280" cy="719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หลักกรรม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0" name=""/>
          <p:cNvSpPr/>
          <p:nvPr/>
        </p:nvSpPr>
        <p:spPr>
          <a:xfrm>
            <a:off x="7201080" y="4343400"/>
            <a:ext cx="718920" cy="719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ศรัทธา ๔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1" name=""/>
          <p:cNvSpPr/>
          <p:nvPr/>
        </p:nvSpPr>
        <p:spPr>
          <a:xfrm>
            <a:off x="7834320" y="3700440"/>
            <a:ext cx="719280" cy="719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อริยสัจ ๔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2" name=""/>
          <p:cNvSpPr/>
          <p:nvPr/>
        </p:nvSpPr>
        <p:spPr>
          <a:xfrm>
            <a:off x="7834320" y="2814480"/>
            <a:ext cx="719280" cy="719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กิจ ๕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3" name=""/>
          <p:cNvSpPr/>
          <p:nvPr/>
        </p:nvSpPr>
        <p:spPr>
          <a:xfrm>
            <a:off x="7277040" y="1943280"/>
            <a:ext cx="719280" cy="71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ไตร</a:t>
            </a:r>
            <a:br>
              <a:rPr sz="1700"/>
            </a:br>
            <a:r>
              <a:rPr b="1" lang="hi-IN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ปิฎก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4" name=""/>
          <p:cNvSpPr/>
          <p:nvPr/>
        </p:nvSpPr>
        <p:spPr>
          <a:xfrm>
            <a:off x="6286680" y="1790640"/>
            <a:ext cx="718920" cy="719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ศาสน</a:t>
            </a:r>
            <a:br>
              <a:rPr sz="1700"/>
            </a:br>
            <a:r>
              <a:rPr b="1" lang="th-TH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สุภาษิต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5" name=""/>
          <p:cNvSpPr/>
          <p:nvPr/>
        </p:nvSpPr>
        <p:spPr>
          <a:xfrm>
            <a:off x="5295960" y="2095560"/>
            <a:ext cx="718920" cy="71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ศัพท์ทาง</a:t>
            </a:r>
            <a:br>
              <a:rPr sz="1700"/>
            </a:br>
            <a:r>
              <a:rPr b="1" lang="hi-IN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</a:t>
            </a:r>
            <a:br>
              <a:rPr sz="1700"/>
            </a:br>
            <a:r>
              <a:rPr b="1" lang="hi-IN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6" name=""/>
          <p:cNvSpPr/>
          <p:nvPr/>
        </p:nvSpPr>
        <p:spPr>
          <a:xfrm>
            <a:off x="3110040" y="2044080"/>
            <a:ext cx="617040" cy="258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ไม่ทำชั่ว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7" name=""/>
          <p:cNvSpPr/>
          <p:nvPr/>
        </p:nvSpPr>
        <p:spPr>
          <a:xfrm>
            <a:off x="2976120" y="3204720"/>
            <a:ext cx="777240" cy="258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ความดี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8" name=""/>
          <p:cNvSpPr/>
          <p:nvPr/>
        </p:nvSpPr>
        <p:spPr>
          <a:xfrm>
            <a:off x="2609640" y="4366800"/>
            <a:ext cx="1205280" cy="258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จิตให้บริสุทธิ์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9" name=""/>
          <p:cNvSpPr/>
          <p:nvPr/>
        </p:nvSpPr>
        <p:spPr>
          <a:xfrm>
            <a:off x="1962720" y="3619800"/>
            <a:ext cx="6782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มงคล ๓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320" name=""/>
          <p:cNvCxnSpPr>
            <a:stCxn id="1318" idx="2"/>
          </p:cNvCxnSpPr>
          <p:nvPr/>
        </p:nvCxnSpPr>
        <p:spPr>
          <a:xfrm>
            <a:off x="3212640" y="46306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1" name=""/>
          <p:cNvSpPr/>
          <p:nvPr/>
        </p:nvSpPr>
        <p:spPr>
          <a:xfrm>
            <a:off x="4581000" y="3954960"/>
            <a:ext cx="2743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ศี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22" name=""/>
          <p:cNvSpPr/>
          <p:nvPr/>
        </p:nvSpPr>
        <p:spPr>
          <a:xfrm>
            <a:off x="4402080" y="4246920"/>
            <a:ext cx="4770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าธิ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23" name=""/>
          <p:cNvSpPr/>
          <p:nvPr/>
        </p:nvSpPr>
        <p:spPr>
          <a:xfrm>
            <a:off x="4275720" y="4610520"/>
            <a:ext cx="6278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ปัญญ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324" name=""/>
          <p:cNvCxnSpPr>
            <a:stCxn id="1315" idx="2"/>
          </p:cNvCxnSpPr>
          <p:nvPr/>
        </p:nvCxnSpPr>
        <p:spPr>
          <a:xfrm flipH="1">
            <a:off x="5056920" y="245556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5" name=""/>
          <p:cNvSpPr/>
          <p:nvPr/>
        </p:nvSpPr>
        <p:spPr>
          <a:xfrm>
            <a:off x="4330800" y="2210040"/>
            <a:ext cx="5637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ณห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26" name=""/>
          <p:cNvSpPr/>
          <p:nvPr/>
        </p:nvSpPr>
        <p:spPr>
          <a:xfrm>
            <a:off x="4390920" y="2599200"/>
            <a:ext cx="4831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700" spc="-1" strike="noStrike">
                <a:solidFill>
                  <a:srgbClr val="000000"/>
                </a:solidFill>
                <a:latin typeface="Cordia New"/>
                <a:cs typeface="Cordia New"/>
              </a:rPr>
              <a:t>ฉันทะ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27" name=""/>
          <p:cNvSpPr/>
          <p:nvPr/>
        </p:nvSpPr>
        <p:spPr>
          <a:xfrm>
            <a:off x="6315840" y="974880"/>
            <a:ext cx="31820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จฺเจน กิตฺตึ ปปฺโปติ</a:t>
            </a:r>
            <a:r>
              <a:rPr b="0" lang="th-TH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  คนจะได้เกียรติด้วยสัจจะ 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28" name=""/>
          <p:cNvSpPr/>
          <p:nvPr/>
        </p:nvSpPr>
        <p:spPr>
          <a:xfrm>
            <a:off x="6383520" y="1336680"/>
            <a:ext cx="2700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ยถาวาที  ตถาการี   พูดเช่นไรทำเช่นนั้น 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29" name=""/>
          <p:cNvSpPr/>
          <p:nvPr/>
        </p:nvSpPr>
        <p:spPr>
          <a:xfrm>
            <a:off x="8114760" y="1770120"/>
            <a:ext cx="207108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ลักษณะเฉพาะและความสำคัญ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ของ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0" name=""/>
          <p:cNvSpPr/>
          <p:nvPr/>
        </p:nvSpPr>
        <p:spPr>
          <a:xfrm>
            <a:off x="8129520" y="2413080"/>
            <a:ext cx="17463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รื่องน่ารู้จาก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1" name=""/>
          <p:cNvSpPr/>
          <p:nvPr/>
        </p:nvSpPr>
        <p:spPr>
          <a:xfrm>
            <a:off x="8562960" y="2705400"/>
            <a:ext cx="158652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หากินผิดถิ่นย่อมพินาศ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2" name=""/>
          <p:cNvSpPr/>
          <p:nvPr/>
        </p:nvSpPr>
        <p:spPr>
          <a:xfrm>
            <a:off x="2852280" y="5511960"/>
            <a:ext cx="3990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วดมนต์ไหว้พระ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รรเสริญคุณพระรัตนตรัยและแผ่เมตต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3" name=""/>
          <p:cNvSpPr/>
          <p:nvPr/>
        </p:nvSpPr>
        <p:spPr>
          <a:xfrm>
            <a:off x="2877840" y="6056280"/>
            <a:ext cx="40064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วิธีปฏิบัติและประโยชน์ของการบริหารจิตและเจริญปัญญ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4" name=""/>
          <p:cNvSpPr/>
          <p:nvPr/>
        </p:nvSpPr>
        <p:spPr>
          <a:xfrm>
            <a:off x="2851920" y="6643800"/>
            <a:ext cx="42058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ให้มีสมาธิในการฟัง การอ่าน การคิด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ถาม และการเขีย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5" name=""/>
          <p:cNvSpPr/>
          <p:nvPr/>
        </p:nvSpPr>
        <p:spPr>
          <a:xfrm>
            <a:off x="2436840" y="6350040"/>
            <a:ext cx="67312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การกำหนดรู้ความรู้สึกเมื่อตาเห็นรูป หูฟังเสียง จมูกดมกลิ่น ลิ้นลิ้มรส  กายสัมผัสสิ่งที่มากระทบ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6" name=""/>
          <p:cNvSpPr/>
          <p:nvPr/>
        </p:nvSpPr>
        <p:spPr>
          <a:xfrm>
            <a:off x="3059280" y="6939000"/>
            <a:ext cx="26211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การยืน เดิน นั่ง และนอนอย่างมีส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7" name=""/>
          <p:cNvSpPr/>
          <p:nvPr/>
        </p:nvSpPr>
        <p:spPr>
          <a:xfrm>
            <a:off x="2969640" y="5805360"/>
            <a:ext cx="34304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ความหมายของสติสัมปชัญญะ  สมาธิและปัญญ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8" name=""/>
          <p:cNvSpPr/>
          <p:nvPr/>
        </p:nvSpPr>
        <p:spPr>
          <a:xfrm>
            <a:off x="2348640" y="800280"/>
            <a:ext cx="597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9" name=""/>
          <p:cNvSpPr/>
          <p:nvPr/>
        </p:nvSpPr>
        <p:spPr>
          <a:xfrm>
            <a:off x="2252880" y="1041480"/>
            <a:ext cx="691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บายมุข ๖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0" name=""/>
          <p:cNvSpPr/>
          <p:nvPr/>
        </p:nvSpPr>
        <p:spPr>
          <a:xfrm>
            <a:off x="2223720" y="1292400"/>
            <a:ext cx="735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กุศลมูล ๓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1" name=""/>
          <p:cNvSpPr/>
          <p:nvPr/>
        </p:nvSpPr>
        <p:spPr>
          <a:xfrm>
            <a:off x="1867320" y="2023920"/>
            <a:ext cx="8136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ธรร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2" name=""/>
          <p:cNvSpPr/>
          <p:nvPr/>
        </p:nvSpPr>
        <p:spPr>
          <a:xfrm>
            <a:off x="2154960" y="2768760"/>
            <a:ext cx="4435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ละ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3" name=""/>
          <p:cNvSpPr/>
          <p:nvPr/>
        </p:nvSpPr>
        <p:spPr>
          <a:xfrm>
            <a:off x="1955880" y="2395440"/>
            <a:ext cx="69192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ุศลมูล ๓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4" name=""/>
          <p:cNvSpPr/>
          <p:nvPr/>
        </p:nvSpPr>
        <p:spPr>
          <a:xfrm>
            <a:off x="2043360" y="3103560"/>
            <a:ext cx="57276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คารวะ ๖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5" name=""/>
          <p:cNvSpPr/>
          <p:nvPr/>
        </p:nvSpPr>
        <p:spPr>
          <a:xfrm>
            <a:off x="583560" y="3390840"/>
            <a:ext cx="23241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ตัญญูกตเวทีต่อพระมหากษัตริย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6" name=""/>
          <p:cNvSpPr/>
          <p:nvPr/>
        </p:nvSpPr>
        <p:spPr>
          <a:xfrm>
            <a:off x="1730160" y="4152960"/>
            <a:ext cx="4280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มีวินัย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7" name=""/>
          <p:cNvSpPr/>
          <p:nvPr/>
        </p:nvSpPr>
        <p:spPr>
          <a:xfrm>
            <a:off x="1099800" y="4468680"/>
            <a:ext cx="1158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งานไม่มีโทษ 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8" name=""/>
          <p:cNvSpPr/>
          <p:nvPr/>
        </p:nvSpPr>
        <p:spPr>
          <a:xfrm>
            <a:off x="997560" y="4765680"/>
            <a:ext cx="12693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ไม่ประมาทในธรร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349" name=""/>
          <p:cNvCxnSpPr>
            <a:stCxn id="1306" idx="1"/>
            <a:endCxn id="1315" idx="5"/>
          </p:cNvCxnSpPr>
          <p:nvPr/>
        </p:nvCxnSpPr>
        <p:spPr>
          <a:xfrm flipH="1" flipV="1">
            <a:off x="5909400" y="2719080"/>
            <a:ext cx="500760" cy="38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50" name=""/>
          <p:cNvCxnSpPr>
            <a:stCxn id="1306" idx="2"/>
            <a:endCxn id="1307" idx="6"/>
          </p:cNvCxnSpPr>
          <p:nvPr/>
        </p:nvCxnSpPr>
        <p:spPr>
          <a:xfrm flipH="1" flipV="1">
            <a:off x="5633640" y="3416040"/>
            <a:ext cx="5896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51" name=""/>
          <p:cNvCxnSpPr>
            <a:stCxn id="1306" idx="3"/>
            <a:endCxn id="1308" idx="7"/>
          </p:cNvCxnSpPr>
          <p:nvPr/>
        </p:nvCxnSpPr>
        <p:spPr>
          <a:xfrm flipH="1">
            <a:off x="5995800" y="3925800"/>
            <a:ext cx="41472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52" name=""/>
          <p:cNvCxnSpPr>
            <a:stCxn id="1306" idx="4"/>
            <a:endCxn id="1309" idx="0"/>
          </p:cNvCxnSpPr>
          <p:nvPr/>
        </p:nvCxnSpPr>
        <p:spPr>
          <a:xfrm flipH="1">
            <a:off x="6611040" y="4084560"/>
            <a:ext cx="1803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53" name=""/>
          <p:cNvCxnSpPr>
            <a:stCxn id="1306" idx="5"/>
            <a:endCxn id="1310" idx="0"/>
          </p:cNvCxnSpPr>
          <p:nvPr/>
        </p:nvCxnSpPr>
        <p:spPr>
          <a:xfrm>
            <a:off x="7171920" y="3925800"/>
            <a:ext cx="3898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54" name=""/>
          <p:cNvCxnSpPr>
            <a:stCxn id="1306" idx="6"/>
            <a:endCxn id="1311" idx="1"/>
          </p:cNvCxnSpPr>
          <p:nvPr/>
        </p:nvCxnSpPr>
        <p:spPr>
          <a:xfrm>
            <a:off x="7359480" y="3516480"/>
            <a:ext cx="580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55" name=""/>
          <p:cNvSpPr/>
          <p:nvPr/>
        </p:nvSpPr>
        <p:spPr>
          <a:xfrm flipV="1">
            <a:off x="7280280" y="3136680"/>
            <a:ext cx="554040" cy="16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356" name=""/>
          <p:cNvCxnSpPr>
            <a:stCxn id="1313" idx="3"/>
            <a:endCxn id="1306" idx="7"/>
          </p:cNvCxnSpPr>
          <p:nvPr/>
        </p:nvCxnSpPr>
        <p:spPr>
          <a:xfrm flipH="1">
            <a:off x="7171920" y="2566800"/>
            <a:ext cx="21024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7" name=""/>
          <p:cNvCxnSpPr>
            <a:stCxn id="1314" idx="4"/>
            <a:endCxn id="1306" idx="0"/>
          </p:cNvCxnSpPr>
          <p:nvPr/>
        </p:nvCxnSpPr>
        <p:spPr>
          <a:xfrm>
            <a:off x="6646680" y="2518920"/>
            <a:ext cx="1447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8" name=""/>
          <p:cNvSpPr/>
          <p:nvPr/>
        </p:nvSpPr>
        <p:spPr>
          <a:xfrm>
            <a:off x="1502640" y="190440"/>
            <a:ext cx="72817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สาระการเรียนรู้พระธรรม  ชั้นประถมศึกษาปีที่ ๖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2819520" y="4826160"/>
            <a:ext cx="990360" cy="457200"/>
            <a:chOff x="2819520" y="4826160"/>
            <a:chExt cx="990360" cy="457200"/>
          </a:xfrm>
        </p:grpSpPr>
        <p:sp>
          <p:nvSpPr>
            <p:cNvPr id="1360" name=""/>
            <p:cNvSpPr/>
            <p:nvPr/>
          </p:nvSpPr>
          <p:spPr>
            <a:xfrm>
              <a:off x="2968560" y="4906800"/>
              <a:ext cx="712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บริหารจิตและ</a:t>
              </a:r>
              <a:br>
                <a:rPr sz="1500"/>
              </a:br>
              <a:r>
                <a:rPr b="0" lang="hi-IN" sz="15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เจริญปัญญา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819520" y="482616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1362" name=""/>
          <p:cNvCxnSpPr>
            <a:stCxn id="1315" idx="2"/>
            <a:endCxn id="1325" idx="3"/>
          </p:cNvCxnSpPr>
          <p:nvPr/>
        </p:nvCxnSpPr>
        <p:spPr>
          <a:xfrm rot="10800000">
            <a:off x="4814280" y="2347200"/>
            <a:ext cx="471960" cy="108720"/>
          </a:xfrm>
          <a:prstGeom prst="bentConnector3">
            <a:avLst>
              <a:gd name="adj1" fmla="val 487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3" name=""/>
          <p:cNvCxnSpPr>
            <a:stCxn id="1315" idx="2"/>
            <a:endCxn id="1326" idx="3"/>
          </p:cNvCxnSpPr>
          <p:nvPr/>
        </p:nvCxnSpPr>
        <p:spPr>
          <a:xfrm flipV="1" rot="10800000">
            <a:off x="4814280" y="2455560"/>
            <a:ext cx="471960" cy="281520"/>
          </a:xfrm>
          <a:prstGeom prst="bentConnector3">
            <a:avLst>
              <a:gd name="adj1" fmla="val 487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64" name=""/>
          <p:cNvSpPr/>
          <p:nvPr/>
        </p:nvSpPr>
        <p:spPr>
          <a:xfrm>
            <a:off x="9355320" y="190440"/>
            <a:ext cx="34416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๑๑๑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365" name=""/>
          <p:cNvCxnSpPr>
            <a:stCxn id="1317" idx="1"/>
            <a:endCxn id="1341" idx="3"/>
          </p:cNvCxnSpPr>
          <p:nvPr/>
        </p:nvCxnSpPr>
        <p:spPr>
          <a:xfrm rot="10800000">
            <a:off x="2552040" y="2137680"/>
            <a:ext cx="523080" cy="119592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6" name=""/>
          <p:cNvCxnSpPr>
            <a:stCxn id="1317" idx="1"/>
            <a:endCxn id="1343" idx="3"/>
          </p:cNvCxnSpPr>
          <p:nvPr/>
        </p:nvCxnSpPr>
        <p:spPr>
          <a:xfrm rot="10800000">
            <a:off x="2552040" y="2509200"/>
            <a:ext cx="523080" cy="82440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7" name=""/>
          <p:cNvCxnSpPr>
            <a:stCxn id="1317" idx="1"/>
            <a:endCxn id="1342" idx="3"/>
          </p:cNvCxnSpPr>
          <p:nvPr/>
        </p:nvCxnSpPr>
        <p:spPr>
          <a:xfrm rot="10800000">
            <a:off x="2552040" y="2861640"/>
            <a:ext cx="523080" cy="47196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8" name=""/>
          <p:cNvCxnSpPr>
            <a:stCxn id="1317" idx="1"/>
            <a:endCxn id="1344" idx="3"/>
          </p:cNvCxnSpPr>
          <p:nvPr/>
        </p:nvCxnSpPr>
        <p:spPr>
          <a:xfrm rot="10800000">
            <a:off x="2552040" y="3174120"/>
            <a:ext cx="523080" cy="15948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9" name=""/>
          <p:cNvCxnSpPr>
            <a:stCxn id="1317" idx="1"/>
            <a:endCxn id="1345" idx="3"/>
          </p:cNvCxnSpPr>
          <p:nvPr/>
        </p:nvCxnSpPr>
        <p:spPr>
          <a:xfrm flipV="1" rot="10800000">
            <a:off x="2552040" y="3332520"/>
            <a:ext cx="523080" cy="17244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0" name=""/>
          <p:cNvCxnSpPr>
            <a:stCxn id="1317" idx="1"/>
            <a:endCxn id="1319" idx="3"/>
          </p:cNvCxnSpPr>
          <p:nvPr/>
        </p:nvCxnSpPr>
        <p:spPr>
          <a:xfrm flipV="1" rot="10800000">
            <a:off x="2552040" y="3333240"/>
            <a:ext cx="523080" cy="40104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1" name=""/>
          <p:cNvCxnSpPr>
            <a:stCxn id="1346" idx="3"/>
            <a:endCxn id="1319" idx="2"/>
          </p:cNvCxnSpPr>
          <p:nvPr/>
        </p:nvCxnSpPr>
        <p:spPr>
          <a:xfrm flipV="1">
            <a:off x="2095200" y="3847680"/>
            <a:ext cx="20700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2" name=""/>
          <p:cNvCxnSpPr>
            <a:stCxn id="1347" idx="3"/>
            <a:endCxn id="1319" idx="2"/>
          </p:cNvCxnSpPr>
          <p:nvPr/>
        </p:nvCxnSpPr>
        <p:spPr>
          <a:xfrm flipV="1">
            <a:off x="2095200" y="3847320"/>
            <a:ext cx="207000" cy="715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3" name=""/>
          <p:cNvCxnSpPr>
            <a:stCxn id="1348" idx="3"/>
            <a:endCxn id="1319" idx="2"/>
          </p:cNvCxnSpPr>
          <p:nvPr/>
        </p:nvCxnSpPr>
        <p:spPr>
          <a:xfrm flipV="1">
            <a:off x="2095200" y="3847320"/>
            <a:ext cx="207000" cy="1011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4" name=""/>
          <p:cNvCxnSpPr>
            <a:stCxn id="1317" idx="3"/>
            <a:endCxn id="1375" idx="0"/>
          </p:cNvCxnSpPr>
          <p:nvPr/>
        </p:nvCxnSpPr>
        <p:spPr>
          <a:xfrm>
            <a:off x="3654360" y="3333240"/>
            <a:ext cx="270720" cy="134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6" name=""/>
          <p:cNvCxnSpPr>
            <a:stCxn id="1318" idx="3"/>
            <a:endCxn id="1375" idx="1"/>
          </p:cNvCxnSpPr>
          <p:nvPr/>
        </p:nvCxnSpPr>
        <p:spPr>
          <a:xfrm flipV="1">
            <a:off x="3654360" y="3695400"/>
            <a:ext cx="27072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7" name=""/>
          <p:cNvSpPr/>
          <p:nvPr/>
        </p:nvSpPr>
        <p:spPr>
          <a:xfrm>
            <a:off x="3924360" y="3467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378" name=""/>
          <p:cNvCxnSpPr>
            <a:stCxn id="1316" idx="3"/>
            <a:endCxn id="1377" idx="0"/>
          </p:cNvCxnSpPr>
          <p:nvPr/>
        </p:nvCxnSpPr>
        <p:spPr>
          <a:xfrm>
            <a:off x="3654360" y="2173320"/>
            <a:ext cx="270720" cy="1294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9" name=""/>
          <p:cNvCxnSpPr>
            <a:stCxn id="1307" idx="2"/>
            <a:endCxn id="1377" idx="0"/>
          </p:cNvCxnSpPr>
          <p:nvPr/>
        </p:nvCxnSpPr>
        <p:spPr>
          <a:xfrm flipV="1" rot="10800000">
            <a:off x="3923640" y="3415320"/>
            <a:ext cx="972360" cy="51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0" name=""/>
          <p:cNvCxnSpPr>
            <a:stCxn id="1338" idx="3"/>
            <a:endCxn id="1316" idx="1"/>
          </p:cNvCxnSpPr>
          <p:nvPr/>
        </p:nvCxnSpPr>
        <p:spPr>
          <a:xfrm>
            <a:off x="2857320" y="907560"/>
            <a:ext cx="325440" cy="1266120"/>
          </a:xfrm>
          <a:prstGeom prst="bentConnector3">
            <a:avLst>
              <a:gd name="adj1" fmla="val 497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39" idx="3"/>
            <a:endCxn id="1316" idx="1"/>
          </p:cNvCxnSpPr>
          <p:nvPr/>
        </p:nvCxnSpPr>
        <p:spPr>
          <a:xfrm>
            <a:off x="2857320" y="1149480"/>
            <a:ext cx="325440" cy="1024560"/>
          </a:xfrm>
          <a:prstGeom prst="bentConnector3">
            <a:avLst>
              <a:gd name="adj1" fmla="val 497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40" idx="3"/>
            <a:endCxn id="1316" idx="1"/>
          </p:cNvCxnSpPr>
          <p:nvPr/>
        </p:nvCxnSpPr>
        <p:spPr>
          <a:xfrm>
            <a:off x="2857320" y="1400040"/>
            <a:ext cx="325440" cy="774000"/>
          </a:xfrm>
          <a:prstGeom prst="bentConnector3">
            <a:avLst>
              <a:gd name="adj1" fmla="val 497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27" idx="1"/>
            <a:endCxn id="1314" idx="0"/>
          </p:cNvCxnSpPr>
          <p:nvPr/>
        </p:nvCxnSpPr>
        <p:spPr>
          <a:xfrm flipV="1" rot="10800000">
            <a:off x="6646320" y="1078560"/>
            <a:ext cx="12924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28" idx="1"/>
            <a:endCxn id="1314" idx="0"/>
          </p:cNvCxnSpPr>
          <p:nvPr/>
        </p:nvCxnSpPr>
        <p:spPr>
          <a:xfrm flipV="1" rot="10800000">
            <a:off x="6646320" y="1441440"/>
            <a:ext cx="129240" cy="34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5" name=""/>
          <p:cNvCxnSpPr>
            <a:stCxn id="1329" idx="1"/>
            <a:endCxn id="1313" idx="6"/>
          </p:cNvCxnSpPr>
          <p:nvPr/>
        </p:nvCxnSpPr>
        <p:spPr>
          <a:xfrm flipV="1" rot="10800000">
            <a:off x="8004960" y="1989720"/>
            <a:ext cx="383400" cy="313560"/>
          </a:xfrm>
          <a:prstGeom prst="bentConnector3">
            <a:avLst>
              <a:gd name="adj1" fmla="val 510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30" idx="1"/>
            <a:endCxn id="1313" idx="6"/>
          </p:cNvCxnSpPr>
          <p:nvPr/>
        </p:nvCxnSpPr>
        <p:spPr>
          <a:xfrm rot="10800000">
            <a:off x="8004960" y="2302920"/>
            <a:ext cx="383400" cy="224280"/>
          </a:xfrm>
          <a:prstGeom prst="bentConnector3">
            <a:avLst>
              <a:gd name="adj1" fmla="val 510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87" name=""/>
          <p:cNvSpPr/>
          <p:nvPr/>
        </p:nvSpPr>
        <p:spPr>
          <a:xfrm>
            <a:off x="8648640" y="2629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440" bIns="284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388" name=""/>
          <p:cNvCxnSpPr>
            <a:stCxn id="1331" idx="1"/>
            <a:endCxn id="1387" idx="0"/>
          </p:cNvCxnSpPr>
          <p:nvPr/>
        </p:nvCxnSpPr>
        <p:spPr>
          <a:xfrm rot="10800000">
            <a:off x="8647920" y="2704320"/>
            <a:ext cx="15336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9" name=""/>
          <p:cNvCxnSpPr>
            <a:stCxn id="1361" idx="2"/>
            <a:endCxn id="1332" idx="1"/>
          </p:cNvCxnSpPr>
          <p:nvPr/>
        </p:nvCxnSpPr>
        <p:spPr>
          <a:xfrm flipH="1" rot="16200000">
            <a:off x="3217320" y="5380560"/>
            <a:ext cx="343440" cy="148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0" name=""/>
          <p:cNvCxnSpPr>
            <a:stCxn id="1361" idx="2"/>
            <a:endCxn id="1337" idx="1"/>
          </p:cNvCxnSpPr>
          <p:nvPr/>
        </p:nvCxnSpPr>
        <p:spPr>
          <a:xfrm flipH="1" rot="16200000">
            <a:off x="3080520" y="5517000"/>
            <a:ext cx="616680" cy="148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1" name=""/>
          <p:cNvCxnSpPr>
            <a:stCxn id="1361" idx="2"/>
            <a:endCxn id="1333" idx="1"/>
          </p:cNvCxnSpPr>
          <p:nvPr/>
        </p:nvCxnSpPr>
        <p:spPr>
          <a:xfrm flipH="1" rot="16200000">
            <a:off x="2944800" y="5652720"/>
            <a:ext cx="888120" cy="148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2" name=""/>
          <p:cNvCxnSpPr>
            <a:stCxn id="1361" idx="2"/>
            <a:endCxn id="1335" idx="1"/>
          </p:cNvCxnSpPr>
          <p:nvPr/>
        </p:nvCxnSpPr>
        <p:spPr>
          <a:xfrm flipH="1" rot="16200000">
            <a:off x="2798280" y="5799600"/>
            <a:ext cx="1181520" cy="148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3" name=""/>
          <p:cNvCxnSpPr>
            <a:stCxn id="1361" idx="2"/>
            <a:endCxn id="1334" idx="1"/>
          </p:cNvCxnSpPr>
          <p:nvPr/>
        </p:nvCxnSpPr>
        <p:spPr>
          <a:xfrm flipH="1" rot="16200000">
            <a:off x="2651400" y="5946480"/>
            <a:ext cx="1475280" cy="148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61" idx="2"/>
            <a:endCxn id="1336" idx="1"/>
          </p:cNvCxnSpPr>
          <p:nvPr/>
        </p:nvCxnSpPr>
        <p:spPr>
          <a:xfrm flipH="1" rot="16200000">
            <a:off x="2513880" y="6083640"/>
            <a:ext cx="1749960" cy="148320"/>
          </a:xfrm>
          <a:prstGeom prst="bentConnector2">
            <a:avLst/>
          </a:prstGeom>
          <a:ln w="0">
            <a:noFill/>
          </a:ln>
        </p:spPr>
      </p:cxnSp>
      <p:cxnSp>
        <p:nvCxnSpPr>
          <p:cNvPr id="1395" name=""/>
          <p:cNvCxnSpPr>
            <a:stCxn id="1308" idx="2"/>
            <a:endCxn id="1321" idx="3"/>
          </p:cNvCxnSpPr>
          <p:nvPr/>
        </p:nvCxnSpPr>
        <p:spPr>
          <a:xfrm rot="10800000">
            <a:off x="4814280" y="4091760"/>
            <a:ext cx="558000" cy="370800"/>
          </a:xfrm>
          <a:prstGeom prst="bentConnector3">
            <a:avLst>
              <a:gd name="adj1" fmla="val 4899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endCxn id="1322" idx="3"/>
          </p:cNvCxnSpPr>
          <p:nvPr/>
        </p:nvCxnSpPr>
        <p:spPr>
          <a:xfrm rot="10800000">
            <a:off x="4814280" y="4384080"/>
            <a:ext cx="558000" cy="73800"/>
          </a:xfrm>
          <a:prstGeom prst="bentConnector3">
            <a:avLst>
              <a:gd name="adj1" fmla="val 498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08" idx="2"/>
            <a:endCxn id="1323" idx="3"/>
          </p:cNvCxnSpPr>
          <p:nvPr/>
        </p:nvCxnSpPr>
        <p:spPr>
          <a:xfrm flipV="1" rot="10800000">
            <a:off x="4814280" y="4461480"/>
            <a:ext cx="558000" cy="286200"/>
          </a:xfrm>
          <a:prstGeom prst="bentConnector3">
            <a:avLst>
              <a:gd name="adj1" fmla="val 48999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4084560" y="2895480"/>
            <a:ext cx="296388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0" lang="hi-IN" sz="75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99" name=""/>
          <p:cNvSpPr/>
          <p:nvPr/>
        </p:nvSpPr>
        <p:spPr>
          <a:xfrm>
            <a:off x="9259920" y="190440"/>
            <a:ext cx="5367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๑๑๒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/>
          <p:nvPr/>
        </p:nvSpPr>
        <p:spPr>
          <a:xfrm>
            <a:off x="4479840" y="2435400"/>
            <a:ext cx="1258920" cy="12585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งฆ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1" name=""/>
          <p:cNvSpPr/>
          <p:nvPr/>
        </p:nvSpPr>
        <p:spPr>
          <a:xfrm>
            <a:off x="1573200" y="193680"/>
            <a:ext cx="7148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สาระการเรียนรู้พระสงฆ์  ชั้นประถมศึกษาปีที่ ๖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2" name=""/>
          <p:cNvSpPr/>
          <p:nvPr/>
        </p:nvSpPr>
        <p:spPr>
          <a:xfrm>
            <a:off x="6058080" y="415296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หน้าที่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3" name=""/>
          <p:cNvSpPr/>
          <p:nvPr/>
        </p:nvSpPr>
        <p:spPr>
          <a:xfrm>
            <a:off x="6515280" y="257796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พิธี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4" name=""/>
          <p:cNvSpPr/>
          <p:nvPr/>
        </p:nvSpPr>
        <p:spPr>
          <a:xfrm>
            <a:off x="4686480" y="116856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สาว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5" name=""/>
          <p:cNvSpPr/>
          <p:nvPr/>
        </p:nvSpPr>
        <p:spPr>
          <a:xfrm>
            <a:off x="3619440" y="422928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6" name=""/>
          <p:cNvSpPr/>
          <p:nvPr/>
        </p:nvSpPr>
        <p:spPr>
          <a:xfrm>
            <a:off x="6282720" y="1486080"/>
            <a:ext cx="6825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ราธะ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7" name=""/>
          <p:cNvSpPr/>
          <p:nvPr/>
        </p:nvSpPr>
        <p:spPr>
          <a:xfrm>
            <a:off x="2382480" y="5626080"/>
            <a:ext cx="17388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มหาสมณเจ้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มพระปรมานุชิตชิโนรส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8" name=""/>
          <p:cNvSpPr/>
          <p:nvPr/>
        </p:nvSpPr>
        <p:spPr>
          <a:xfrm>
            <a:off x="2370240" y="5295960"/>
            <a:ext cx="17478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่อขุนรามคำแหงมหาราช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409" name=""/>
          <p:cNvCxnSpPr>
            <a:stCxn id="1405" idx="4"/>
            <a:endCxn id="1407" idx="3"/>
          </p:cNvCxnSpPr>
          <p:nvPr/>
        </p:nvCxnSpPr>
        <p:spPr>
          <a:xfrm rot="5400000">
            <a:off x="3643920" y="5371920"/>
            <a:ext cx="651600" cy="213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0" name=""/>
          <p:cNvCxnSpPr>
            <a:stCxn id="1405" idx="4"/>
            <a:endCxn id="1408" idx="3"/>
          </p:cNvCxnSpPr>
          <p:nvPr/>
        </p:nvCxnSpPr>
        <p:spPr>
          <a:xfrm rot="5400000">
            <a:off x="3851280" y="5164560"/>
            <a:ext cx="237240" cy="213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1" name=""/>
          <p:cNvSpPr/>
          <p:nvPr/>
        </p:nvSpPr>
        <p:spPr>
          <a:xfrm>
            <a:off x="2987640" y="257796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12" name=""/>
          <p:cNvSpPr/>
          <p:nvPr/>
        </p:nvSpPr>
        <p:spPr>
          <a:xfrm>
            <a:off x="7571880" y="3124080"/>
            <a:ext cx="806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ิธีทอดกฐิ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13" name=""/>
          <p:cNvSpPr/>
          <p:nvPr/>
        </p:nvSpPr>
        <p:spPr>
          <a:xfrm>
            <a:off x="7572960" y="2770200"/>
            <a:ext cx="8564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ิธีทอดผ้าป่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14" name=""/>
          <p:cNvSpPr/>
          <p:nvPr/>
        </p:nvSpPr>
        <p:spPr>
          <a:xfrm>
            <a:off x="7484040" y="2119320"/>
            <a:ext cx="150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บทวนการอาราธนา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าราธนาธรรม</a:t>
            </a:r>
            <a:br>
              <a:rPr sz="1300"/>
            </a:b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อาราธนาพระปริต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15" name=""/>
          <p:cNvSpPr/>
          <p:nvPr/>
        </p:nvSpPr>
        <p:spPr>
          <a:xfrm>
            <a:off x="7362000" y="3459240"/>
            <a:ext cx="2327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ระเบียบพิธีในการทำบุญงานอวมงค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416" name=""/>
          <p:cNvCxnSpPr>
            <a:stCxn id="1403" idx="6"/>
            <a:endCxn id="1412" idx="1"/>
          </p:cNvCxnSpPr>
          <p:nvPr/>
        </p:nvCxnSpPr>
        <p:spPr>
          <a:xfrm>
            <a:off x="7439040" y="3035160"/>
            <a:ext cx="257760" cy="177120"/>
          </a:xfrm>
          <a:prstGeom prst="bentConnector3">
            <a:avLst>
              <a:gd name="adj1" fmla="val 4811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7" name=""/>
          <p:cNvCxnSpPr>
            <a:stCxn id="1403" idx="6"/>
            <a:endCxn id="1413" idx="1"/>
          </p:cNvCxnSpPr>
          <p:nvPr/>
        </p:nvCxnSpPr>
        <p:spPr>
          <a:xfrm flipV="1">
            <a:off x="7439040" y="2856960"/>
            <a:ext cx="257760" cy="178200"/>
          </a:xfrm>
          <a:prstGeom prst="bentConnector3">
            <a:avLst>
              <a:gd name="adj1" fmla="val 4811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8" name=""/>
          <p:cNvCxnSpPr>
            <a:stCxn id="1403" idx="6"/>
            <a:endCxn id="1415" idx="1"/>
          </p:cNvCxnSpPr>
          <p:nvPr/>
        </p:nvCxnSpPr>
        <p:spPr>
          <a:xfrm>
            <a:off x="7439040" y="3035160"/>
            <a:ext cx="257760" cy="511920"/>
          </a:xfrm>
          <a:prstGeom prst="bentConnector3">
            <a:avLst>
              <a:gd name="adj1" fmla="val 4811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9" name=""/>
          <p:cNvCxnSpPr>
            <a:stCxn id="1403" idx="6"/>
            <a:endCxn id="1414" idx="1"/>
          </p:cNvCxnSpPr>
          <p:nvPr/>
        </p:nvCxnSpPr>
        <p:spPr>
          <a:xfrm flipV="1">
            <a:off x="7439040" y="2364480"/>
            <a:ext cx="257760" cy="670680"/>
          </a:xfrm>
          <a:prstGeom prst="bentConnector3">
            <a:avLst>
              <a:gd name="adj1" fmla="val 4811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20" name=""/>
          <p:cNvSpPr/>
          <p:nvPr/>
        </p:nvSpPr>
        <p:spPr>
          <a:xfrm>
            <a:off x="161640" y="3114720"/>
            <a:ext cx="268668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ตามแนวทางขอ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ศาสนิกชน เพื่อประโยชน์ต่อ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1" name=""/>
          <p:cNvSpPr/>
          <p:nvPr/>
        </p:nvSpPr>
        <p:spPr>
          <a:xfrm>
            <a:off x="738360" y="2757600"/>
            <a:ext cx="20221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ในขณะฟังธรร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2" name=""/>
          <p:cNvSpPr/>
          <p:nvPr/>
        </p:nvSpPr>
        <p:spPr>
          <a:xfrm>
            <a:off x="961560" y="2400480"/>
            <a:ext cx="1758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ถวายของแก่พระภิกษุ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423" name=""/>
          <p:cNvCxnSpPr>
            <a:stCxn id="1411" idx="2"/>
            <a:endCxn id="1422" idx="3"/>
          </p:cNvCxnSpPr>
          <p:nvPr/>
        </p:nvCxnSpPr>
        <p:spPr>
          <a:xfrm rot="10800000">
            <a:off x="2456640" y="2504520"/>
            <a:ext cx="521640" cy="530640"/>
          </a:xfrm>
          <a:prstGeom prst="bentConnector3">
            <a:avLst>
              <a:gd name="adj1" fmla="val 490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4" name=""/>
          <p:cNvCxnSpPr>
            <a:stCxn id="1411" idx="2"/>
            <a:endCxn id="1420" idx="3"/>
          </p:cNvCxnSpPr>
          <p:nvPr/>
        </p:nvCxnSpPr>
        <p:spPr>
          <a:xfrm flipV="1" rot="10800000">
            <a:off x="2456640" y="3034080"/>
            <a:ext cx="521640" cy="280440"/>
          </a:xfrm>
          <a:prstGeom prst="bentConnector3">
            <a:avLst>
              <a:gd name="adj1" fmla="val 490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5" name=""/>
          <p:cNvCxnSpPr>
            <a:stCxn id="1411" idx="2"/>
            <a:endCxn id="1421" idx="3"/>
          </p:cNvCxnSpPr>
          <p:nvPr/>
        </p:nvCxnSpPr>
        <p:spPr>
          <a:xfrm rot="10800000">
            <a:off x="2456640" y="2861640"/>
            <a:ext cx="521640" cy="173520"/>
          </a:xfrm>
          <a:prstGeom prst="bentConnector3">
            <a:avLst>
              <a:gd name="adj1" fmla="val 490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26" name=""/>
          <p:cNvSpPr/>
          <p:nvPr/>
        </p:nvSpPr>
        <p:spPr>
          <a:xfrm>
            <a:off x="6988680" y="5661000"/>
            <a:ext cx="2563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เข้ารับการบรรพชาในพระพุทธศาสน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7" name=""/>
          <p:cNvSpPr/>
          <p:nvPr/>
        </p:nvSpPr>
        <p:spPr>
          <a:xfrm>
            <a:off x="7151040" y="6022800"/>
            <a:ext cx="1334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เข้าค่ายคุณธ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8" name=""/>
          <p:cNvSpPr/>
          <p:nvPr/>
        </p:nvSpPr>
        <p:spPr>
          <a:xfrm>
            <a:off x="7014240" y="4913280"/>
            <a:ext cx="2468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รู้เบื้องต้นเกี่ยวกับสถานที่ต่างๆ 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ภายในวัด เช่น เขตพุทธาวาส  สังฆาวาส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การปฏิบัติตนที่เหมาะส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9" name=""/>
          <p:cNvSpPr/>
          <p:nvPr/>
        </p:nvSpPr>
        <p:spPr>
          <a:xfrm>
            <a:off x="7085880" y="6377040"/>
            <a:ext cx="182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แสดงตนเป็นพุทธมามก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430" name=""/>
          <p:cNvCxnSpPr>
            <a:stCxn id="1404" idx="4"/>
            <a:endCxn id="1400" idx="0"/>
          </p:cNvCxnSpPr>
          <p:nvPr/>
        </p:nvCxnSpPr>
        <p:spPr>
          <a:xfrm flipH="1">
            <a:off x="5109480" y="2092320"/>
            <a:ext cx="34200" cy="32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1" name=""/>
          <p:cNvCxnSpPr>
            <a:stCxn id="1400" idx="2"/>
            <a:endCxn id="1411" idx="6"/>
          </p:cNvCxnSpPr>
          <p:nvPr/>
        </p:nvCxnSpPr>
        <p:spPr>
          <a:xfrm flipH="1" flipV="1">
            <a:off x="3911040" y="3035160"/>
            <a:ext cx="549720" cy="30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32" name=""/>
          <p:cNvCxnSpPr>
            <a:stCxn id="1400" idx="3"/>
            <a:endCxn id="1405" idx="0"/>
          </p:cNvCxnSpPr>
          <p:nvPr/>
        </p:nvCxnSpPr>
        <p:spPr>
          <a:xfrm flipH="1">
            <a:off x="4076280" y="3529080"/>
            <a:ext cx="588240" cy="691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33" name=""/>
          <p:cNvCxnSpPr>
            <a:stCxn id="1400" idx="6"/>
            <a:endCxn id="1403" idx="2"/>
          </p:cNvCxnSpPr>
          <p:nvPr/>
        </p:nvCxnSpPr>
        <p:spPr>
          <a:xfrm flipV="1">
            <a:off x="5757480" y="3035160"/>
            <a:ext cx="748440" cy="30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34" name=""/>
          <p:cNvCxnSpPr>
            <a:stCxn id="1402" idx="6"/>
            <a:endCxn id="1428" idx="1"/>
          </p:cNvCxnSpPr>
          <p:nvPr/>
        </p:nvCxnSpPr>
        <p:spPr>
          <a:xfrm>
            <a:off x="6981840" y="4609800"/>
            <a:ext cx="372240" cy="610200"/>
          </a:xfrm>
          <a:prstGeom prst="bentConnector3">
            <a:avLst>
              <a:gd name="adj1" fmla="val 486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5" name=""/>
          <p:cNvCxnSpPr>
            <a:stCxn id="1402" idx="6"/>
            <a:endCxn id="1426" idx="1"/>
          </p:cNvCxnSpPr>
          <p:nvPr/>
        </p:nvCxnSpPr>
        <p:spPr>
          <a:xfrm>
            <a:off x="6981840" y="4609800"/>
            <a:ext cx="372240" cy="1159560"/>
          </a:xfrm>
          <a:prstGeom prst="bentConnector3">
            <a:avLst>
              <a:gd name="adj1" fmla="val 486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6" name=""/>
          <p:cNvCxnSpPr>
            <a:stCxn id="1402" idx="6"/>
            <a:endCxn id="1427" idx="1"/>
          </p:cNvCxnSpPr>
          <p:nvPr/>
        </p:nvCxnSpPr>
        <p:spPr>
          <a:xfrm>
            <a:off x="6981840" y="4610160"/>
            <a:ext cx="372240" cy="1521360"/>
          </a:xfrm>
          <a:prstGeom prst="bentConnector3">
            <a:avLst>
              <a:gd name="adj1" fmla="val 486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7" name=""/>
          <p:cNvCxnSpPr>
            <a:stCxn id="1402" idx="6"/>
            <a:endCxn id="1429" idx="1"/>
          </p:cNvCxnSpPr>
          <p:nvPr/>
        </p:nvCxnSpPr>
        <p:spPr>
          <a:xfrm>
            <a:off x="6981840" y="4610160"/>
            <a:ext cx="372240" cy="1875600"/>
          </a:xfrm>
          <a:prstGeom prst="bentConnector3">
            <a:avLst>
              <a:gd name="adj1" fmla="val 486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8" name=""/>
          <p:cNvCxnSpPr>
            <a:stCxn id="1400" idx="5"/>
            <a:endCxn id="1402" idx="0"/>
          </p:cNvCxnSpPr>
          <p:nvPr/>
        </p:nvCxnSpPr>
        <p:spPr>
          <a:xfrm>
            <a:off x="5554800" y="3529080"/>
            <a:ext cx="961200" cy="614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39" name=""/>
          <p:cNvCxnSpPr>
            <a:stCxn id="1404" idx="6"/>
            <a:endCxn id="1406" idx="1"/>
          </p:cNvCxnSpPr>
          <p:nvPr/>
        </p:nvCxnSpPr>
        <p:spPr>
          <a:xfrm flipV="1">
            <a:off x="5610240" y="1579320"/>
            <a:ext cx="753120" cy="46800"/>
          </a:xfrm>
          <a:prstGeom prst="bentConnector3">
            <a:avLst>
              <a:gd name="adj1" fmla="val 4935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40" name=""/>
          <p:cNvSpPr/>
          <p:nvPr/>
        </p:nvSpPr>
        <p:spPr>
          <a:xfrm>
            <a:off x="9354600" y="190440"/>
            <a:ext cx="34740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๑๑๓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4084560" y="2895480"/>
            <a:ext cx="296388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0" lang="hi-IN" sz="75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2" name=""/>
          <p:cNvSpPr/>
          <p:nvPr/>
        </p:nvSpPr>
        <p:spPr>
          <a:xfrm>
            <a:off x="9267840" y="190440"/>
            <a:ext cx="5212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๑๑๔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372280" y="2536920"/>
            <a:ext cx="1107720" cy="4824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พระสงฆ์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9" name=""/>
          <p:cNvSpPr/>
          <p:nvPr/>
        </p:nvSpPr>
        <p:spPr>
          <a:xfrm>
            <a:off x="6972480" y="1257480"/>
            <a:ext cx="71100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หน้าที่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0" name=""/>
          <p:cNvSpPr/>
          <p:nvPr/>
        </p:nvSpPr>
        <p:spPr>
          <a:xfrm>
            <a:off x="6972480" y="3487680"/>
            <a:ext cx="620640" cy="58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ศาสนพิธี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"/>
          <p:cNvSpPr/>
          <p:nvPr/>
        </p:nvSpPr>
        <p:spPr>
          <a:xfrm>
            <a:off x="6975360" y="495360"/>
            <a:ext cx="631800" cy="56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ุทธ</a:t>
            </a: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สาว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2" name=""/>
          <p:cNvSpPr/>
          <p:nvPr/>
        </p:nvSpPr>
        <p:spPr>
          <a:xfrm>
            <a:off x="6972480" y="2828880"/>
            <a:ext cx="633240" cy="56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ตัวอย่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3" name=""/>
          <p:cNvSpPr/>
          <p:nvPr/>
        </p:nvSpPr>
        <p:spPr>
          <a:xfrm>
            <a:off x="7667280" y="571680"/>
            <a:ext cx="12866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พระอุรุเวลกัสสป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4" name=""/>
          <p:cNvSpPr/>
          <p:nvPr/>
        </p:nvSpPr>
        <p:spPr>
          <a:xfrm>
            <a:off x="8039160" y="3314880"/>
            <a:ext cx="1828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สมเด็จพระมหิตลาธิเบศร 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อดุลยเดชวิกรม  พระบรมราชชน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5" name=""/>
          <p:cNvSpPr/>
          <p:nvPr/>
        </p:nvSpPr>
        <p:spPr>
          <a:xfrm>
            <a:off x="8039160" y="3727440"/>
            <a:ext cx="2019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สมเด็จพระศรีนครินทราบรมราชชนนี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6" name=""/>
          <p:cNvSpPr/>
          <p:nvPr/>
        </p:nvSpPr>
        <p:spPr>
          <a:xfrm>
            <a:off x="7774200" y="4305240"/>
            <a:ext cx="135828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อาราธนาธ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7" name=""/>
          <p:cNvSpPr/>
          <p:nvPr/>
        </p:nvSpPr>
        <p:spPr>
          <a:xfrm>
            <a:off x="7958160" y="860400"/>
            <a:ext cx="2338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รู้อานิสงส์ของการสวดมนต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8" name=""/>
          <p:cNvSpPr/>
          <p:nvPr/>
        </p:nvSpPr>
        <p:spPr>
          <a:xfrm>
            <a:off x="7958160" y="1089000"/>
            <a:ext cx="233208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ความรู้เบื้องต้นเกี่ยวกับวั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9" name=""/>
          <p:cNvSpPr/>
          <p:nvPr/>
        </p:nvSpPr>
        <p:spPr>
          <a:xfrm>
            <a:off x="7958160" y="1305000"/>
            <a:ext cx="23382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บำเพ็ญตนให้เป็นประโยชน์แก่วั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0" name=""/>
          <p:cNvSpPr/>
          <p:nvPr/>
        </p:nvSpPr>
        <p:spPr>
          <a:xfrm>
            <a:off x="7613640" y="2552760"/>
            <a:ext cx="24660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ปฏิบัติตนที่เหมาะสมต่อพระภิกษุ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1" name=""/>
          <p:cNvSpPr/>
          <p:nvPr/>
        </p:nvSpPr>
        <p:spPr>
          <a:xfrm>
            <a:off x="3848040" y="1714680"/>
            <a:ext cx="1265400" cy="4824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พระพุทธ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2" name=""/>
          <p:cNvSpPr/>
          <p:nvPr/>
        </p:nvSpPr>
        <p:spPr>
          <a:xfrm>
            <a:off x="231840" y="2087640"/>
            <a:ext cx="797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วันวิสาขบูช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3" name=""/>
          <p:cNvSpPr/>
          <p:nvPr/>
        </p:nvSpPr>
        <p:spPr>
          <a:xfrm>
            <a:off x="114480" y="2328840"/>
            <a:ext cx="911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วันอัฏฐมีบูช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4" name=""/>
          <p:cNvSpPr/>
          <p:nvPr/>
        </p:nvSpPr>
        <p:spPr>
          <a:xfrm>
            <a:off x="136440" y="2557440"/>
            <a:ext cx="89244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วันอาสาฬหบูช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5" name=""/>
          <p:cNvSpPr/>
          <p:nvPr/>
        </p:nvSpPr>
        <p:spPr>
          <a:xfrm>
            <a:off x="7958160" y="1521000"/>
            <a:ext cx="23367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เรียนธรรมศึกษ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6" name=""/>
          <p:cNvSpPr/>
          <p:nvPr/>
        </p:nvSpPr>
        <p:spPr>
          <a:xfrm>
            <a:off x="7792560" y="4076640"/>
            <a:ext cx="1204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อาราธนา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7" name=""/>
          <p:cNvSpPr/>
          <p:nvPr/>
        </p:nvSpPr>
        <p:spPr>
          <a:xfrm>
            <a:off x="7601040" y="2814480"/>
            <a:ext cx="2565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ยืน การเดิน</a:t>
            </a:r>
            <a:r>
              <a:rPr b="0" lang="en-US" sz="13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และการนั่งที่เหมาะส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ในโอกาสต่าง ๆ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8" name=""/>
          <p:cNvSpPr/>
          <p:nvPr/>
        </p:nvSpPr>
        <p:spPr>
          <a:xfrm>
            <a:off x="3701880" y="2548080"/>
            <a:ext cx="1521000" cy="401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พระรัตนตรั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9" name=""/>
          <p:cNvSpPr/>
          <p:nvPr/>
        </p:nvSpPr>
        <p:spPr>
          <a:xfrm>
            <a:off x="3819600" y="571680"/>
            <a:ext cx="1028520" cy="92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เป็นศูนย์รว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จิตใจขอ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พุทธศาสนิกช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0" name=""/>
          <p:cNvSpPr/>
          <p:nvPr/>
        </p:nvSpPr>
        <p:spPr>
          <a:xfrm>
            <a:off x="2538360" y="2048040"/>
            <a:ext cx="804960" cy="70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วันสำคัญทา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61" name=""/>
          <p:cNvCxnSpPr>
            <a:stCxn id="351" idx="2"/>
            <a:endCxn id="360" idx="6"/>
          </p:cNvCxnSpPr>
          <p:nvPr/>
        </p:nvCxnSpPr>
        <p:spPr>
          <a:xfrm flipV="1" rot="10800000">
            <a:off x="3342600" y="1955520"/>
            <a:ext cx="486360" cy="443520"/>
          </a:xfrm>
          <a:prstGeom prst="bentConnector3">
            <a:avLst>
              <a:gd name="adj1" fmla="val 48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3" idx="1"/>
            <a:endCxn id="352" idx="3"/>
          </p:cNvCxnSpPr>
          <p:nvPr/>
        </p:nvCxnSpPr>
        <p:spPr>
          <a:xfrm rot="10800000">
            <a:off x="1028160" y="2199600"/>
            <a:ext cx="347760" cy="203760"/>
          </a:xfrm>
          <a:prstGeom prst="bentConnector3">
            <a:avLst>
              <a:gd name="adj1" fmla="val 497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63" idx="1"/>
            <a:endCxn id="353" idx="3"/>
          </p:cNvCxnSpPr>
          <p:nvPr/>
        </p:nvCxnSpPr>
        <p:spPr>
          <a:xfrm flipV="1" rot="10800000">
            <a:off x="1024920" y="2403000"/>
            <a:ext cx="351360" cy="3888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63" idx="1"/>
            <a:endCxn id="354" idx="3"/>
          </p:cNvCxnSpPr>
          <p:nvPr/>
        </p:nvCxnSpPr>
        <p:spPr>
          <a:xfrm flipV="1" rot="10800000">
            <a:off x="1028160" y="2401920"/>
            <a:ext cx="347760" cy="267120"/>
          </a:xfrm>
          <a:prstGeom prst="bentConnector3">
            <a:avLst>
              <a:gd name="adj1" fmla="val 497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58" idx="0"/>
            <a:endCxn id="351" idx="4"/>
          </p:cNvCxnSpPr>
          <p:nvPr/>
        </p:nvCxnSpPr>
        <p:spPr>
          <a:xfrm flipH="1" flipV="1" rot="5400000">
            <a:off x="4320000" y="2357640"/>
            <a:ext cx="303840" cy="19800"/>
          </a:xfrm>
          <a:prstGeom prst="bentConnector3">
            <a:avLst>
              <a:gd name="adj1" fmla="val 4816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155520" y="1866960"/>
            <a:ext cx="87336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วันมาฆบูช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68" name=""/>
          <p:cNvCxnSpPr>
            <a:stCxn id="363" idx="1"/>
            <a:endCxn id="367" idx="3"/>
          </p:cNvCxnSpPr>
          <p:nvPr/>
        </p:nvCxnSpPr>
        <p:spPr>
          <a:xfrm rot="10800000">
            <a:off x="1028160" y="1978920"/>
            <a:ext cx="347760" cy="424440"/>
          </a:xfrm>
          <a:prstGeom prst="bentConnector3">
            <a:avLst>
              <a:gd name="adj1" fmla="val 4974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9" name=""/>
          <p:cNvSpPr/>
          <p:nvPr/>
        </p:nvSpPr>
        <p:spPr>
          <a:xfrm>
            <a:off x="2666880" y="723960"/>
            <a:ext cx="6778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พุทธประวัติ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70" name=""/>
          <p:cNvCxnSpPr>
            <a:stCxn id="369" idx="6"/>
            <a:endCxn id="351" idx="2"/>
          </p:cNvCxnSpPr>
          <p:nvPr/>
        </p:nvCxnSpPr>
        <p:spPr>
          <a:xfrm>
            <a:off x="3344400" y="1045800"/>
            <a:ext cx="484920" cy="910440"/>
          </a:xfrm>
          <a:prstGeom prst="bentConnector3">
            <a:avLst>
              <a:gd name="adj1" fmla="val 5178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7958160" y="1724040"/>
            <a:ext cx="2328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ิจกรรมพระพุทธศาสนา ๑ วันในโรงเรีย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2" name=""/>
          <p:cNvSpPr/>
          <p:nvPr/>
        </p:nvSpPr>
        <p:spPr>
          <a:xfrm>
            <a:off x="7958160" y="1940040"/>
            <a:ext cx="233532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แสดงตนเป็นพุทธมามก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3" name=""/>
          <p:cNvSpPr/>
          <p:nvPr/>
        </p:nvSpPr>
        <p:spPr>
          <a:xfrm>
            <a:off x="1502280" y="952560"/>
            <a:ext cx="10501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ประกาศธ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4" name=""/>
          <p:cNvSpPr/>
          <p:nvPr/>
        </p:nvSpPr>
        <p:spPr>
          <a:xfrm>
            <a:off x="1790640" y="723960"/>
            <a:ext cx="6336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ตรัสรู้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75" name=""/>
          <p:cNvCxnSpPr>
            <a:stCxn id="369" idx="2"/>
            <a:endCxn id="374" idx="3"/>
          </p:cNvCxnSpPr>
          <p:nvPr/>
        </p:nvCxnSpPr>
        <p:spPr>
          <a:xfrm rot="10800000">
            <a:off x="2423520" y="870840"/>
            <a:ext cx="243360" cy="175320"/>
          </a:xfrm>
          <a:prstGeom prst="bentConnector3">
            <a:avLst>
              <a:gd name="adj1" fmla="val 496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69" idx="2"/>
            <a:endCxn id="373" idx="3"/>
          </p:cNvCxnSpPr>
          <p:nvPr/>
        </p:nvCxnSpPr>
        <p:spPr>
          <a:xfrm flipV="1" rot="10800000">
            <a:off x="2429640" y="1045800"/>
            <a:ext cx="237240" cy="54720"/>
          </a:xfrm>
          <a:prstGeom prst="bentConnector3">
            <a:avLst>
              <a:gd name="adj1" fmla="val 4954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653040" y="495360"/>
            <a:ext cx="7639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โปรดชฎิล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8" name=""/>
          <p:cNvSpPr/>
          <p:nvPr/>
        </p:nvSpPr>
        <p:spPr>
          <a:xfrm>
            <a:off x="66960" y="655560"/>
            <a:ext cx="14540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โปรดพระเจ้าพิมพิสาร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9" name=""/>
          <p:cNvSpPr/>
          <p:nvPr/>
        </p:nvSpPr>
        <p:spPr>
          <a:xfrm>
            <a:off x="464400" y="824040"/>
            <a:ext cx="9954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พระอัครสาวก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0" name=""/>
          <p:cNvSpPr/>
          <p:nvPr/>
        </p:nvSpPr>
        <p:spPr>
          <a:xfrm>
            <a:off x="53640" y="1000080"/>
            <a:ext cx="14695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แสดงโอวาทปาฏิโมกข์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81" name=""/>
          <p:cNvCxnSpPr>
            <a:stCxn id="373" idx="1"/>
            <a:endCxn id="377" idx="3"/>
          </p:cNvCxnSpPr>
          <p:nvPr/>
        </p:nvCxnSpPr>
        <p:spPr>
          <a:xfrm rot="10800000">
            <a:off x="1339200" y="634320"/>
            <a:ext cx="284400" cy="465840"/>
          </a:xfrm>
          <a:prstGeom prst="bentConnector3">
            <a:avLst>
              <a:gd name="adj1" fmla="val 496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73" idx="1"/>
            <a:endCxn id="378" idx="3"/>
          </p:cNvCxnSpPr>
          <p:nvPr/>
        </p:nvCxnSpPr>
        <p:spPr>
          <a:xfrm rot="10800000">
            <a:off x="1339200" y="794520"/>
            <a:ext cx="284400" cy="305640"/>
          </a:xfrm>
          <a:prstGeom prst="bentConnector3">
            <a:avLst>
              <a:gd name="adj1" fmla="val 496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3" idx="1"/>
            <a:endCxn id="379" idx="3"/>
          </p:cNvCxnSpPr>
          <p:nvPr/>
        </p:nvCxnSpPr>
        <p:spPr>
          <a:xfrm rot="10800000">
            <a:off x="1343880" y="963000"/>
            <a:ext cx="280080" cy="13716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1"/>
            <a:endCxn id="380" idx="3"/>
          </p:cNvCxnSpPr>
          <p:nvPr/>
        </p:nvCxnSpPr>
        <p:spPr>
          <a:xfrm flipV="1" rot="10800000">
            <a:off x="1343880" y="1099800"/>
            <a:ext cx="280080" cy="4032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1183680" y="2152800"/>
            <a:ext cx="1454040" cy="49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ิธีปฏิบัติตนแล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เข้าร่วมกิจก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85" name=""/>
          <p:cNvCxnSpPr>
            <a:stCxn id="363" idx="3"/>
            <a:endCxn id="360" idx="2"/>
          </p:cNvCxnSpPr>
          <p:nvPr/>
        </p:nvCxnSpPr>
        <p:spPr>
          <a:xfrm flipV="1">
            <a:off x="2444760" y="2397960"/>
            <a:ext cx="943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87480" y="2786040"/>
            <a:ext cx="9414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วันธรรมสวน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87" name=""/>
          <p:cNvCxnSpPr>
            <a:stCxn id="363" idx="1"/>
            <a:endCxn id="386" idx="3"/>
          </p:cNvCxnSpPr>
          <p:nvPr/>
        </p:nvCxnSpPr>
        <p:spPr>
          <a:xfrm flipV="1" rot="10800000">
            <a:off x="1028160" y="2403000"/>
            <a:ext cx="347760" cy="496080"/>
          </a:xfrm>
          <a:prstGeom prst="bentConnector3">
            <a:avLst>
              <a:gd name="adj1" fmla="val 4974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2789280" y="1460520"/>
            <a:ext cx="554040" cy="446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ชาด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9" name=""/>
          <p:cNvSpPr/>
          <p:nvPr/>
        </p:nvSpPr>
        <p:spPr>
          <a:xfrm>
            <a:off x="1484280" y="1333440"/>
            <a:ext cx="841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ุฏิทูสก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0" name=""/>
          <p:cNvSpPr/>
          <p:nvPr/>
        </p:nvSpPr>
        <p:spPr>
          <a:xfrm>
            <a:off x="1275120" y="1676520"/>
            <a:ext cx="1200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มหาอุกกุส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91" name=""/>
          <p:cNvCxnSpPr>
            <a:stCxn id="388" idx="2"/>
            <a:endCxn id="390" idx="3"/>
          </p:cNvCxnSpPr>
          <p:nvPr/>
        </p:nvCxnSpPr>
        <p:spPr>
          <a:xfrm flipV="1" rot="10800000">
            <a:off x="2324880" y="1684080"/>
            <a:ext cx="464400" cy="11016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"/>
          <p:cNvCxnSpPr>
            <a:stCxn id="388" idx="2"/>
            <a:endCxn id="389" idx="3"/>
          </p:cNvCxnSpPr>
          <p:nvPr/>
        </p:nvCxnSpPr>
        <p:spPr>
          <a:xfrm rot="10800000">
            <a:off x="2324880" y="1459800"/>
            <a:ext cx="464400" cy="22464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3" name=""/>
          <p:cNvCxnSpPr>
            <a:stCxn id="351" idx="2"/>
            <a:endCxn id="388" idx="6"/>
          </p:cNvCxnSpPr>
          <p:nvPr/>
        </p:nvCxnSpPr>
        <p:spPr>
          <a:xfrm rot="10800000">
            <a:off x="3342600" y="1683720"/>
            <a:ext cx="486360" cy="272160"/>
          </a:xfrm>
          <a:prstGeom prst="bentConnector3">
            <a:avLst>
              <a:gd name="adj1" fmla="val 48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7964640" y="2139840"/>
            <a:ext cx="230796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เข้าค่าย</a:t>
            </a:r>
            <a:r>
              <a:rPr b="0" lang="hi-IN" sz="13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ธรรม</a:t>
            </a: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และการเข้าร่ว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พิธีกรรมทาง</a:t>
            </a:r>
            <a:r>
              <a:rPr b="0" lang="hi-IN" sz="13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ระ</a:t>
            </a: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พุทธศาสนาและนำสู่การปฏิบ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5" name=""/>
          <p:cNvSpPr/>
          <p:nvPr/>
        </p:nvSpPr>
        <p:spPr>
          <a:xfrm>
            <a:off x="7690680" y="4762440"/>
            <a:ext cx="1976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ระเบียบพิธีและการปฏิบัติต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ในวันธรรมสวน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6" name=""/>
          <p:cNvSpPr/>
          <p:nvPr/>
        </p:nvSpPr>
        <p:spPr>
          <a:xfrm>
            <a:off x="7741800" y="4533840"/>
            <a:ext cx="16232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อาราธนาพระปริต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6080"/>
            <a:ext cx="10287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พุทธศาสนา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 ชั้นประถมศึกษาปีที่  ๔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8" name=""/>
          <p:cNvSpPr/>
          <p:nvPr/>
        </p:nvSpPr>
        <p:spPr>
          <a:xfrm>
            <a:off x="1484280" y="506520"/>
            <a:ext cx="949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สรุปพุทธประว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99" name=""/>
          <p:cNvCxnSpPr>
            <a:stCxn id="369" idx="2"/>
            <a:endCxn id="398" idx="3"/>
          </p:cNvCxnSpPr>
          <p:nvPr/>
        </p:nvCxnSpPr>
        <p:spPr>
          <a:xfrm rot="10800000">
            <a:off x="2432880" y="653400"/>
            <a:ext cx="234000" cy="392760"/>
          </a:xfrm>
          <a:prstGeom prst="bentConnector3">
            <a:avLst>
              <a:gd name="adj1" fmla="val 4961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6972480" y="2095560"/>
            <a:ext cx="620640" cy="58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ม</a:t>
            </a:r>
            <a:r>
              <a:rPr b="0" lang="hi-IN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ร</a:t>
            </a: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รยาท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01" name=""/>
          <p:cNvCxnSpPr>
            <a:stCxn id="338" idx="6"/>
            <a:endCxn id="341" idx="2"/>
          </p:cNvCxnSpPr>
          <p:nvPr/>
        </p:nvCxnSpPr>
        <p:spPr>
          <a:xfrm flipV="1">
            <a:off x="6498720" y="775440"/>
            <a:ext cx="477000" cy="2002680"/>
          </a:xfrm>
          <a:prstGeom prst="bentConnector3">
            <a:avLst>
              <a:gd name="adj1" fmla="val 47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2" name=""/>
          <p:cNvCxnSpPr>
            <a:stCxn id="338" idx="6"/>
            <a:endCxn id="339" idx="2"/>
          </p:cNvCxnSpPr>
          <p:nvPr/>
        </p:nvCxnSpPr>
        <p:spPr>
          <a:xfrm flipV="1">
            <a:off x="6498720" y="1602720"/>
            <a:ext cx="474120" cy="1175400"/>
          </a:xfrm>
          <a:prstGeom prst="bentConnector3">
            <a:avLst>
              <a:gd name="adj1" fmla="val 479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3" name=""/>
          <p:cNvCxnSpPr>
            <a:stCxn id="338" idx="6"/>
            <a:endCxn id="400" idx="2"/>
          </p:cNvCxnSpPr>
          <p:nvPr/>
        </p:nvCxnSpPr>
        <p:spPr>
          <a:xfrm flipV="1">
            <a:off x="6498720" y="2390400"/>
            <a:ext cx="474120" cy="388080"/>
          </a:xfrm>
          <a:prstGeom prst="bentConnector3">
            <a:avLst>
              <a:gd name="adj1" fmla="val 479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4" name=""/>
          <p:cNvCxnSpPr>
            <a:stCxn id="338" idx="6"/>
            <a:endCxn id="342" idx="2"/>
          </p:cNvCxnSpPr>
          <p:nvPr/>
        </p:nvCxnSpPr>
        <p:spPr>
          <a:xfrm>
            <a:off x="6498720" y="2778120"/>
            <a:ext cx="474120" cy="332640"/>
          </a:xfrm>
          <a:prstGeom prst="bentConnector3">
            <a:avLst>
              <a:gd name="adj1" fmla="val 479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5" name=""/>
          <p:cNvCxnSpPr>
            <a:stCxn id="338" idx="6"/>
            <a:endCxn id="340" idx="2"/>
          </p:cNvCxnSpPr>
          <p:nvPr/>
        </p:nvCxnSpPr>
        <p:spPr>
          <a:xfrm>
            <a:off x="6498720" y="2777760"/>
            <a:ext cx="474120" cy="1005480"/>
          </a:xfrm>
          <a:prstGeom prst="bentConnector3">
            <a:avLst>
              <a:gd name="adj1" fmla="val 4794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06" name=""/>
          <p:cNvSpPr/>
          <p:nvPr/>
        </p:nvSpPr>
        <p:spPr>
          <a:xfrm>
            <a:off x="3924360" y="3289320"/>
            <a:ext cx="1073160" cy="4827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พระธรรม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7" name=""/>
          <p:cNvSpPr/>
          <p:nvPr/>
        </p:nvSpPr>
        <p:spPr>
          <a:xfrm>
            <a:off x="5524560" y="4000680"/>
            <a:ext cx="723960" cy="545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พระไตรปิฎก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8" name=""/>
          <p:cNvSpPr/>
          <p:nvPr/>
        </p:nvSpPr>
        <p:spPr>
          <a:xfrm>
            <a:off x="5801040" y="5743440"/>
            <a:ext cx="19602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ความหมายของพระไตรปิฎ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9" name=""/>
          <p:cNvSpPr/>
          <p:nvPr/>
        </p:nvSpPr>
        <p:spPr>
          <a:xfrm>
            <a:off x="5826240" y="5981760"/>
            <a:ext cx="17910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เรื่องน่ารู้จากพระไตรปิฎ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0" name=""/>
          <p:cNvSpPr/>
          <p:nvPr/>
        </p:nvSpPr>
        <p:spPr>
          <a:xfrm>
            <a:off x="6948360" y="5226120"/>
            <a:ext cx="8622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อัญญาณุเบกข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1" name=""/>
          <p:cNvSpPr/>
          <p:nvPr/>
        </p:nvSpPr>
        <p:spPr>
          <a:xfrm>
            <a:off x="4610160" y="4000680"/>
            <a:ext cx="8143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พุทธศาสน</a:t>
            </a: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สุภาษิต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2" name=""/>
          <p:cNvSpPr/>
          <p:nvPr/>
        </p:nvSpPr>
        <p:spPr>
          <a:xfrm>
            <a:off x="6362640" y="4000680"/>
            <a:ext cx="9144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ศัพท์ทาง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3" name=""/>
          <p:cNvSpPr/>
          <p:nvPr/>
        </p:nvSpPr>
        <p:spPr>
          <a:xfrm>
            <a:off x="4457880" y="5676840"/>
            <a:ext cx="129528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 New"/>
              </a:rPr>
              <a:t>โลโกปตฺถมฺภิกา  เมตฺต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เมตตาธรรมค้ำจุนโล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4" name=""/>
          <p:cNvSpPr/>
          <p:nvPr/>
        </p:nvSpPr>
        <p:spPr>
          <a:xfrm>
            <a:off x="1195560" y="4381560"/>
            <a:ext cx="1298520" cy="309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ทำจิตให้บริสุทธิ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5" name=""/>
          <p:cNvSpPr/>
          <p:nvPr/>
        </p:nvSpPr>
        <p:spPr>
          <a:xfrm>
            <a:off x="2665800" y="5245200"/>
            <a:ext cx="184572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สวดมนต์ไหว้พระสรรเสริญ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คุณพระรัตนตรัยและแผ่เมตตา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6" name=""/>
          <p:cNvSpPr/>
          <p:nvPr/>
        </p:nvSpPr>
        <p:spPr>
          <a:xfrm>
            <a:off x="2662560" y="5683320"/>
            <a:ext cx="184428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รู้วิธีปฏิบัติและประโยชน์ของ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การบริหารจิตและเจริญปัญญา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7" name=""/>
          <p:cNvSpPr/>
          <p:nvPr/>
        </p:nvSpPr>
        <p:spPr>
          <a:xfrm>
            <a:off x="2933640" y="6056280"/>
            <a:ext cx="1676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ฝึกการยืน เดิน นั่ง และนอนอย่างมีสติ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8" name=""/>
          <p:cNvSpPr/>
          <p:nvPr/>
        </p:nvSpPr>
        <p:spPr>
          <a:xfrm>
            <a:off x="2654280" y="6792840"/>
            <a:ext cx="2057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ฝึกให้มีสมาธิในการฟัง อ่าน การคิด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การถาม  การเขียน  และการทำงาน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9" name=""/>
          <p:cNvSpPr/>
          <p:nvPr/>
        </p:nvSpPr>
        <p:spPr>
          <a:xfrm>
            <a:off x="2217600" y="3162240"/>
            <a:ext cx="7923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22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โอวาท ๓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0" name=""/>
          <p:cNvSpPr/>
          <p:nvPr/>
        </p:nvSpPr>
        <p:spPr>
          <a:xfrm>
            <a:off x="6939000" y="4915080"/>
            <a:ext cx="8697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อุเบกข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1" name=""/>
          <p:cNvSpPr/>
          <p:nvPr/>
        </p:nvSpPr>
        <p:spPr>
          <a:xfrm>
            <a:off x="2933640" y="6272280"/>
            <a:ext cx="163512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ฝึกการกำหนดรู้ความรู้สึกเมื่อตาเห็นรูป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หูฟังเสียง จมูกดมกลิ่น ลิ้นลิ้มรส 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กายสัมผัสสิ่งที่มากระทบ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2" name=""/>
          <p:cNvSpPr/>
          <p:nvPr/>
        </p:nvSpPr>
        <p:spPr>
          <a:xfrm>
            <a:off x="3162240" y="4000680"/>
            <a:ext cx="60984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หลักกรรม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3" name=""/>
          <p:cNvSpPr/>
          <p:nvPr/>
        </p:nvSpPr>
        <p:spPr>
          <a:xfrm>
            <a:off x="2324160" y="4000680"/>
            <a:ext cx="718920" cy="49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ไตรสิกข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4" name=""/>
          <p:cNvSpPr/>
          <p:nvPr/>
        </p:nvSpPr>
        <p:spPr>
          <a:xfrm>
            <a:off x="2694960" y="4915080"/>
            <a:ext cx="6570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ปัญญ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5" name=""/>
          <p:cNvSpPr/>
          <p:nvPr/>
        </p:nvSpPr>
        <p:spPr>
          <a:xfrm>
            <a:off x="2731680" y="4726080"/>
            <a:ext cx="5443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สมาธ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6" name=""/>
          <p:cNvSpPr/>
          <p:nvPr/>
        </p:nvSpPr>
        <p:spPr>
          <a:xfrm>
            <a:off x="2746800" y="4545000"/>
            <a:ext cx="3902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7" name=""/>
          <p:cNvSpPr/>
          <p:nvPr/>
        </p:nvSpPr>
        <p:spPr>
          <a:xfrm>
            <a:off x="10800" y="3247920"/>
            <a:ext cx="7743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เบญจ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8" name=""/>
          <p:cNvSpPr/>
          <p:nvPr/>
        </p:nvSpPr>
        <p:spPr>
          <a:xfrm>
            <a:off x="793800" y="3238560"/>
            <a:ext cx="760680" cy="309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ไม่ทำชั่ว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9" name=""/>
          <p:cNvSpPr/>
          <p:nvPr/>
        </p:nvSpPr>
        <p:spPr>
          <a:xfrm>
            <a:off x="43920" y="3467160"/>
            <a:ext cx="699840" cy="3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ทุจริต ๓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0" name=""/>
          <p:cNvSpPr/>
          <p:nvPr/>
        </p:nvSpPr>
        <p:spPr>
          <a:xfrm>
            <a:off x="222480" y="4229280"/>
            <a:ext cx="9284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เบญจธ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1" name=""/>
          <p:cNvSpPr/>
          <p:nvPr/>
        </p:nvSpPr>
        <p:spPr>
          <a:xfrm>
            <a:off x="46080" y="4762440"/>
            <a:ext cx="103968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พรหมวิหาร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2" name=""/>
          <p:cNvSpPr/>
          <p:nvPr/>
        </p:nvSpPr>
        <p:spPr>
          <a:xfrm>
            <a:off x="261000" y="5372280"/>
            <a:ext cx="8035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 u="sng">
                <a:solidFill>
                  <a:srgbClr val="000000"/>
                </a:solidFill>
                <a:uFillTx/>
                <a:latin typeface="Angsana New"/>
              </a:rPr>
              <a:t>มงคล ๓๘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3" name=""/>
          <p:cNvSpPr/>
          <p:nvPr/>
        </p:nvSpPr>
        <p:spPr>
          <a:xfrm>
            <a:off x="684720" y="3772080"/>
            <a:ext cx="897840" cy="309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ทำความด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4" name=""/>
          <p:cNvSpPr/>
          <p:nvPr/>
        </p:nvSpPr>
        <p:spPr>
          <a:xfrm>
            <a:off x="732600" y="5956200"/>
            <a:ext cx="541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เคารพ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35" name=""/>
          <p:cNvCxnSpPr>
            <a:stCxn id="432" idx="2"/>
            <a:endCxn id="434" idx="1"/>
          </p:cNvCxnSpPr>
          <p:nvPr/>
        </p:nvCxnSpPr>
        <p:spPr>
          <a:xfrm flipH="1" rot="16200000">
            <a:off x="515520" y="5812200"/>
            <a:ext cx="423000" cy="129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-25560" y="4970520"/>
            <a:ext cx="11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กตัญญูกตเวที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ต่อประเทศชา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37" name=""/>
          <p:cNvCxnSpPr>
            <a:stCxn id="432" idx="2"/>
            <a:endCxn id="438" idx="1"/>
          </p:cNvCxnSpPr>
          <p:nvPr/>
        </p:nvCxnSpPr>
        <p:spPr>
          <a:xfrm flipH="1" rot="16200000">
            <a:off x="423720" y="5905080"/>
            <a:ext cx="596160" cy="11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>
            <a:stCxn id="432" idx="2"/>
            <a:endCxn id="440" idx="1"/>
          </p:cNvCxnSpPr>
          <p:nvPr/>
        </p:nvCxnSpPr>
        <p:spPr>
          <a:xfrm flipH="1" rot="16200000">
            <a:off x="333000" y="5994720"/>
            <a:ext cx="778680" cy="119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8" name=""/>
          <p:cNvSpPr/>
          <p:nvPr/>
        </p:nvSpPr>
        <p:spPr>
          <a:xfrm>
            <a:off x="710640" y="6129360"/>
            <a:ext cx="6174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ถ่อมตน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1" name=""/>
          <p:cNvSpPr/>
          <p:nvPr/>
        </p:nvSpPr>
        <p:spPr>
          <a:xfrm>
            <a:off x="352440" y="4468680"/>
            <a:ext cx="6937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สุจริต ๓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0" name=""/>
          <p:cNvSpPr/>
          <p:nvPr/>
        </p:nvSpPr>
        <p:spPr>
          <a:xfrm>
            <a:off x="782640" y="6311880"/>
            <a:ext cx="146520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ได้ทำความดีให้พร้อมไว้ก่อน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521964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 New"/>
              </a:rPr>
              <a:t>สุขา  สงฺฆสฺส  สามคฺคี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ความพร้อมเพรียงของหมู่ให้เกิดสุข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3" name=""/>
          <p:cNvSpPr/>
          <p:nvPr/>
        </p:nvSpPr>
        <p:spPr>
          <a:xfrm>
            <a:off x="6819840" y="6286680"/>
            <a:ext cx="1676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Angsana New"/>
              </a:rPr>
              <a:t>พระโมคคัลลานะเรียนวิชาแก้ง่วง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4" name=""/>
          <p:cNvSpPr/>
          <p:nvPr/>
        </p:nvSpPr>
        <p:spPr>
          <a:xfrm>
            <a:off x="1409760" y="5067360"/>
            <a:ext cx="1219320" cy="609480"/>
          </a:xfrm>
          <a:prstGeom prst="hexagon">
            <a:avLst>
              <a:gd name="adj" fmla="val 5001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บริหารจิต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เจริญปัญญ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45" name=""/>
          <p:cNvCxnSpPr>
            <a:stCxn id="433" idx="2"/>
            <a:endCxn id="430" idx="3"/>
          </p:cNvCxnSpPr>
          <p:nvPr/>
        </p:nvCxnSpPr>
        <p:spPr>
          <a:xfrm rot="5400000">
            <a:off x="936720" y="4180320"/>
            <a:ext cx="288360" cy="105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33" idx="2"/>
            <a:endCxn id="441" idx="3"/>
          </p:cNvCxnSpPr>
          <p:nvPr/>
        </p:nvCxnSpPr>
        <p:spPr>
          <a:xfrm rot="5400000">
            <a:off x="791280" y="4274640"/>
            <a:ext cx="527760" cy="156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33" idx="2"/>
            <a:endCxn id="431" idx="3"/>
          </p:cNvCxnSpPr>
          <p:nvPr/>
        </p:nvCxnSpPr>
        <p:spPr>
          <a:xfrm rot="5400000">
            <a:off x="654840" y="4411080"/>
            <a:ext cx="801000" cy="156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3" idx="2"/>
            <a:endCxn id="436" idx="3"/>
          </p:cNvCxnSpPr>
          <p:nvPr/>
        </p:nvCxnSpPr>
        <p:spPr>
          <a:xfrm rot="5400000">
            <a:off x="500040" y="4564440"/>
            <a:ext cx="1108800" cy="1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9" name=""/>
          <p:cNvCxnSpPr>
            <a:stCxn id="433" idx="2"/>
            <a:endCxn id="432" idx="3"/>
          </p:cNvCxnSpPr>
          <p:nvPr/>
        </p:nvCxnSpPr>
        <p:spPr>
          <a:xfrm rot="5400000">
            <a:off x="341280" y="4728240"/>
            <a:ext cx="14313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endCxn id="444" idx="0"/>
          </p:cNvCxnSpPr>
          <p:nvPr/>
        </p:nvCxnSpPr>
        <p:spPr>
          <a:xfrm flipH="1" rot="16200000">
            <a:off x="1789560" y="4838400"/>
            <a:ext cx="30564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1" name=""/>
          <p:cNvCxnSpPr>
            <a:stCxn id="444" idx="3"/>
            <a:endCxn id="415" idx="1"/>
          </p:cNvCxnSpPr>
          <p:nvPr/>
        </p:nvCxnSpPr>
        <p:spPr>
          <a:xfrm>
            <a:off x="2629080" y="5372280"/>
            <a:ext cx="311760" cy="8928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2" name=""/>
          <p:cNvCxnSpPr>
            <a:stCxn id="444" idx="3"/>
            <a:endCxn id="416" idx="1"/>
          </p:cNvCxnSpPr>
          <p:nvPr/>
        </p:nvCxnSpPr>
        <p:spPr>
          <a:xfrm>
            <a:off x="2629080" y="5372280"/>
            <a:ext cx="305280" cy="5277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3" name=""/>
          <p:cNvCxnSpPr>
            <a:stCxn id="444" idx="3"/>
            <a:endCxn id="417" idx="1"/>
          </p:cNvCxnSpPr>
          <p:nvPr/>
        </p:nvCxnSpPr>
        <p:spPr>
          <a:xfrm>
            <a:off x="2629080" y="5372280"/>
            <a:ext cx="305280" cy="80064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44" idx="3"/>
            <a:endCxn id="421" idx="1"/>
          </p:cNvCxnSpPr>
          <p:nvPr/>
        </p:nvCxnSpPr>
        <p:spPr>
          <a:xfrm>
            <a:off x="2629080" y="5371920"/>
            <a:ext cx="305280" cy="117540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44" idx="3"/>
            <a:endCxn id="418" idx="1"/>
          </p:cNvCxnSpPr>
          <p:nvPr/>
        </p:nvCxnSpPr>
        <p:spPr>
          <a:xfrm>
            <a:off x="2629080" y="5371920"/>
            <a:ext cx="305280" cy="160380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6" name=""/>
          <p:cNvCxnSpPr>
            <a:stCxn id="423" idx="4"/>
            <a:endCxn id="426" idx="1"/>
          </p:cNvCxnSpPr>
          <p:nvPr/>
        </p:nvCxnSpPr>
        <p:spPr>
          <a:xfrm flipH="1" rot="16200000">
            <a:off x="2633400" y="4545360"/>
            <a:ext cx="197640" cy="97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7" name=""/>
          <p:cNvCxnSpPr>
            <a:stCxn id="423" idx="4"/>
            <a:endCxn id="425" idx="1"/>
          </p:cNvCxnSpPr>
          <p:nvPr/>
        </p:nvCxnSpPr>
        <p:spPr>
          <a:xfrm flipH="1" rot="16200000">
            <a:off x="2543040" y="4636080"/>
            <a:ext cx="378720" cy="97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23" idx="4"/>
            <a:endCxn id="424" idx="1"/>
          </p:cNvCxnSpPr>
          <p:nvPr/>
        </p:nvCxnSpPr>
        <p:spPr>
          <a:xfrm flipH="1" rot="16200000">
            <a:off x="2448360" y="4730400"/>
            <a:ext cx="567720" cy="97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3924360" y="4000680"/>
            <a:ext cx="60948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พุทธคุณ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๓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60" name=""/>
          <p:cNvCxnSpPr>
            <a:stCxn id="406" idx="4"/>
            <a:endCxn id="423" idx="0"/>
          </p:cNvCxnSpPr>
          <p:nvPr/>
        </p:nvCxnSpPr>
        <p:spPr>
          <a:xfrm rot="5400000">
            <a:off x="3467160" y="3007440"/>
            <a:ext cx="210600" cy="1776960"/>
          </a:xfrm>
          <a:prstGeom prst="bentConnector3">
            <a:avLst>
              <a:gd name="adj1" fmla="val 45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06" idx="4"/>
            <a:endCxn id="422" idx="0"/>
          </p:cNvCxnSpPr>
          <p:nvPr/>
        </p:nvCxnSpPr>
        <p:spPr>
          <a:xfrm rot="5400000">
            <a:off x="3858840" y="3398760"/>
            <a:ext cx="210600" cy="993960"/>
          </a:xfrm>
          <a:prstGeom prst="bentConnector3">
            <a:avLst>
              <a:gd name="adj1" fmla="val 45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06" idx="4"/>
            <a:endCxn id="459" idx="0"/>
          </p:cNvCxnSpPr>
          <p:nvPr/>
        </p:nvCxnSpPr>
        <p:spPr>
          <a:xfrm rot="5400000">
            <a:off x="4239360" y="3779640"/>
            <a:ext cx="210600" cy="232200"/>
          </a:xfrm>
          <a:prstGeom prst="bentConnector3">
            <a:avLst>
              <a:gd name="adj1" fmla="val 45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3" name=""/>
          <p:cNvCxnSpPr>
            <a:stCxn id="406" idx="4"/>
            <a:endCxn id="411" idx="0"/>
          </p:cNvCxnSpPr>
          <p:nvPr/>
        </p:nvCxnSpPr>
        <p:spPr>
          <a:xfrm flipH="1" rot="16200000">
            <a:off x="4634280" y="3616560"/>
            <a:ext cx="210600" cy="558000"/>
          </a:xfrm>
          <a:prstGeom prst="bentConnector3">
            <a:avLst>
              <a:gd name="adj1" fmla="val 45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4" name=""/>
          <p:cNvCxnSpPr>
            <a:stCxn id="406" idx="4"/>
            <a:endCxn id="407" idx="0"/>
          </p:cNvCxnSpPr>
          <p:nvPr/>
        </p:nvCxnSpPr>
        <p:spPr>
          <a:xfrm flipH="1" rot="16200000">
            <a:off x="5068440" y="3182400"/>
            <a:ext cx="210600" cy="1426320"/>
          </a:xfrm>
          <a:prstGeom prst="bentConnector3">
            <a:avLst>
              <a:gd name="adj1" fmla="val 45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06" idx="4"/>
            <a:endCxn id="412" idx="0"/>
          </p:cNvCxnSpPr>
          <p:nvPr/>
        </p:nvCxnSpPr>
        <p:spPr>
          <a:xfrm flipH="1" rot="16200000">
            <a:off x="5534280" y="2715840"/>
            <a:ext cx="210600" cy="2359800"/>
          </a:xfrm>
          <a:prstGeom prst="bentConnector3">
            <a:avLst>
              <a:gd name="adj1" fmla="val 45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06" idx="4"/>
            <a:endCxn id="419" idx="6"/>
          </p:cNvCxnSpPr>
          <p:nvPr/>
        </p:nvCxnSpPr>
        <p:spPr>
          <a:xfrm flipV="1" rot="16200000">
            <a:off x="3534840" y="2864520"/>
            <a:ext cx="400680" cy="1451520"/>
          </a:xfrm>
          <a:prstGeom prst="bentConnector4">
            <a:avLst>
              <a:gd name="adj1" fmla="val -21402"/>
              <a:gd name="adj2" fmla="val 6846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67" name=""/>
          <p:cNvGrpSpPr/>
          <p:nvPr/>
        </p:nvGrpSpPr>
        <p:grpSpPr>
          <a:xfrm>
            <a:off x="4381560" y="5353200"/>
            <a:ext cx="76320" cy="533160"/>
            <a:chOff x="4381560" y="5353200"/>
            <a:chExt cx="76320" cy="533160"/>
          </a:xfrm>
        </p:grpSpPr>
        <p:sp>
          <p:nvSpPr>
            <p:cNvPr id="468" name=""/>
            <p:cNvSpPr/>
            <p:nvPr/>
          </p:nvSpPr>
          <p:spPr>
            <a:xfrm>
              <a:off x="4381560" y="5353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81560" y="535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81560" y="58863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471" name=""/>
          <p:cNvCxnSpPr>
            <a:stCxn id="411" idx="4"/>
            <a:endCxn id="468" idx="0"/>
          </p:cNvCxnSpPr>
          <p:nvPr/>
        </p:nvCxnSpPr>
        <p:spPr>
          <a:xfrm rot="5400000">
            <a:off x="4347000" y="4682520"/>
            <a:ext cx="705240" cy="637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72" name=""/>
          <p:cNvGrpSpPr/>
          <p:nvPr/>
        </p:nvGrpSpPr>
        <p:grpSpPr>
          <a:xfrm>
            <a:off x="6010200" y="5905440"/>
            <a:ext cx="76320" cy="228600"/>
            <a:chOff x="6010200" y="5905440"/>
            <a:chExt cx="76320" cy="228600"/>
          </a:xfrm>
        </p:grpSpPr>
        <p:sp>
          <p:nvSpPr>
            <p:cNvPr id="473" name=""/>
            <p:cNvSpPr/>
            <p:nvPr/>
          </p:nvSpPr>
          <p:spPr>
            <a:xfrm>
              <a:off x="6010200" y="5905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10200" y="59054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10200" y="61340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476" name=""/>
          <p:cNvCxnSpPr>
            <a:stCxn id="409" idx="2"/>
            <a:endCxn id="443" idx="1"/>
          </p:cNvCxnSpPr>
          <p:nvPr/>
        </p:nvCxnSpPr>
        <p:spPr>
          <a:xfrm flipH="1" rot="16200000">
            <a:off x="6702480" y="6293520"/>
            <a:ext cx="135360" cy="99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07" idx="5"/>
            <a:endCxn id="474" idx="0"/>
          </p:cNvCxnSpPr>
          <p:nvPr/>
        </p:nvCxnSpPr>
        <p:spPr>
          <a:xfrm rot="5400000">
            <a:off x="5356440" y="5120280"/>
            <a:ext cx="1438920" cy="132480"/>
          </a:xfrm>
          <a:prstGeom prst="bentConnector3">
            <a:avLst>
              <a:gd name="adj1" fmla="val 527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12" idx="4"/>
            <a:endCxn id="420" idx="1"/>
          </p:cNvCxnSpPr>
          <p:nvPr/>
        </p:nvCxnSpPr>
        <p:spPr>
          <a:xfrm flipH="1" rot="16200000">
            <a:off x="6700680" y="4804200"/>
            <a:ext cx="356040" cy="119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12" idx="4"/>
            <a:endCxn id="410" idx="1"/>
          </p:cNvCxnSpPr>
          <p:nvPr/>
        </p:nvCxnSpPr>
        <p:spPr>
          <a:xfrm flipH="1" rot="16200000">
            <a:off x="6549840" y="4955400"/>
            <a:ext cx="667440" cy="129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0" name=""/>
          <p:cNvCxnSpPr>
            <a:stCxn id="428" idx="1"/>
            <a:endCxn id="427" idx="3"/>
          </p:cNvCxnSpPr>
          <p:nvPr/>
        </p:nvCxnSpPr>
        <p:spPr>
          <a:xfrm rot="10800000">
            <a:off x="680400" y="3394800"/>
            <a:ext cx="195840" cy="2520"/>
          </a:xfrm>
          <a:prstGeom prst="bentConnector3">
            <a:avLst>
              <a:gd name="adj1" fmla="val 4953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28" idx="1"/>
            <a:endCxn id="429" idx="3"/>
          </p:cNvCxnSpPr>
          <p:nvPr/>
        </p:nvCxnSpPr>
        <p:spPr>
          <a:xfrm flipV="1" rot="10800000">
            <a:off x="672480" y="3396960"/>
            <a:ext cx="203760" cy="227520"/>
          </a:xfrm>
          <a:prstGeom prst="bentConnector3">
            <a:avLst>
              <a:gd name="adj1" fmla="val 4991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2" name=""/>
          <p:cNvCxnSpPr>
            <a:stCxn id="419" idx="2"/>
            <a:endCxn id="428" idx="3"/>
          </p:cNvCxnSpPr>
          <p:nvPr/>
        </p:nvCxnSpPr>
        <p:spPr>
          <a:xfrm flipV="1" rot="10800000">
            <a:off x="1470960" y="3390480"/>
            <a:ext cx="746640" cy="7200"/>
          </a:xfrm>
          <a:prstGeom prst="bentConnector3">
            <a:avLst>
              <a:gd name="adj1" fmla="val 499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19" idx="2"/>
            <a:endCxn id="433" idx="3"/>
          </p:cNvCxnSpPr>
          <p:nvPr/>
        </p:nvCxnSpPr>
        <p:spPr>
          <a:xfrm flipV="1" rot="10800000">
            <a:off x="1466280" y="3389760"/>
            <a:ext cx="751320" cy="540360"/>
          </a:xfrm>
          <a:prstGeom prst="bentConnector3">
            <a:avLst>
              <a:gd name="adj1" fmla="val 498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4" name=""/>
          <p:cNvCxnSpPr>
            <a:stCxn id="419" idx="2"/>
            <a:endCxn id="414" idx="0"/>
          </p:cNvCxnSpPr>
          <p:nvPr/>
        </p:nvCxnSpPr>
        <p:spPr>
          <a:xfrm flipV="1" rot="10800000">
            <a:off x="1843920" y="3390480"/>
            <a:ext cx="373680" cy="991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5" name=""/>
          <p:cNvCxnSpPr>
            <a:stCxn id="406" idx="0"/>
            <a:endCxn id="358" idx="2"/>
          </p:cNvCxnSpPr>
          <p:nvPr/>
        </p:nvCxnSpPr>
        <p:spPr>
          <a:xfrm flipV="1">
            <a:off x="4460400" y="3033000"/>
            <a:ext cx="2520" cy="237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6" name=""/>
          <p:cNvCxnSpPr>
            <a:stCxn id="338" idx="2"/>
            <a:endCxn id="358" idx="3"/>
          </p:cNvCxnSpPr>
          <p:nvPr/>
        </p:nvCxnSpPr>
        <p:spPr>
          <a:xfrm flipH="1" flipV="1">
            <a:off x="5067000" y="2776320"/>
            <a:ext cx="2865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351" idx="4"/>
            <a:endCxn id="358" idx="0"/>
          </p:cNvCxnSpPr>
          <p:nvPr/>
        </p:nvCxnSpPr>
        <p:spPr>
          <a:xfrm flipH="1">
            <a:off x="4461840" y="2216160"/>
            <a:ext cx="19800" cy="303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341" idx="6"/>
            <a:endCxn id="343" idx="1"/>
          </p:cNvCxnSpPr>
          <p:nvPr/>
        </p:nvCxnSpPr>
        <p:spPr>
          <a:xfrm flipV="1">
            <a:off x="7606800" y="688680"/>
            <a:ext cx="204120" cy="87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9" name=""/>
          <p:cNvCxnSpPr>
            <a:stCxn id="339" idx="6"/>
            <a:endCxn id="347" idx="1"/>
          </p:cNvCxnSpPr>
          <p:nvPr/>
        </p:nvCxnSpPr>
        <p:spPr>
          <a:xfrm flipV="1">
            <a:off x="7683120" y="986760"/>
            <a:ext cx="275400" cy="616680"/>
          </a:xfrm>
          <a:prstGeom prst="bentConnector3">
            <a:avLst>
              <a:gd name="adj1" fmla="val 4960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0" name=""/>
          <p:cNvCxnSpPr>
            <a:stCxn id="339" idx="6"/>
            <a:endCxn id="348" idx="1"/>
          </p:cNvCxnSpPr>
          <p:nvPr/>
        </p:nvCxnSpPr>
        <p:spPr>
          <a:xfrm flipV="1">
            <a:off x="7683120" y="1215720"/>
            <a:ext cx="275400" cy="388080"/>
          </a:xfrm>
          <a:prstGeom prst="bentConnector3">
            <a:avLst>
              <a:gd name="adj1" fmla="val 4960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1" name=""/>
          <p:cNvCxnSpPr>
            <a:stCxn id="339" idx="6"/>
            <a:endCxn id="349" idx="1"/>
          </p:cNvCxnSpPr>
          <p:nvPr/>
        </p:nvCxnSpPr>
        <p:spPr>
          <a:xfrm flipV="1">
            <a:off x="7683120" y="1431720"/>
            <a:ext cx="275400" cy="172080"/>
          </a:xfrm>
          <a:prstGeom prst="bentConnector3">
            <a:avLst>
              <a:gd name="adj1" fmla="val 4960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2" name=""/>
          <p:cNvCxnSpPr>
            <a:stCxn id="339" idx="6"/>
            <a:endCxn id="355" idx="1"/>
          </p:cNvCxnSpPr>
          <p:nvPr/>
        </p:nvCxnSpPr>
        <p:spPr>
          <a:xfrm>
            <a:off x="7683120" y="1603080"/>
            <a:ext cx="275400" cy="45000"/>
          </a:xfrm>
          <a:prstGeom prst="bentConnector3">
            <a:avLst>
              <a:gd name="adj1" fmla="val 4960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3" name=""/>
          <p:cNvCxnSpPr>
            <a:stCxn id="339" idx="6"/>
            <a:endCxn id="371" idx="1"/>
          </p:cNvCxnSpPr>
          <p:nvPr/>
        </p:nvCxnSpPr>
        <p:spPr>
          <a:xfrm>
            <a:off x="7683120" y="1603440"/>
            <a:ext cx="275400" cy="248400"/>
          </a:xfrm>
          <a:prstGeom prst="bentConnector3">
            <a:avLst>
              <a:gd name="adj1" fmla="val 4960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339" idx="6"/>
            <a:endCxn id="372" idx="1"/>
          </p:cNvCxnSpPr>
          <p:nvPr/>
        </p:nvCxnSpPr>
        <p:spPr>
          <a:xfrm>
            <a:off x="7683120" y="1603080"/>
            <a:ext cx="275400" cy="464040"/>
          </a:xfrm>
          <a:prstGeom prst="bentConnector3">
            <a:avLst>
              <a:gd name="adj1" fmla="val 4960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339" idx="6"/>
            <a:endCxn id="394" idx="1"/>
          </p:cNvCxnSpPr>
          <p:nvPr/>
        </p:nvCxnSpPr>
        <p:spPr>
          <a:xfrm>
            <a:off x="7683120" y="1603440"/>
            <a:ext cx="281880" cy="743760"/>
          </a:xfrm>
          <a:prstGeom prst="bentConnector3">
            <a:avLst>
              <a:gd name="adj1" fmla="val 496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00" idx="6"/>
            <a:endCxn id="350" idx="1"/>
          </p:cNvCxnSpPr>
          <p:nvPr/>
        </p:nvCxnSpPr>
        <p:spPr>
          <a:xfrm>
            <a:off x="7592760" y="2390760"/>
            <a:ext cx="345240" cy="310320"/>
          </a:xfrm>
          <a:prstGeom prst="bentConnector3">
            <a:avLst>
              <a:gd name="adj1" fmla="val 496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00" idx="6"/>
            <a:endCxn id="357" idx="1"/>
          </p:cNvCxnSpPr>
          <p:nvPr/>
        </p:nvCxnSpPr>
        <p:spPr>
          <a:xfrm>
            <a:off x="7592760" y="2390400"/>
            <a:ext cx="35604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342" idx="6"/>
            <a:endCxn id="344" idx="1"/>
          </p:cNvCxnSpPr>
          <p:nvPr/>
        </p:nvCxnSpPr>
        <p:spPr>
          <a:xfrm>
            <a:off x="7605720" y="3110040"/>
            <a:ext cx="434160" cy="411840"/>
          </a:xfrm>
          <a:prstGeom prst="bentConnector3">
            <a:avLst>
              <a:gd name="adj1" fmla="val 6514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342" idx="6"/>
            <a:endCxn id="345" idx="1"/>
          </p:cNvCxnSpPr>
          <p:nvPr/>
        </p:nvCxnSpPr>
        <p:spPr>
          <a:xfrm>
            <a:off x="7605720" y="3110040"/>
            <a:ext cx="434160" cy="745200"/>
          </a:xfrm>
          <a:prstGeom prst="bentConnector3">
            <a:avLst>
              <a:gd name="adj1" fmla="val 6514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340" idx="6"/>
            <a:endCxn id="356" idx="1"/>
          </p:cNvCxnSpPr>
          <p:nvPr/>
        </p:nvCxnSpPr>
        <p:spPr>
          <a:xfrm>
            <a:off x="7592760" y="3782520"/>
            <a:ext cx="354600" cy="421560"/>
          </a:xfrm>
          <a:prstGeom prst="bentConnector3">
            <a:avLst>
              <a:gd name="adj1" fmla="val 496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340" idx="6"/>
            <a:endCxn id="346" idx="1"/>
          </p:cNvCxnSpPr>
          <p:nvPr/>
        </p:nvCxnSpPr>
        <p:spPr>
          <a:xfrm>
            <a:off x="7592760" y="3782880"/>
            <a:ext cx="354600" cy="650160"/>
          </a:xfrm>
          <a:prstGeom prst="bentConnector3">
            <a:avLst>
              <a:gd name="adj1" fmla="val 496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340" idx="6"/>
            <a:endCxn id="396" idx="1"/>
          </p:cNvCxnSpPr>
          <p:nvPr/>
        </p:nvCxnSpPr>
        <p:spPr>
          <a:xfrm>
            <a:off x="7592760" y="3782520"/>
            <a:ext cx="354600" cy="878760"/>
          </a:xfrm>
          <a:prstGeom prst="bentConnector3">
            <a:avLst>
              <a:gd name="adj1" fmla="val 496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340" idx="6"/>
            <a:endCxn id="395" idx="1"/>
          </p:cNvCxnSpPr>
          <p:nvPr/>
        </p:nvCxnSpPr>
        <p:spPr>
          <a:xfrm>
            <a:off x="7592760" y="3782880"/>
            <a:ext cx="354600" cy="1186560"/>
          </a:xfrm>
          <a:prstGeom prst="bentConnector3">
            <a:avLst>
              <a:gd name="adj1" fmla="val 49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9325440" y="190440"/>
            <a:ext cx="4039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๙๑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05" name=""/>
          <p:cNvCxnSpPr>
            <a:stCxn id="359" idx="2"/>
            <a:endCxn id="351" idx="2"/>
          </p:cNvCxnSpPr>
          <p:nvPr/>
        </p:nvCxnSpPr>
        <p:spPr>
          <a:xfrm flipH="1" flipV="1" rot="10800000">
            <a:off x="3819240" y="1033200"/>
            <a:ext cx="10080" cy="923040"/>
          </a:xfrm>
          <a:prstGeom prst="bentConnector3">
            <a:avLst>
              <a:gd name="adj1" fmla="val -240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4084560" y="2895480"/>
            <a:ext cx="296388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0" lang="hi-IN" sz="75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7" name=""/>
          <p:cNvSpPr/>
          <p:nvPr/>
        </p:nvSpPr>
        <p:spPr>
          <a:xfrm>
            <a:off x="9317160" y="190440"/>
            <a:ext cx="4194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๙๒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4707000" y="3111480"/>
            <a:ext cx="1463760" cy="148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4d4d4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ngsana New"/>
              </a:rPr>
              <a:t>พระพุทธ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9" name=""/>
          <p:cNvSpPr/>
          <p:nvPr/>
        </p:nvSpPr>
        <p:spPr>
          <a:xfrm>
            <a:off x="1460880" y="182520"/>
            <a:ext cx="7365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พุทธ  ชั้นประถมศึกษาปีที่ ๔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0" name=""/>
          <p:cNvSpPr/>
          <p:nvPr/>
        </p:nvSpPr>
        <p:spPr>
          <a:xfrm>
            <a:off x="1811160" y="5494320"/>
            <a:ext cx="8179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ันวิสาข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1" name=""/>
          <p:cNvSpPr/>
          <p:nvPr/>
        </p:nvSpPr>
        <p:spPr>
          <a:xfrm>
            <a:off x="1790640" y="5816520"/>
            <a:ext cx="8384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วันอัฏฐมี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6108840"/>
            <a:ext cx="91440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ันอาสาฬห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5295960"/>
            <a:ext cx="1279440" cy="1279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วันสำคัญ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ท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4" name=""/>
          <p:cNvSpPr/>
          <p:nvPr/>
        </p:nvSpPr>
        <p:spPr>
          <a:xfrm>
            <a:off x="1857240" y="5194440"/>
            <a:ext cx="7718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ันมาฆ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5" name=""/>
          <p:cNvSpPr/>
          <p:nvPr/>
        </p:nvSpPr>
        <p:spPr>
          <a:xfrm>
            <a:off x="4775040" y="1349280"/>
            <a:ext cx="1279800" cy="1279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พุท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ประวัติ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6" name=""/>
          <p:cNvSpPr/>
          <p:nvPr/>
        </p:nvSpPr>
        <p:spPr>
          <a:xfrm>
            <a:off x="3202560" y="1984320"/>
            <a:ext cx="1246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ประกาศธรรม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7" name=""/>
          <p:cNvSpPr/>
          <p:nvPr/>
        </p:nvSpPr>
        <p:spPr>
          <a:xfrm>
            <a:off x="3672000" y="1660680"/>
            <a:ext cx="6332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ตรัสรู้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8" name=""/>
          <p:cNvSpPr/>
          <p:nvPr/>
        </p:nvSpPr>
        <p:spPr>
          <a:xfrm>
            <a:off x="1743120" y="1517760"/>
            <a:ext cx="11192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โปรดชฎิล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9" name=""/>
          <p:cNvSpPr/>
          <p:nvPr/>
        </p:nvSpPr>
        <p:spPr>
          <a:xfrm>
            <a:off x="1410120" y="1754280"/>
            <a:ext cx="16628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โปรดพระเจ้าพิมพิสาร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0" name=""/>
          <p:cNvSpPr/>
          <p:nvPr/>
        </p:nvSpPr>
        <p:spPr>
          <a:xfrm>
            <a:off x="1720800" y="1998720"/>
            <a:ext cx="11415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พระอัครสาว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1" name=""/>
          <p:cNvSpPr/>
          <p:nvPr/>
        </p:nvSpPr>
        <p:spPr>
          <a:xfrm>
            <a:off x="1385280" y="2232000"/>
            <a:ext cx="16858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แสดงโอวาทปาฏิโมกข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2" name=""/>
          <p:cNvSpPr/>
          <p:nvPr/>
        </p:nvSpPr>
        <p:spPr>
          <a:xfrm>
            <a:off x="2630160" y="5651640"/>
            <a:ext cx="1653840" cy="5526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วิธีปฏิบัติตนและ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การเข้าร่วมกิจกรรม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3" name=""/>
          <p:cNvSpPr/>
          <p:nvPr/>
        </p:nvSpPr>
        <p:spPr>
          <a:xfrm>
            <a:off x="1727280" y="6407280"/>
            <a:ext cx="906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ันธรรมสวน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4" name=""/>
          <p:cNvSpPr/>
          <p:nvPr/>
        </p:nvSpPr>
        <p:spPr>
          <a:xfrm>
            <a:off x="2641680" y="3216240"/>
            <a:ext cx="1279440" cy="1279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ชาด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5" name=""/>
          <p:cNvSpPr/>
          <p:nvPr/>
        </p:nvSpPr>
        <p:spPr>
          <a:xfrm>
            <a:off x="584280" y="3086280"/>
            <a:ext cx="1272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กุฏิทูสกชาด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6" name=""/>
          <p:cNvSpPr/>
          <p:nvPr/>
        </p:nvSpPr>
        <p:spPr>
          <a:xfrm>
            <a:off x="610200" y="3479760"/>
            <a:ext cx="1434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มหาอุกกุสชาด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27" name=""/>
          <p:cNvCxnSpPr>
            <a:stCxn id="524" idx="2"/>
            <a:endCxn id="526" idx="3"/>
          </p:cNvCxnSpPr>
          <p:nvPr/>
        </p:nvCxnSpPr>
        <p:spPr>
          <a:xfrm rot="10800000">
            <a:off x="1856520" y="3612600"/>
            <a:ext cx="775440" cy="243360"/>
          </a:xfrm>
          <a:prstGeom prst="bentConnector3">
            <a:avLst>
              <a:gd name="adj1" fmla="val 493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24" idx="2"/>
            <a:endCxn id="525" idx="3"/>
          </p:cNvCxnSpPr>
          <p:nvPr/>
        </p:nvCxnSpPr>
        <p:spPr>
          <a:xfrm rot="10800000">
            <a:off x="1856520" y="3231360"/>
            <a:ext cx="775440" cy="624600"/>
          </a:xfrm>
          <a:prstGeom prst="bentConnector3">
            <a:avLst>
              <a:gd name="adj1" fmla="val 4937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29" name=""/>
          <p:cNvSpPr/>
          <p:nvPr/>
        </p:nvSpPr>
        <p:spPr>
          <a:xfrm>
            <a:off x="3176640" y="1333440"/>
            <a:ext cx="11206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สรุปพุทธประวัติ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30" name=""/>
          <p:cNvCxnSpPr>
            <a:stCxn id="508" idx="0"/>
            <a:endCxn id="515" idx="4"/>
          </p:cNvCxnSpPr>
          <p:nvPr/>
        </p:nvCxnSpPr>
        <p:spPr>
          <a:xfrm flipH="1" flipV="1">
            <a:off x="5414760" y="2637720"/>
            <a:ext cx="24480" cy="44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31" name=""/>
          <p:cNvCxnSpPr>
            <a:stCxn id="508" idx="2"/>
            <a:endCxn id="524" idx="6"/>
          </p:cNvCxnSpPr>
          <p:nvPr/>
        </p:nvCxnSpPr>
        <p:spPr>
          <a:xfrm flipH="1">
            <a:off x="3929760" y="3855600"/>
            <a:ext cx="748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32" name=""/>
          <p:cNvCxnSpPr>
            <a:stCxn id="508" idx="4"/>
            <a:endCxn id="513" idx="0"/>
          </p:cNvCxnSpPr>
          <p:nvPr/>
        </p:nvCxnSpPr>
        <p:spPr>
          <a:xfrm>
            <a:off x="5438880" y="4628880"/>
            <a:ext cx="2160" cy="657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33" name=""/>
          <p:cNvCxnSpPr>
            <a:stCxn id="522" idx="1"/>
            <a:endCxn id="514" idx="3"/>
          </p:cNvCxnSpPr>
          <p:nvPr/>
        </p:nvCxnSpPr>
        <p:spPr>
          <a:xfrm rot="10800000">
            <a:off x="2628360" y="5311800"/>
            <a:ext cx="229320" cy="621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2" idx="1"/>
            <a:endCxn id="510" idx="3"/>
          </p:cNvCxnSpPr>
          <p:nvPr/>
        </p:nvCxnSpPr>
        <p:spPr>
          <a:xfrm rot="10800000">
            <a:off x="2628360" y="5610960"/>
            <a:ext cx="229320" cy="321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2" idx="1"/>
            <a:endCxn id="511" idx="3"/>
          </p:cNvCxnSpPr>
          <p:nvPr/>
        </p:nvCxnSpPr>
        <p:spPr>
          <a:xfrm flipV="1" rot="10800000">
            <a:off x="2628360" y="5931360"/>
            <a:ext cx="2293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2" idx="1"/>
            <a:endCxn id="512" idx="3"/>
          </p:cNvCxnSpPr>
          <p:nvPr/>
        </p:nvCxnSpPr>
        <p:spPr>
          <a:xfrm flipV="1" rot="10800000">
            <a:off x="2628360" y="5932080"/>
            <a:ext cx="229320" cy="29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2" idx="1"/>
            <a:endCxn id="523" idx="3"/>
          </p:cNvCxnSpPr>
          <p:nvPr/>
        </p:nvCxnSpPr>
        <p:spPr>
          <a:xfrm flipV="1" rot="10800000">
            <a:off x="2633040" y="5931360"/>
            <a:ext cx="224640" cy="59292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22" idx="3"/>
            <a:endCxn id="513" idx="2"/>
          </p:cNvCxnSpPr>
          <p:nvPr/>
        </p:nvCxnSpPr>
        <p:spPr>
          <a:xfrm>
            <a:off x="4056120" y="5932080"/>
            <a:ext cx="735840" cy="3960"/>
          </a:xfrm>
          <a:prstGeom prst="bentConnector3">
            <a:avLst>
              <a:gd name="adj1" fmla="val 505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15" idx="2"/>
            <a:endCxn id="529" idx="3"/>
          </p:cNvCxnSpPr>
          <p:nvPr/>
        </p:nvCxnSpPr>
        <p:spPr>
          <a:xfrm rot="10800000">
            <a:off x="4296600" y="1502640"/>
            <a:ext cx="469080" cy="486360"/>
          </a:xfrm>
          <a:prstGeom prst="bentConnector3">
            <a:avLst>
              <a:gd name="adj1" fmla="val 4877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15" idx="2"/>
            <a:endCxn id="517" idx="3"/>
          </p:cNvCxnSpPr>
          <p:nvPr/>
        </p:nvCxnSpPr>
        <p:spPr>
          <a:xfrm rot="10800000">
            <a:off x="4304520" y="1829520"/>
            <a:ext cx="461160" cy="159480"/>
          </a:xfrm>
          <a:prstGeom prst="bentConnector3">
            <a:avLst>
              <a:gd name="adj1" fmla="val 4890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15" idx="2"/>
            <a:endCxn id="516" idx="3"/>
          </p:cNvCxnSpPr>
          <p:nvPr/>
        </p:nvCxnSpPr>
        <p:spPr>
          <a:xfrm flipV="1" rot="10800000">
            <a:off x="4298400" y="1987920"/>
            <a:ext cx="467280" cy="165960"/>
          </a:xfrm>
          <a:prstGeom prst="bentConnector3">
            <a:avLst>
              <a:gd name="adj1" fmla="val 489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16" idx="1"/>
            <a:endCxn id="518" idx="3"/>
          </p:cNvCxnSpPr>
          <p:nvPr/>
        </p:nvCxnSpPr>
        <p:spPr>
          <a:xfrm rot="10800000">
            <a:off x="2861640" y="1670760"/>
            <a:ext cx="491040" cy="483480"/>
          </a:xfrm>
          <a:prstGeom prst="bentConnector3">
            <a:avLst>
              <a:gd name="adj1" fmla="val 498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16" idx="1"/>
            <a:endCxn id="519" idx="3"/>
          </p:cNvCxnSpPr>
          <p:nvPr/>
        </p:nvCxnSpPr>
        <p:spPr>
          <a:xfrm rot="10800000">
            <a:off x="2861640" y="1907280"/>
            <a:ext cx="491040" cy="246960"/>
          </a:xfrm>
          <a:prstGeom prst="bentConnector3">
            <a:avLst>
              <a:gd name="adj1" fmla="val 498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16" idx="1"/>
            <a:endCxn id="520" idx="3"/>
          </p:cNvCxnSpPr>
          <p:nvPr/>
        </p:nvCxnSpPr>
        <p:spPr>
          <a:xfrm rot="10800000">
            <a:off x="2861640" y="2152080"/>
            <a:ext cx="491040" cy="2160"/>
          </a:xfrm>
          <a:prstGeom prst="bentConnector3">
            <a:avLst>
              <a:gd name="adj1" fmla="val 498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16" idx="1"/>
            <a:endCxn id="521" idx="3"/>
          </p:cNvCxnSpPr>
          <p:nvPr/>
        </p:nvCxnSpPr>
        <p:spPr>
          <a:xfrm flipV="1" rot="10800000">
            <a:off x="2861640" y="2153880"/>
            <a:ext cx="491040" cy="232560"/>
          </a:xfrm>
          <a:prstGeom prst="bentConnector3">
            <a:avLst>
              <a:gd name="adj1" fmla="val 4981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9323280" y="190440"/>
            <a:ext cx="4071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๙๓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7" name=""/>
          <p:cNvSpPr/>
          <p:nvPr/>
        </p:nvSpPr>
        <p:spPr>
          <a:xfrm>
            <a:off x="7058160" y="3219480"/>
            <a:ext cx="1258920" cy="1258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เป็นศูนย์รว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จิตใจขอ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พุทธศาสนิกช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48" name=""/>
          <p:cNvCxnSpPr>
            <a:stCxn id="547" idx="2"/>
            <a:endCxn id="508" idx="6"/>
          </p:cNvCxnSpPr>
          <p:nvPr/>
        </p:nvCxnSpPr>
        <p:spPr>
          <a:xfrm flipH="1">
            <a:off x="6198480" y="3849480"/>
            <a:ext cx="84996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4084560" y="2895480"/>
            <a:ext cx="296388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0" lang="hi-IN" sz="75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0" lang="en-US" sz="75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0" name=""/>
          <p:cNvSpPr/>
          <p:nvPr/>
        </p:nvSpPr>
        <p:spPr>
          <a:xfrm>
            <a:off x="9324720" y="190440"/>
            <a:ext cx="4039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๙๔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900600" y="2814480"/>
            <a:ext cx="1346040" cy="133848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ธรร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2" name=""/>
          <p:cNvSpPr/>
          <p:nvPr/>
        </p:nvSpPr>
        <p:spPr>
          <a:xfrm>
            <a:off x="1500480" y="33480"/>
            <a:ext cx="728460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สาระการเรียนรู้พระธรรม  ชั้นประถมศึกษาปีที่ ๔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3" name=""/>
          <p:cNvSpPr/>
          <p:nvPr/>
        </p:nvSpPr>
        <p:spPr>
          <a:xfrm>
            <a:off x="5448240" y="1486080"/>
            <a:ext cx="900000" cy="900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ไตรปิฎ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4" name=""/>
          <p:cNvSpPr/>
          <p:nvPr/>
        </p:nvSpPr>
        <p:spPr>
          <a:xfrm>
            <a:off x="6384960" y="977760"/>
            <a:ext cx="193392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หมายของ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5" name=""/>
          <p:cNvSpPr/>
          <p:nvPr/>
        </p:nvSpPr>
        <p:spPr>
          <a:xfrm>
            <a:off x="6405480" y="1343160"/>
            <a:ext cx="17463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รื่องน่ารู้จาก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6" name=""/>
          <p:cNvSpPr/>
          <p:nvPr/>
        </p:nvSpPr>
        <p:spPr>
          <a:xfrm>
            <a:off x="1865880" y="5110200"/>
            <a:ext cx="11138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อัญญาณุเบกข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57" name=""/>
          <p:cNvCxnSpPr>
            <a:stCxn id="553" idx="6"/>
            <a:endCxn id="554" idx="1"/>
          </p:cNvCxnSpPr>
          <p:nvPr/>
        </p:nvCxnSpPr>
        <p:spPr>
          <a:xfrm flipV="1">
            <a:off x="6357600" y="1091880"/>
            <a:ext cx="306720" cy="845280"/>
          </a:xfrm>
          <a:prstGeom prst="bentConnector3">
            <a:avLst>
              <a:gd name="adj1" fmla="val 481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53" idx="6"/>
            <a:endCxn id="555" idx="1"/>
          </p:cNvCxnSpPr>
          <p:nvPr/>
        </p:nvCxnSpPr>
        <p:spPr>
          <a:xfrm flipV="1">
            <a:off x="6357600" y="1456920"/>
            <a:ext cx="306720" cy="480240"/>
          </a:xfrm>
          <a:prstGeom prst="bentConnector3">
            <a:avLst>
              <a:gd name="adj1" fmla="val 481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400480" y="3162240"/>
            <a:ext cx="900000" cy="900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ศาสน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สุภาษิต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0" name=""/>
          <p:cNvSpPr/>
          <p:nvPr/>
        </p:nvSpPr>
        <p:spPr>
          <a:xfrm>
            <a:off x="3086280" y="4533840"/>
            <a:ext cx="1218960" cy="1143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ศัพท์ทาง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61" name=""/>
          <p:cNvCxnSpPr>
            <a:stCxn id="560" idx="2"/>
            <a:endCxn id="556" idx="3"/>
          </p:cNvCxnSpPr>
          <p:nvPr/>
        </p:nvCxnSpPr>
        <p:spPr>
          <a:xfrm flipV="1" rot="10800000">
            <a:off x="2815560" y="5104440"/>
            <a:ext cx="261000" cy="99000"/>
          </a:xfrm>
          <a:prstGeom prst="bentConnector3">
            <a:avLst>
              <a:gd name="adj1" fmla="val 480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62" name=""/>
          <p:cNvSpPr/>
          <p:nvPr/>
        </p:nvSpPr>
        <p:spPr>
          <a:xfrm>
            <a:off x="51480" y="3224160"/>
            <a:ext cx="241992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ุขา  สงฺฆสฺส  สามคฺค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พร้อมเพรียงของหมู่ให้เกิดสุข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3" name=""/>
          <p:cNvSpPr/>
          <p:nvPr/>
        </p:nvSpPr>
        <p:spPr>
          <a:xfrm>
            <a:off x="715680" y="3772080"/>
            <a:ext cx="161244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โลโกปตฺถมฺภิกา  เมตฺต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มตตาธรรมค้ำจุนโล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64" name=""/>
          <p:cNvCxnSpPr>
            <a:stCxn id="559" idx="2"/>
            <a:endCxn id="562" idx="3"/>
          </p:cNvCxnSpPr>
          <p:nvPr/>
        </p:nvCxnSpPr>
        <p:spPr>
          <a:xfrm rot="10800000">
            <a:off x="2095560" y="3423600"/>
            <a:ext cx="295560" cy="189720"/>
          </a:xfrm>
          <a:prstGeom prst="bentConnector3">
            <a:avLst>
              <a:gd name="adj1" fmla="val 4841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59" idx="2"/>
            <a:endCxn id="563" idx="3"/>
          </p:cNvCxnSpPr>
          <p:nvPr/>
        </p:nvCxnSpPr>
        <p:spPr>
          <a:xfrm flipV="1" rot="10800000">
            <a:off x="2095560" y="3613320"/>
            <a:ext cx="295560" cy="358920"/>
          </a:xfrm>
          <a:prstGeom prst="bentConnector3">
            <a:avLst>
              <a:gd name="adj1" fmla="val 4841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66" name=""/>
          <p:cNvSpPr/>
          <p:nvPr/>
        </p:nvSpPr>
        <p:spPr>
          <a:xfrm>
            <a:off x="8235360" y="1266840"/>
            <a:ext cx="95688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โมคคัลลาน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เรียนวิชาแก้ง่วง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67" name=""/>
          <p:cNvCxnSpPr>
            <a:stCxn id="566" idx="1"/>
            <a:endCxn id="555" idx="3"/>
          </p:cNvCxnSpPr>
          <p:nvPr/>
        </p:nvCxnSpPr>
        <p:spPr>
          <a:xfrm flipH="1">
            <a:off x="7892640" y="1456920"/>
            <a:ext cx="46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8" name=""/>
          <p:cNvSpPr/>
          <p:nvPr/>
        </p:nvSpPr>
        <p:spPr>
          <a:xfrm>
            <a:off x="7349400" y="1990800"/>
            <a:ext cx="6462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ศีล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9" name=""/>
          <p:cNvSpPr/>
          <p:nvPr/>
        </p:nvSpPr>
        <p:spPr>
          <a:xfrm>
            <a:off x="7317360" y="2505240"/>
            <a:ext cx="8136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ธรร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0" name=""/>
          <p:cNvSpPr/>
          <p:nvPr/>
        </p:nvSpPr>
        <p:spPr>
          <a:xfrm>
            <a:off x="7317360" y="3357720"/>
            <a:ext cx="9356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หมวิหาร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1" name=""/>
          <p:cNvSpPr/>
          <p:nvPr/>
        </p:nvSpPr>
        <p:spPr>
          <a:xfrm>
            <a:off x="7357320" y="4203720"/>
            <a:ext cx="6782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มงคล ๓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2" name=""/>
          <p:cNvSpPr/>
          <p:nvPr/>
        </p:nvSpPr>
        <p:spPr>
          <a:xfrm>
            <a:off x="6685200" y="2098800"/>
            <a:ext cx="541080" cy="212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ไม่ทำชั่ว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73" name=""/>
          <p:cNvCxnSpPr>
            <a:stCxn id="574" idx="6"/>
            <a:endCxn id="575" idx="1"/>
          </p:cNvCxnSpPr>
          <p:nvPr/>
        </p:nvCxnSpPr>
        <p:spPr>
          <a:xfrm flipV="1">
            <a:off x="6509880" y="3445920"/>
            <a:ext cx="234360" cy="14760"/>
          </a:xfrm>
          <a:prstGeom prst="bentConnector3">
            <a:avLst>
              <a:gd name="adj1" fmla="val 4753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666480" y="3333600"/>
            <a:ext cx="667440" cy="212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ความดี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76" name=""/>
          <p:cNvCxnSpPr>
            <a:stCxn id="575" idx="3"/>
            <a:endCxn id="569" idx="1"/>
          </p:cNvCxnSpPr>
          <p:nvPr/>
        </p:nvCxnSpPr>
        <p:spPr>
          <a:xfrm flipV="1">
            <a:off x="7256160" y="2619000"/>
            <a:ext cx="189720" cy="828000"/>
          </a:xfrm>
          <a:prstGeom prst="bentConnector3">
            <a:avLst>
              <a:gd name="adj1" fmla="val 494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75" idx="3"/>
            <a:endCxn id="570" idx="1"/>
          </p:cNvCxnSpPr>
          <p:nvPr/>
        </p:nvCxnSpPr>
        <p:spPr>
          <a:xfrm>
            <a:off x="7256160" y="3446280"/>
            <a:ext cx="189720" cy="5400"/>
          </a:xfrm>
          <a:prstGeom prst="bentConnector3">
            <a:avLst>
              <a:gd name="adj1" fmla="val 494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8" name=""/>
          <p:cNvCxnSpPr>
            <a:stCxn id="575" idx="3"/>
            <a:endCxn id="571" idx="1"/>
          </p:cNvCxnSpPr>
          <p:nvPr/>
        </p:nvCxnSpPr>
        <p:spPr>
          <a:xfrm>
            <a:off x="7256160" y="3446640"/>
            <a:ext cx="189720" cy="871920"/>
          </a:xfrm>
          <a:prstGeom prst="bentConnector3">
            <a:avLst>
              <a:gd name="adj1" fmla="val 494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8131680" y="4219560"/>
            <a:ext cx="39780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เคารพ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0" name=""/>
          <p:cNvSpPr/>
          <p:nvPr/>
        </p:nvSpPr>
        <p:spPr>
          <a:xfrm>
            <a:off x="6626520" y="4595760"/>
            <a:ext cx="1037880" cy="212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จิตให้บริสุทธิ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81" name=""/>
          <p:cNvCxnSpPr>
            <a:stCxn id="574" idx="6"/>
            <a:endCxn id="580" idx="1"/>
          </p:cNvCxnSpPr>
          <p:nvPr/>
        </p:nvCxnSpPr>
        <p:spPr>
          <a:xfrm>
            <a:off x="6509880" y="3460680"/>
            <a:ext cx="234360" cy="1248480"/>
          </a:xfrm>
          <a:prstGeom prst="bentConnector3">
            <a:avLst>
              <a:gd name="adj1" fmla="val 475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74" idx="6"/>
            <a:endCxn id="572" idx="1"/>
          </p:cNvCxnSpPr>
          <p:nvPr/>
        </p:nvCxnSpPr>
        <p:spPr>
          <a:xfrm flipV="1">
            <a:off x="6509880" y="2211120"/>
            <a:ext cx="234360" cy="1249920"/>
          </a:xfrm>
          <a:prstGeom prst="bentConnector3">
            <a:avLst>
              <a:gd name="adj1" fmla="val 475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71" idx="3"/>
            <a:endCxn id="579" idx="1"/>
          </p:cNvCxnSpPr>
          <p:nvPr/>
        </p:nvCxnSpPr>
        <p:spPr>
          <a:xfrm>
            <a:off x="7946640" y="4317480"/>
            <a:ext cx="244800" cy="252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7945200" y="4883040"/>
            <a:ext cx="21135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วดมนต์ไหว้พระสรรเสริญ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พระรัตนตรัยและแผ่เมตต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5" name=""/>
          <p:cNvSpPr/>
          <p:nvPr/>
        </p:nvSpPr>
        <p:spPr>
          <a:xfrm>
            <a:off x="7959600" y="5289480"/>
            <a:ext cx="21135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วิธีปฏิบัติและประโยชน์ขอ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บริหารจิตและเจริญปัญญ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6" name=""/>
          <p:cNvSpPr/>
          <p:nvPr/>
        </p:nvSpPr>
        <p:spPr>
          <a:xfrm>
            <a:off x="7973640" y="5692680"/>
            <a:ext cx="19202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การยืน เดิน นั่ง และนอ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อย่างมีส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7" name=""/>
          <p:cNvSpPr/>
          <p:nvPr/>
        </p:nvSpPr>
        <p:spPr>
          <a:xfrm>
            <a:off x="7878240" y="6635880"/>
            <a:ext cx="2662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ให้มีสมาธิในการฟัง การอ่าน การคิ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ถาม การเขียน  และการทำงา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88" name=""/>
          <p:cNvCxnSpPr>
            <a:stCxn id="580" idx="2"/>
            <a:endCxn id="589" idx="0"/>
          </p:cNvCxnSpPr>
          <p:nvPr/>
        </p:nvCxnSpPr>
        <p:spPr>
          <a:xfrm>
            <a:off x="7145280" y="4819680"/>
            <a:ext cx="864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0" name=""/>
          <p:cNvCxnSpPr>
            <a:stCxn id="589" idx="3"/>
            <a:endCxn id="584" idx="1"/>
          </p:cNvCxnSpPr>
          <p:nvPr/>
        </p:nvCxnSpPr>
        <p:spPr>
          <a:xfrm flipV="1">
            <a:off x="7800480" y="5103000"/>
            <a:ext cx="467640" cy="383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1" name=""/>
          <p:cNvCxnSpPr>
            <a:stCxn id="589" idx="3"/>
            <a:endCxn id="585" idx="1"/>
          </p:cNvCxnSpPr>
          <p:nvPr/>
        </p:nvCxnSpPr>
        <p:spPr>
          <a:xfrm>
            <a:off x="7800480" y="5486400"/>
            <a:ext cx="46764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2" name=""/>
          <p:cNvCxnSpPr>
            <a:stCxn id="589" idx="3"/>
            <a:endCxn id="586" idx="1"/>
          </p:cNvCxnSpPr>
          <p:nvPr/>
        </p:nvCxnSpPr>
        <p:spPr>
          <a:xfrm>
            <a:off x="7800480" y="5486040"/>
            <a:ext cx="467640" cy="384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3" name=""/>
          <p:cNvCxnSpPr>
            <a:stCxn id="589" idx="3"/>
            <a:endCxn id="587" idx="1"/>
          </p:cNvCxnSpPr>
          <p:nvPr/>
        </p:nvCxnSpPr>
        <p:spPr>
          <a:xfrm>
            <a:off x="7800480" y="5486400"/>
            <a:ext cx="467640" cy="1370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4" name=""/>
          <p:cNvSpPr/>
          <p:nvPr/>
        </p:nvSpPr>
        <p:spPr>
          <a:xfrm>
            <a:off x="7135920" y="3917880"/>
            <a:ext cx="20512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ตัญญูกตเวทีต่อประเทศชา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95" name=""/>
          <p:cNvCxnSpPr>
            <a:stCxn id="575" idx="3"/>
            <a:endCxn id="594" idx="1"/>
          </p:cNvCxnSpPr>
          <p:nvPr/>
        </p:nvCxnSpPr>
        <p:spPr>
          <a:xfrm>
            <a:off x="7256160" y="3446280"/>
            <a:ext cx="189720" cy="586440"/>
          </a:xfrm>
          <a:prstGeom prst="bentConnector3">
            <a:avLst>
              <a:gd name="adj1" fmla="val 494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74" name=""/>
          <p:cNvSpPr/>
          <p:nvPr/>
        </p:nvSpPr>
        <p:spPr>
          <a:xfrm>
            <a:off x="5600880" y="3009960"/>
            <a:ext cx="900000" cy="900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โอวาท ๓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6" name=""/>
          <p:cNvSpPr/>
          <p:nvPr/>
        </p:nvSpPr>
        <p:spPr>
          <a:xfrm>
            <a:off x="2337480" y="4714920"/>
            <a:ext cx="5562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อุเบกข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97" name=""/>
          <p:cNvCxnSpPr>
            <a:stCxn id="596" idx="3"/>
            <a:endCxn id="560" idx="2"/>
          </p:cNvCxnSpPr>
          <p:nvPr/>
        </p:nvCxnSpPr>
        <p:spPr>
          <a:xfrm>
            <a:off x="2815920" y="4808160"/>
            <a:ext cx="261000" cy="297720"/>
          </a:xfrm>
          <a:prstGeom prst="bentConnector3">
            <a:avLst>
              <a:gd name="adj1" fmla="val 51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8" name=""/>
          <p:cNvCxnSpPr>
            <a:stCxn id="571" idx="3"/>
            <a:endCxn id="599" idx="1"/>
          </p:cNvCxnSpPr>
          <p:nvPr/>
        </p:nvCxnSpPr>
        <p:spPr>
          <a:xfrm>
            <a:off x="7946640" y="4317840"/>
            <a:ext cx="244800" cy="1756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0" name=""/>
          <p:cNvSpPr/>
          <p:nvPr/>
        </p:nvSpPr>
        <p:spPr>
          <a:xfrm>
            <a:off x="7862760" y="6016680"/>
            <a:ext cx="26866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การกำหนดรู้ความรู้สึกเมื่อตาเห็นรูป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หูฟังเสียง จมูกดมกลิ่น ลิ้นลิ้มรส 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ยสัมผัสสิ่งที่มากระทบ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01" name=""/>
          <p:cNvCxnSpPr>
            <a:stCxn id="589" idx="3"/>
            <a:endCxn id="600" idx="1"/>
          </p:cNvCxnSpPr>
          <p:nvPr/>
        </p:nvCxnSpPr>
        <p:spPr>
          <a:xfrm>
            <a:off x="7800480" y="5486040"/>
            <a:ext cx="467640" cy="857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2" name=""/>
          <p:cNvSpPr/>
          <p:nvPr/>
        </p:nvSpPr>
        <p:spPr>
          <a:xfrm>
            <a:off x="5295960" y="4457880"/>
            <a:ext cx="900000" cy="900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หลักกรรม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3" name=""/>
          <p:cNvSpPr/>
          <p:nvPr/>
        </p:nvSpPr>
        <p:spPr>
          <a:xfrm>
            <a:off x="4076640" y="1028880"/>
            <a:ext cx="900000" cy="900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ไตรสิกขา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4" name=""/>
          <p:cNvSpPr/>
          <p:nvPr/>
        </p:nvSpPr>
        <p:spPr>
          <a:xfrm>
            <a:off x="7368480" y="2205000"/>
            <a:ext cx="562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ทุจริต ๓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05" name=""/>
          <p:cNvCxnSpPr>
            <a:stCxn id="572" idx="3"/>
            <a:endCxn id="568" idx="1"/>
          </p:cNvCxnSpPr>
          <p:nvPr/>
        </p:nvCxnSpPr>
        <p:spPr>
          <a:xfrm flipV="1">
            <a:off x="7167600" y="2104560"/>
            <a:ext cx="278280" cy="107280"/>
          </a:xfrm>
          <a:prstGeom prst="bentConnector3">
            <a:avLst>
              <a:gd name="adj1" fmla="val 497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572" idx="3"/>
            <a:endCxn id="604" idx="1"/>
          </p:cNvCxnSpPr>
          <p:nvPr/>
        </p:nvCxnSpPr>
        <p:spPr>
          <a:xfrm>
            <a:off x="7167600" y="2211480"/>
            <a:ext cx="278280" cy="119520"/>
          </a:xfrm>
          <a:prstGeom prst="bentConnector3">
            <a:avLst>
              <a:gd name="adj1" fmla="val 4974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7" name=""/>
          <p:cNvSpPr/>
          <p:nvPr/>
        </p:nvSpPr>
        <p:spPr>
          <a:xfrm>
            <a:off x="8024040" y="1857240"/>
            <a:ext cx="60480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ยทุจริต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8" name=""/>
          <p:cNvSpPr/>
          <p:nvPr/>
        </p:nvSpPr>
        <p:spPr>
          <a:xfrm>
            <a:off x="8026920" y="2201760"/>
            <a:ext cx="5943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มโนทุจริต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9" name=""/>
          <p:cNvSpPr/>
          <p:nvPr/>
        </p:nvSpPr>
        <p:spPr>
          <a:xfrm>
            <a:off x="8037360" y="2017800"/>
            <a:ext cx="51660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วจีทุจริต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10" name=""/>
          <p:cNvCxnSpPr>
            <a:stCxn id="604" idx="3"/>
            <a:endCxn id="609" idx="1"/>
          </p:cNvCxnSpPr>
          <p:nvPr/>
        </p:nvCxnSpPr>
        <p:spPr>
          <a:xfrm flipV="1">
            <a:off x="7853400" y="2117520"/>
            <a:ext cx="262800" cy="213120"/>
          </a:xfrm>
          <a:prstGeom prst="bentConnector3">
            <a:avLst>
              <a:gd name="adj1" fmla="val 496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604" idx="3"/>
            <a:endCxn id="608" idx="1"/>
          </p:cNvCxnSpPr>
          <p:nvPr/>
        </p:nvCxnSpPr>
        <p:spPr>
          <a:xfrm flipV="1">
            <a:off x="7853400" y="2301120"/>
            <a:ext cx="262800" cy="29160"/>
          </a:xfrm>
          <a:prstGeom prst="bentConnector3">
            <a:avLst>
              <a:gd name="adj1" fmla="val 496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4" idx="3"/>
            <a:endCxn id="607" idx="1"/>
          </p:cNvCxnSpPr>
          <p:nvPr/>
        </p:nvCxnSpPr>
        <p:spPr>
          <a:xfrm flipV="1">
            <a:off x="7853400" y="1956960"/>
            <a:ext cx="262800" cy="373680"/>
          </a:xfrm>
          <a:prstGeom prst="bentConnector3">
            <a:avLst>
              <a:gd name="adj1" fmla="val 496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3" name=""/>
          <p:cNvSpPr/>
          <p:nvPr/>
        </p:nvSpPr>
        <p:spPr>
          <a:xfrm>
            <a:off x="8286120" y="3387600"/>
            <a:ext cx="3823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ุณ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4" name=""/>
          <p:cNvSpPr/>
          <p:nvPr/>
        </p:nvSpPr>
        <p:spPr>
          <a:xfrm>
            <a:off x="8277840" y="3692520"/>
            <a:ext cx="47700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อุเบกข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5" name=""/>
          <p:cNvSpPr/>
          <p:nvPr/>
        </p:nvSpPr>
        <p:spPr>
          <a:xfrm>
            <a:off x="8284320" y="3219480"/>
            <a:ext cx="41148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เมตต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6" name=""/>
          <p:cNvSpPr/>
          <p:nvPr/>
        </p:nvSpPr>
        <p:spPr>
          <a:xfrm>
            <a:off x="8295480" y="3551400"/>
            <a:ext cx="36108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มุทิต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17" name=""/>
          <p:cNvCxnSpPr>
            <a:stCxn id="570" idx="3"/>
            <a:endCxn id="615" idx="1"/>
          </p:cNvCxnSpPr>
          <p:nvPr/>
        </p:nvCxnSpPr>
        <p:spPr>
          <a:xfrm flipV="1">
            <a:off x="8124480" y="3319200"/>
            <a:ext cx="219960" cy="132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70" idx="3"/>
            <a:endCxn id="614" idx="1"/>
          </p:cNvCxnSpPr>
          <p:nvPr/>
        </p:nvCxnSpPr>
        <p:spPr>
          <a:xfrm>
            <a:off x="8124480" y="3451320"/>
            <a:ext cx="219960" cy="342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70" idx="3"/>
            <a:endCxn id="616" idx="1"/>
          </p:cNvCxnSpPr>
          <p:nvPr/>
        </p:nvCxnSpPr>
        <p:spPr>
          <a:xfrm>
            <a:off x="8124480" y="3450960"/>
            <a:ext cx="219960" cy="20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613" idx="1"/>
            <a:endCxn id="570" idx="3"/>
          </p:cNvCxnSpPr>
          <p:nvPr/>
        </p:nvCxnSpPr>
        <p:spPr>
          <a:xfrm rot="10800000">
            <a:off x="8124120" y="3450600"/>
            <a:ext cx="219960" cy="3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21" name=""/>
          <p:cNvSpPr/>
          <p:nvPr/>
        </p:nvSpPr>
        <p:spPr>
          <a:xfrm>
            <a:off x="3189600" y="1278000"/>
            <a:ext cx="5882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ัญญ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2" name=""/>
          <p:cNvSpPr/>
          <p:nvPr/>
        </p:nvSpPr>
        <p:spPr>
          <a:xfrm>
            <a:off x="3306960" y="885960"/>
            <a:ext cx="447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าธิ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3" name=""/>
          <p:cNvSpPr/>
          <p:nvPr/>
        </p:nvSpPr>
        <p:spPr>
          <a:xfrm>
            <a:off x="3475080" y="495360"/>
            <a:ext cx="258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ีล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24" name=""/>
          <p:cNvCxnSpPr>
            <a:stCxn id="603" idx="2"/>
            <a:endCxn id="623" idx="3"/>
          </p:cNvCxnSpPr>
          <p:nvPr/>
        </p:nvCxnSpPr>
        <p:spPr>
          <a:xfrm rot="10800000">
            <a:off x="3695040" y="624600"/>
            <a:ext cx="372240" cy="855000"/>
          </a:xfrm>
          <a:prstGeom prst="bentConnector3">
            <a:avLst>
              <a:gd name="adj1" fmla="val 486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603" idx="2"/>
            <a:endCxn id="622" idx="3"/>
          </p:cNvCxnSpPr>
          <p:nvPr/>
        </p:nvCxnSpPr>
        <p:spPr>
          <a:xfrm rot="10800000">
            <a:off x="3695040" y="1015200"/>
            <a:ext cx="372240" cy="464400"/>
          </a:xfrm>
          <a:prstGeom prst="bentConnector3">
            <a:avLst>
              <a:gd name="adj1" fmla="val 486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603" idx="2"/>
            <a:endCxn id="621" idx="3"/>
          </p:cNvCxnSpPr>
          <p:nvPr/>
        </p:nvCxnSpPr>
        <p:spPr>
          <a:xfrm rot="10800000">
            <a:off x="3695040" y="1407240"/>
            <a:ext cx="372240" cy="72360"/>
          </a:xfrm>
          <a:prstGeom prst="bentConnector3">
            <a:avLst>
              <a:gd name="adj1" fmla="val 4869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7965720" y="4586400"/>
            <a:ext cx="16153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ได้ทำความดีให้พร้อมไว้ก่อ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28" name=""/>
          <p:cNvCxnSpPr>
            <a:stCxn id="571" idx="3"/>
            <a:endCxn id="627" idx="1"/>
          </p:cNvCxnSpPr>
          <p:nvPr/>
        </p:nvCxnSpPr>
        <p:spPr>
          <a:xfrm>
            <a:off x="7946640" y="4317840"/>
            <a:ext cx="244800" cy="36936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9" name=""/>
          <p:cNvCxnSpPr>
            <a:stCxn id="553" idx="3"/>
            <a:endCxn id="551" idx="7"/>
          </p:cNvCxnSpPr>
          <p:nvPr/>
        </p:nvCxnSpPr>
        <p:spPr>
          <a:xfrm flipH="1">
            <a:off x="5049000" y="2263320"/>
            <a:ext cx="531000" cy="71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0" name=""/>
          <p:cNvCxnSpPr>
            <a:stCxn id="559" idx="6"/>
            <a:endCxn id="551" idx="2"/>
          </p:cNvCxnSpPr>
          <p:nvPr/>
        </p:nvCxnSpPr>
        <p:spPr>
          <a:xfrm flipV="1">
            <a:off x="3309480" y="3484440"/>
            <a:ext cx="56268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stCxn id="551" idx="3"/>
            <a:endCxn id="560" idx="7"/>
          </p:cNvCxnSpPr>
          <p:nvPr/>
        </p:nvCxnSpPr>
        <p:spPr>
          <a:xfrm>
            <a:off x="4097160" y="3986280"/>
            <a:ext cx="30600" cy="705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32" name=""/>
          <p:cNvCxnSpPr>
            <a:stCxn id="603" idx="4"/>
            <a:endCxn id="551" idx="0"/>
          </p:cNvCxnSpPr>
          <p:nvPr/>
        </p:nvCxnSpPr>
        <p:spPr>
          <a:xfrm>
            <a:off x="4527360" y="1937880"/>
            <a:ext cx="46440" cy="84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"/>
          <p:cNvCxnSpPr>
            <a:stCxn id="551" idx="5"/>
            <a:endCxn id="602" idx="1"/>
          </p:cNvCxnSpPr>
          <p:nvPr/>
        </p:nvCxnSpPr>
        <p:spPr>
          <a:xfrm>
            <a:off x="5049720" y="3985920"/>
            <a:ext cx="378720" cy="594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99" name=""/>
          <p:cNvSpPr/>
          <p:nvPr/>
        </p:nvSpPr>
        <p:spPr>
          <a:xfrm>
            <a:off x="8119080" y="4392720"/>
            <a:ext cx="47700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ถ่อมต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4" name=""/>
          <p:cNvSpPr/>
          <p:nvPr/>
        </p:nvSpPr>
        <p:spPr>
          <a:xfrm>
            <a:off x="7369200" y="2813040"/>
            <a:ext cx="5562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ุจริต ๓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5" name=""/>
          <p:cNvSpPr/>
          <p:nvPr/>
        </p:nvSpPr>
        <p:spPr>
          <a:xfrm>
            <a:off x="8025840" y="2619360"/>
            <a:ext cx="59868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ยสุจริต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6" name=""/>
          <p:cNvSpPr/>
          <p:nvPr/>
        </p:nvSpPr>
        <p:spPr>
          <a:xfrm>
            <a:off x="8028360" y="3011400"/>
            <a:ext cx="5882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มโนสุจริต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7" name=""/>
          <p:cNvSpPr/>
          <p:nvPr/>
        </p:nvSpPr>
        <p:spPr>
          <a:xfrm>
            <a:off x="8038800" y="2824200"/>
            <a:ext cx="51048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วจีสุจริต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38" name=""/>
          <p:cNvCxnSpPr>
            <a:stCxn id="634" idx="3"/>
            <a:endCxn id="635" idx="1"/>
          </p:cNvCxnSpPr>
          <p:nvPr/>
        </p:nvCxnSpPr>
        <p:spPr>
          <a:xfrm flipV="1">
            <a:off x="7848360" y="2719080"/>
            <a:ext cx="267120" cy="20880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34" idx="3"/>
            <a:endCxn id="637" idx="1"/>
          </p:cNvCxnSpPr>
          <p:nvPr/>
        </p:nvCxnSpPr>
        <p:spPr>
          <a:xfrm flipV="1">
            <a:off x="7848360" y="2923560"/>
            <a:ext cx="267120" cy="396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0" name=""/>
          <p:cNvCxnSpPr>
            <a:stCxn id="634" idx="3"/>
            <a:endCxn id="636" idx="1"/>
          </p:cNvCxnSpPr>
          <p:nvPr/>
        </p:nvCxnSpPr>
        <p:spPr>
          <a:xfrm>
            <a:off x="7848360" y="2927160"/>
            <a:ext cx="267120" cy="1846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1" name=""/>
          <p:cNvCxnSpPr>
            <a:stCxn id="575" idx="3"/>
            <a:endCxn id="634" idx="1"/>
          </p:cNvCxnSpPr>
          <p:nvPr/>
        </p:nvCxnSpPr>
        <p:spPr>
          <a:xfrm flipV="1">
            <a:off x="7256160" y="2927160"/>
            <a:ext cx="189720" cy="519840"/>
          </a:xfrm>
          <a:prstGeom prst="bentConnector3">
            <a:avLst>
              <a:gd name="adj1" fmla="val 494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42" name=""/>
          <p:cNvSpPr/>
          <p:nvPr/>
        </p:nvSpPr>
        <p:spPr>
          <a:xfrm>
            <a:off x="9413280" y="190440"/>
            <a:ext cx="22680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๙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9" name=""/>
          <p:cNvSpPr/>
          <p:nvPr/>
        </p:nvSpPr>
        <p:spPr>
          <a:xfrm>
            <a:off x="6505560" y="5143680"/>
            <a:ext cx="1295280" cy="685800"/>
          </a:xfrm>
          <a:prstGeom prst="hexagon">
            <a:avLst>
              <a:gd name="adj" fmla="val 47218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บริหารจิ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เจริญปัญญ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3" name=""/>
          <p:cNvSpPr/>
          <p:nvPr/>
        </p:nvSpPr>
        <p:spPr>
          <a:xfrm>
            <a:off x="2552760" y="1790640"/>
            <a:ext cx="900000" cy="900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พุทธคุณ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๓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4" name=""/>
          <p:cNvSpPr/>
          <p:nvPr/>
        </p:nvSpPr>
        <p:spPr>
          <a:xfrm>
            <a:off x="1103400" y="1790640"/>
            <a:ext cx="10684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ปัญญาคุณ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5" name=""/>
          <p:cNvSpPr/>
          <p:nvPr/>
        </p:nvSpPr>
        <p:spPr>
          <a:xfrm>
            <a:off x="1126800" y="2143080"/>
            <a:ext cx="1196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วิสุทธิคุณ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46" name=""/>
          <p:cNvCxnSpPr>
            <a:stCxn id="643" idx="2"/>
            <a:endCxn id="645" idx="3"/>
          </p:cNvCxnSpPr>
          <p:nvPr/>
        </p:nvCxnSpPr>
        <p:spPr>
          <a:xfrm flipV="1" rot="10800000">
            <a:off x="2171160" y="2240640"/>
            <a:ext cx="371880" cy="30600"/>
          </a:xfrm>
          <a:prstGeom prst="bentConnector3">
            <a:avLst>
              <a:gd name="adj1" fmla="val 486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7" name=""/>
          <p:cNvCxnSpPr>
            <a:stCxn id="643" idx="2"/>
            <a:endCxn id="644" idx="3"/>
          </p:cNvCxnSpPr>
          <p:nvPr/>
        </p:nvCxnSpPr>
        <p:spPr>
          <a:xfrm rot="10800000">
            <a:off x="2171160" y="1929600"/>
            <a:ext cx="371880" cy="311760"/>
          </a:xfrm>
          <a:prstGeom prst="bentConnector3">
            <a:avLst>
              <a:gd name="adj1" fmla="val 486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48" name=""/>
          <p:cNvSpPr/>
          <p:nvPr/>
        </p:nvSpPr>
        <p:spPr>
          <a:xfrm>
            <a:off x="829800" y="2457360"/>
            <a:ext cx="1537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มหากรุณาคุณ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49" name=""/>
          <p:cNvCxnSpPr>
            <a:stCxn id="643" idx="2"/>
            <a:endCxn id="648" idx="3"/>
          </p:cNvCxnSpPr>
          <p:nvPr/>
        </p:nvCxnSpPr>
        <p:spPr>
          <a:xfrm flipV="1" rot="10800000">
            <a:off x="2171160" y="2241360"/>
            <a:ext cx="371880" cy="344880"/>
          </a:xfrm>
          <a:prstGeom prst="bentConnector3">
            <a:avLst>
              <a:gd name="adj1" fmla="val 486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0" name=""/>
          <p:cNvCxnSpPr>
            <a:stCxn id="551" idx="1"/>
            <a:endCxn id="643" idx="5"/>
          </p:cNvCxnSpPr>
          <p:nvPr/>
        </p:nvCxnSpPr>
        <p:spPr>
          <a:xfrm flipH="1" flipV="1">
            <a:off x="3320640" y="2568240"/>
            <a:ext cx="776880" cy="413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51" name=""/>
          <p:cNvCxnSpPr>
            <a:stCxn id="551" idx="6"/>
            <a:endCxn id="574" idx="2"/>
          </p:cNvCxnSpPr>
          <p:nvPr/>
        </p:nvCxnSpPr>
        <p:spPr>
          <a:xfrm flipV="1">
            <a:off x="5275080" y="3460320"/>
            <a:ext cx="316440" cy="24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4084560" y="2895480"/>
            <a:ext cx="296388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ordia New"/>
                <a:ea typeface="Cordia New"/>
              </a:rPr>
              <a:t>(</a:t>
            </a:r>
            <a:r>
              <a:rPr b="0" lang="hi-IN" sz="7500" spc="-1" strike="noStrike">
                <a:solidFill>
                  <a:srgbClr val="000000"/>
                </a:solidFill>
                <a:latin typeface="Cordia New"/>
                <a:cs typeface="Cordia New"/>
              </a:rPr>
              <a:t>หลังว่าง</a:t>
            </a:r>
            <a:r>
              <a:rPr b="0" lang="en-US" sz="75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3" name=""/>
          <p:cNvSpPr/>
          <p:nvPr/>
        </p:nvSpPr>
        <p:spPr>
          <a:xfrm>
            <a:off x="9327600" y="190440"/>
            <a:ext cx="3996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๙๖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491000" y="2916360"/>
            <a:ext cx="1322280" cy="12063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งฆ์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5" name=""/>
          <p:cNvSpPr/>
          <p:nvPr/>
        </p:nvSpPr>
        <p:spPr>
          <a:xfrm>
            <a:off x="1480680" y="193680"/>
            <a:ext cx="7329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สาระการเรียนรู้พระสงฆ์  ชั้นประถมศึกษาปีที่ ๔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6" name=""/>
          <p:cNvSpPr/>
          <p:nvPr/>
        </p:nvSpPr>
        <p:spPr>
          <a:xfrm>
            <a:off x="3543480" y="468648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หน้าที่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7" name=""/>
          <p:cNvSpPr/>
          <p:nvPr/>
        </p:nvSpPr>
        <p:spPr>
          <a:xfrm>
            <a:off x="6134040" y="468648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พิธี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8" name=""/>
          <p:cNvSpPr/>
          <p:nvPr/>
        </p:nvSpPr>
        <p:spPr>
          <a:xfrm>
            <a:off x="4691160" y="128736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สาว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9" name=""/>
          <p:cNvSpPr/>
          <p:nvPr/>
        </p:nvSpPr>
        <p:spPr>
          <a:xfrm>
            <a:off x="6515280" y="306072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0" name=""/>
          <p:cNvSpPr/>
          <p:nvPr/>
        </p:nvSpPr>
        <p:spPr>
          <a:xfrm>
            <a:off x="5694480" y="1609560"/>
            <a:ext cx="145728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อุรุเวลกัสสปะ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61" name=""/>
          <p:cNvCxnSpPr>
            <a:stCxn id="658" idx="6"/>
            <a:endCxn id="660" idx="1"/>
          </p:cNvCxnSpPr>
          <p:nvPr/>
        </p:nvCxnSpPr>
        <p:spPr>
          <a:xfrm flipV="1">
            <a:off x="5614560" y="1742760"/>
            <a:ext cx="251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2" name=""/>
          <p:cNvSpPr/>
          <p:nvPr/>
        </p:nvSpPr>
        <p:spPr>
          <a:xfrm>
            <a:off x="8166240" y="2895480"/>
            <a:ext cx="194292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มหิตลาธิเบศร 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อดุลยเดชวิกรม  พระบรมราชชนก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3" name=""/>
          <p:cNvSpPr/>
          <p:nvPr/>
        </p:nvSpPr>
        <p:spPr>
          <a:xfrm>
            <a:off x="8180280" y="3654360"/>
            <a:ext cx="138600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ศรีนครินทร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บรมราชชนน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4" name=""/>
          <p:cNvSpPr/>
          <p:nvPr/>
        </p:nvSpPr>
        <p:spPr>
          <a:xfrm>
            <a:off x="7678080" y="4815000"/>
            <a:ext cx="15411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าราธนาธรรม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5" name=""/>
          <p:cNvSpPr/>
          <p:nvPr/>
        </p:nvSpPr>
        <p:spPr>
          <a:xfrm>
            <a:off x="1270440" y="4352760"/>
            <a:ext cx="21902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อานิสงส์ของการสวดมนต์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6" name=""/>
          <p:cNvSpPr/>
          <p:nvPr/>
        </p:nvSpPr>
        <p:spPr>
          <a:xfrm>
            <a:off x="1313640" y="4705200"/>
            <a:ext cx="21355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รู้เบื้องต้นเกี่ยวกับวัด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7" name=""/>
          <p:cNvSpPr/>
          <p:nvPr/>
        </p:nvSpPr>
        <p:spPr>
          <a:xfrm>
            <a:off x="697320" y="5068800"/>
            <a:ext cx="28303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บำเพ็ญตนให้เป็นประโยชน์แก่วัด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8" name=""/>
          <p:cNvSpPr/>
          <p:nvPr/>
        </p:nvSpPr>
        <p:spPr>
          <a:xfrm>
            <a:off x="805680" y="3506760"/>
            <a:ext cx="1954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ที่เหมาะสม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ต่อพระภิกษุ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9" name=""/>
          <p:cNvSpPr/>
          <p:nvPr/>
        </p:nvSpPr>
        <p:spPr>
          <a:xfrm>
            <a:off x="1685520" y="5427720"/>
            <a:ext cx="16981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เรียนธรรมศึกษ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0" name=""/>
          <p:cNvSpPr/>
          <p:nvPr/>
        </p:nvSpPr>
        <p:spPr>
          <a:xfrm>
            <a:off x="7700760" y="4443480"/>
            <a:ext cx="13626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าราธนาศีล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1" name=""/>
          <p:cNvSpPr/>
          <p:nvPr/>
        </p:nvSpPr>
        <p:spPr>
          <a:xfrm>
            <a:off x="641160" y="2973240"/>
            <a:ext cx="2169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ยืน การเดิน และการนั่ง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ที่เหมาะสมในโอกาสต่าง ๆ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72" name=""/>
          <p:cNvCxnSpPr>
            <a:stCxn id="656" idx="2"/>
            <a:endCxn id="665" idx="3"/>
          </p:cNvCxnSpPr>
          <p:nvPr/>
        </p:nvCxnSpPr>
        <p:spPr>
          <a:xfrm rot="10800000">
            <a:off x="3144240" y="4492080"/>
            <a:ext cx="389520" cy="651600"/>
          </a:xfrm>
          <a:prstGeom prst="bentConnector3">
            <a:avLst>
              <a:gd name="adj1" fmla="val 485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56" idx="2"/>
            <a:endCxn id="666" idx="3"/>
          </p:cNvCxnSpPr>
          <p:nvPr/>
        </p:nvCxnSpPr>
        <p:spPr>
          <a:xfrm rot="10800000">
            <a:off x="3144240" y="4844160"/>
            <a:ext cx="389520" cy="299520"/>
          </a:xfrm>
          <a:prstGeom prst="bentConnector3">
            <a:avLst>
              <a:gd name="adj1" fmla="val 485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56" idx="2"/>
            <a:endCxn id="667" idx="3"/>
          </p:cNvCxnSpPr>
          <p:nvPr/>
        </p:nvCxnSpPr>
        <p:spPr>
          <a:xfrm flipV="1" rot="10800000">
            <a:off x="3144240" y="5143320"/>
            <a:ext cx="389520" cy="65520"/>
          </a:xfrm>
          <a:prstGeom prst="bentConnector3">
            <a:avLst>
              <a:gd name="adj1" fmla="val 485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5" name=""/>
          <p:cNvCxnSpPr>
            <a:stCxn id="656" idx="2"/>
            <a:endCxn id="669" idx="3"/>
          </p:cNvCxnSpPr>
          <p:nvPr/>
        </p:nvCxnSpPr>
        <p:spPr>
          <a:xfrm flipV="1" rot="10800000">
            <a:off x="3144240" y="5142600"/>
            <a:ext cx="389520" cy="424440"/>
          </a:xfrm>
          <a:prstGeom prst="bentConnector3">
            <a:avLst>
              <a:gd name="adj1" fmla="val 485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6" name=""/>
          <p:cNvCxnSpPr>
            <a:stCxn id="671" idx="3"/>
            <a:endCxn id="677" idx="2"/>
          </p:cNvCxnSpPr>
          <p:nvPr/>
        </p:nvCxnSpPr>
        <p:spPr>
          <a:xfrm>
            <a:off x="2513160" y="3249720"/>
            <a:ext cx="411840" cy="294480"/>
          </a:xfrm>
          <a:prstGeom prst="bentConnector3">
            <a:avLst>
              <a:gd name="adj1" fmla="val 509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8" name=""/>
          <p:cNvCxnSpPr>
            <a:stCxn id="677" idx="2"/>
            <a:endCxn id="668" idx="3"/>
          </p:cNvCxnSpPr>
          <p:nvPr/>
        </p:nvCxnSpPr>
        <p:spPr>
          <a:xfrm flipV="1" rot="10800000">
            <a:off x="2513880" y="3542400"/>
            <a:ext cx="410400" cy="240120"/>
          </a:xfrm>
          <a:prstGeom prst="bentConnector3">
            <a:avLst>
              <a:gd name="adj1" fmla="val 4881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9" name=""/>
          <p:cNvCxnSpPr>
            <a:stCxn id="657" idx="6"/>
            <a:endCxn id="670" idx="1"/>
          </p:cNvCxnSpPr>
          <p:nvPr/>
        </p:nvCxnSpPr>
        <p:spPr>
          <a:xfrm flipV="1">
            <a:off x="7057800" y="4582440"/>
            <a:ext cx="810360" cy="561240"/>
          </a:xfrm>
          <a:prstGeom prst="bentConnector3">
            <a:avLst>
              <a:gd name="adj1" fmla="val 4937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0" name=""/>
          <p:cNvCxnSpPr>
            <a:stCxn id="657" idx="6"/>
            <a:endCxn id="664" idx="1"/>
          </p:cNvCxnSpPr>
          <p:nvPr/>
        </p:nvCxnSpPr>
        <p:spPr>
          <a:xfrm flipV="1">
            <a:off x="7058160" y="4953960"/>
            <a:ext cx="822960" cy="189720"/>
          </a:xfrm>
          <a:prstGeom prst="bentConnector3">
            <a:avLst>
              <a:gd name="adj1" fmla="val 4940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1" name=""/>
          <p:cNvCxnSpPr>
            <a:stCxn id="654" idx="0"/>
            <a:endCxn id="658" idx="4"/>
          </p:cNvCxnSpPr>
          <p:nvPr/>
        </p:nvCxnSpPr>
        <p:spPr>
          <a:xfrm flipV="1" rot="16200000">
            <a:off x="4807080" y="2551320"/>
            <a:ext cx="686520" cy="5400"/>
          </a:xfrm>
          <a:prstGeom prst="bentConnector3">
            <a:avLst>
              <a:gd name="adj1" fmla="val 49265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82" name=""/>
          <p:cNvCxnSpPr>
            <a:stCxn id="659" idx="6"/>
            <a:endCxn id="662" idx="1"/>
          </p:cNvCxnSpPr>
          <p:nvPr/>
        </p:nvCxnSpPr>
        <p:spPr>
          <a:xfrm flipV="1">
            <a:off x="7439040" y="3125160"/>
            <a:ext cx="727560" cy="392760"/>
          </a:xfrm>
          <a:prstGeom prst="bentConnector3">
            <a:avLst>
              <a:gd name="adj1" fmla="val 493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3" name=""/>
          <p:cNvCxnSpPr>
            <a:stCxn id="659" idx="6"/>
            <a:endCxn id="663" idx="1"/>
          </p:cNvCxnSpPr>
          <p:nvPr/>
        </p:nvCxnSpPr>
        <p:spPr>
          <a:xfrm>
            <a:off x="7438680" y="3517560"/>
            <a:ext cx="741960" cy="354600"/>
          </a:xfrm>
          <a:prstGeom prst="bentConnector3">
            <a:avLst>
              <a:gd name="adj1" fmla="val 492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4" name=""/>
          <p:cNvSpPr/>
          <p:nvPr/>
        </p:nvSpPr>
        <p:spPr>
          <a:xfrm>
            <a:off x="402480" y="5772240"/>
            <a:ext cx="31928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กิจกรรมพระพุทธศาสนา ๑ วันในโรงเรียน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5" name=""/>
          <p:cNvSpPr/>
          <p:nvPr/>
        </p:nvSpPr>
        <p:spPr>
          <a:xfrm>
            <a:off x="1172520" y="6649920"/>
            <a:ext cx="22863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แสดงตนเป็นพุทธมามกะ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86" name=""/>
          <p:cNvCxnSpPr>
            <a:stCxn id="656" idx="2"/>
            <a:endCxn id="684" idx="3"/>
          </p:cNvCxnSpPr>
          <p:nvPr/>
        </p:nvCxnSpPr>
        <p:spPr>
          <a:xfrm flipV="1" rot="10800000">
            <a:off x="3144240" y="5143320"/>
            <a:ext cx="389520" cy="768960"/>
          </a:xfrm>
          <a:prstGeom prst="bentConnector3">
            <a:avLst>
              <a:gd name="adj1" fmla="val 485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7" name=""/>
          <p:cNvCxnSpPr>
            <a:stCxn id="656" idx="2"/>
            <a:endCxn id="685" idx="3"/>
          </p:cNvCxnSpPr>
          <p:nvPr/>
        </p:nvCxnSpPr>
        <p:spPr>
          <a:xfrm flipV="1" rot="10800000">
            <a:off x="3144240" y="5143320"/>
            <a:ext cx="389520" cy="1646640"/>
          </a:xfrm>
          <a:prstGeom prst="bentConnector3">
            <a:avLst>
              <a:gd name="adj1" fmla="val 485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17640" y="6122880"/>
            <a:ext cx="36241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เข้าค่ายคุณธรรมและการเข้าร่วม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พิธีกรรมทางพระพุทธศาสนาและนำสู่การปฏิบัติ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89" name=""/>
          <p:cNvCxnSpPr>
            <a:stCxn id="656" idx="2"/>
            <a:endCxn id="688" idx="3"/>
          </p:cNvCxnSpPr>
          <p:nvPr/>
        </p:nvCxnSpPr>
        <p:spPr>
          <a:xfrm flipV="1" rot="10800000">
            <a:off x="3144240" y="5143320"/>
            <a:ext cx="389520" cy="1210320"/>
          </a:xfrm>
          <a:prstGeom prst="bentConnector3">
            <a:avLst>
              <a:gd name="adj1" fmla="val 485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7566480" y="5568840"/>
            <a:ext cx="225864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ระเบียบพิธีและการปฏิบัติตน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ในวันธรรมสวนะ 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91" name=""/>
          <p:cNvSpPr/>
          <p:nvPr/>
        </p:nvSpPr>
        <p:spPr>
          <a:xfrm>
            <a:off x="7644240" y="5189400"/>
            <a:ext cx="18471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าราธนาพระปริตร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92" name=""/>
          <p:cNvCxnSpPr>
            <a:stCxn id="657" idx="6"/>
            <a:endCxn id="691" idx="1"/>
          </p:cNvCxnSpPr>
          <p:nvPr/>
        </p:nvCxnSpPr>
        <p:spPr>
          <a:xfrm>
            <a:off x="7057800" y="5143320"/>
            <a:ext cx="827640" cy="186120"/>
          </a:xfrm>
          <a:prstGeom prst="bentConnector3">
            <a:avLst>
              <a:gd name="adj1" fmla="val 4930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3" name=""/>
          <p:cNvCxnSpPr>
            <a:stCxn id="657" idx="6"/>
            <a:endCxn id="690" idx="1"/>
          </p:cNvCxnSpPr>
          <p:nvPr/>
        </p:nvCxnSpPr>
        <p:spPr>
          <a:xfrm>
            <a:off x="7057800" y="5143320"/>
            <a:ext cx="802440" cy="656280"/>
          </a:xfrm>
          <a:prstGeom prst="bentConnector3">
            <a:avLst>
              <a:gd name="adj1" fmla="val 492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4" name=""/>
          <p:cNvCxnSpPr>
            <a:stCxn id="654" idx="2"/>
            <a:endCxn id="677" idx="6"/>
          </p:cNvCxnSpPr>
          <p:nvPr/>
        </p:nvCxnSpPr>
        <p:spPr>
          <a:xfrm flipH="1">
            <a:off x="3857400" y="3519000"/>
            <a:ext cx="614880" cy="24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77" name=""/>
          <p:cNvSpPr/>
          <p:nvPr/>
        </p:nvSpPr>
        <p:spPr>
          <a:xfrm>
            <a:off x="2933640" y="308628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95" name=""/>
          <p:cNvCxnSpPr>
            <a:stCxn id="654" idx="6"/>
            <a:endCxn id="659" idx="2"/>
          </p:cNvCxnSpPr>
          <p:nvPr/>
        </p:nvCxnSpPr>
        <p:spPr>
          <a:xfrm flipV="1">
            <a:off x="5832360" y="3517560"/>
            <a:ext cx="6739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96" name=""/>
          <p:cNvCxnSpPr>
            <a:stCxn id="654" idx="3"/>
            <a:endCxn id="656" idx="7"/>
          </p:cNvCxnSpPr>
          <p:nvPr/>
        </p:nvCxnSpPr>
        <p:spPr>
          <a:xfrm flipH="1">
            <a:off x="4323600" y="3965400"/>
            <a:ext cx="36108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97" name=""/>
          <p:cNvCxnSpPr>
            <a:stCxn id="657" idx="1"/>
            <a:endCxn id="654" idx="5"/>
          </p:cNvCxnSpPr>
          <p:nvPr/>
        </p:nvCxnSpPr>
        <p:spPr>
          <a:xfrm flipH="1" flipV="1">
            <a:off x="5619600" y="3965040"/>
            <a:ext cx="6483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8" name=""/>
          <p:cNvSpPr/>
          <p:nvPr/>
        </p:nvSpPr>
        <p:spPr>
          <a:xfrm>
            <a:off x="9306360" y="190440"/>
            <a:ext cx="4406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๙๗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7:16:34Z</dcterms:created>
  <dc:creator>amdk6</dc:creator>
  <dc:description/>
  <dc:language>en-US</dc:language>
  <cp:lastModifiedBy>Planning</cp:lastModifiedBy>
  <cp:lastPrinted>2002-07-20T08:04:35Z</cp:lastPrinted>
  <dcterms:modified xsi:type="dcterms:W3CDTF">2002-08-28T13:52:55Z</dcterms:modified>
  <cp:revision>885</cp:revision>
  <dc:subject/>
  <dc:title>ไม่มีชื่อเรื่องภาพนิ่ง</dc:title>
</cp:coreProperties>
</file>